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0.wmf" ContentType="image/x-wmf"/>
  <Override PartName="/ppt/media/image1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543F-A2C8-4C2A-989A-5461330996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6D0E-EDC7-4213-B77B-282999499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FF1-1A50-4AA1-8634-378AA6F20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ACC7-E719-4879-AAB8-E1B138E16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0C7-AB63-480E-8B47-83E2264FE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D9F-7FDC-4B73-8645-5D6676547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B22B-FF7F-4E7D-85C6-5AC460A41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D15-DA17-45ED-BFE9-83CBEB5443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2883-2D0B-440A-90FF-4AAA77A8F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45C-1FE6-44E1-90BD-BE271F814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43B0-4B6D-4314-BA60-AC5F502BE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C160-7B3C-49A2-80E1-13432D08D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D29C-9223-4360-A554-AE924B482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AFD-417A-4A58-8BF4-8DE4C0BA6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F896-514F-40CC-A551-E5147489C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927-8868-498B-87B3-758A2923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4C6-E519-44A5-89AB-32A0040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892-ABFC-452C-A988-99D18AFF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64A-C8C1-4042-AE06-81B8B105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EDC4-B9D0-40D0-8786-AB6CE61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0FFD-B87F-4EBB-853D-B96540B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9832-928B-44ED-BEB6-317998B9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8ED0-E5D3-41F1-864E-13A1D86D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FC27-0302-4D5B-ADF0-77C1F38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B2E-B5F9-455A-91D2-4AD75F4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E8E-3AD8-4724-BC31-7BE70A2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5D3-69E2-4757-8066-D82FAE7C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53B3-2D74-410C-A8E5-438F706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F184-7571-40BA-BF3D-81F814F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0F84-E5E7-4F80-BB66-E2641AE2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58A-D216-4D85-AD4F-BA7155F9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87CF-04E4-4887-807E-1B36CCF7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B27F-0DDE-4BC0-9C49-77932212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0EB2-377B-4E52-B444-A16BB64F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6944-F122-4307-AA67-9E07CCAD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CB9E-7B1D-4F9F-AA8E-2DB8E206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4E70-C1E2-475E-A802-9F9D7A7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02A-2CD9-4804-87B6-1AC9FCD8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3CEE-C296-4FC6-8F19-4C87DD95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2920-5464-4A53-9F62-DA4169B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215D-AF5B-4575-9A3D-A87B77B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92E8-45BA-48D2-B664-3E4662C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4F8D-3890-4230-ABD2-D0AD672E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25CD-1450-404A-BCF5-8E6025F3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2BE3-0483-4DA2-A986-3F262061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B32E-D742-4762-B1FC-299C93D6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6A26-C1C0-49B0-A5E8-4BB3F9C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305F-43A5-484B-9B9E-DDBA3B5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014-219F-4359-B6D7-911A9F1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F5F9-328C-41C9-9BDC-B933CBF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4BE7-87D2-468D-A9D1-2D2B08CB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3C78-B607-4659-B994-612C77D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DB30-F493-4334-B323-850C915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138B-9747-49C9-88DC-605BC56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B93F-FA6F-41EF-A3FB-352CBDB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D725-9042-4C13-A502-EDD3C20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E322-D147-4AEF-B54D-16921EFF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FE2F-1F2D-477A-B725-2A9FE519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4929-3FF8-4308-806D-9F3AA602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F1C-F5EB-4922-8CCC-DD26DB51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5401-7E49-4DF1-9009-332F6E8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2C60E-F9BA-4019-9C3D-739A241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78F3-CD78-44D0-B9A6-F59513A2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2991-9303-461D-8301-6868CB6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37B4-FF56-4B77-9569-A48B7F92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31CE-65C4-4A56-AA0D-B0A1B2E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3054-1D0E-42E1-BB34-F9A0307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BFDB-70B7-48F0-B88A-B5A9935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A368-4333-4349-97D2-9F5FDB8D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BC39F-2008-4D46-976E-DBF939F6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DEE-FA2B-4FE3-8162-66C9CC5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7F66-545B-4D5D-8D42-E4787E6D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B99D-6CA4-484D-915F-96CC84E2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7598-F154-41D3-8AE9-1896F843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72D2-51F5-4B18-B64B-9BDFBB16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0B7C-D4E1-4076-A6BB-586BC8A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7C0C-BFB6-4C12-B2B5-ACC1375C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74EA9-6562-499A-ADD9-E1B6827F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A9D34-5A7B-41EA-A659-14546D28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00DE-0715-4CE1-8943-5C62AB7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087F9-0D62-44FA-8F2E-465BA73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609-E1AD-4D31-96F4-638EC41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7717-3B34-41B6-8F31-F905F470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72AD1-80A9-461C-AF1E-D67114A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6696-D514-4E8D-86E6-76493396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7E62-DDCE-4AA2-B62C-479F5CF7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64CF-C831-44FA-92C9-CF37A16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8BF6-2113-432A-BD93-690A8365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B49F-092D-4807-BFFC-BBA2585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9202-DE64-4722-B46B-EC8BC840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3139-EA3A-421C-93F5-AE09684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A4EE-3F3F-4B6D-B779-EE4F931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28A-BA32-4ED4-8727-F3CC733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21FA4-34DB-46D1-BA53-442ED86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A1FD2-680A-444C-BD8D-CBCC41D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05AAF-832A-4315-B43F-DDDC225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4026-0820-460A-BEF4-B3D37DF4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869C-6A8F-46B8-BD76-DB3D3BA3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2FFAD-F87C-4C49-A7B7-2F69AEE3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C920E-C536-4344-ACB3-CFB2939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8D16-BF7F-4782-9951-BB94B964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7A3D9-5B2D-41D1-B081-EEED0D76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8128-185D-4126-B99F-3DD2AED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0E4-1B2F-48C8-A0C3-925140F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69CC-BCC1-4C7A-8F58-8219F0D0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7CFAF-B33C-4DDD-BE49-57D1ABD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4FBF7-3DC8-47A3-A4A8-4EC0270F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AF887-A47D-4DC2-A8EC-F437B87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3E531-F2FF-4398-954E-0327E40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6F4AC-CB60-4C0B-A53D-C1DBCA69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02D94-298A-4266-8C7F-5CC1016C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30B-5809-4454-AF65-407D66E4F22C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C94-3675-4E9D-910C-0776A03762F8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AAE-EC91-4C15-97D0-030246B02863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DAD-69E6-4863-9C8E-3AC7179E9AE3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113-6CEB-47E3-8E72-0561F06AB52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8A7-EF01-471D-9DC1-ED29A33C50B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84E-2B9F-499E-9F61-231FA6FA0093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6D4D-0FBE-45C4-89DA-542024A937F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03280" y="4941720"/>
            <a:ext cx="64008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оповой Ирины Васильевны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МБОУ «СОШ №8»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г. Нефтеюганск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Прямоугольник 2" descr=""/>
          <p:cNvPicPr/>
          <p:nvPr/>
        </p:nvPicPr>
        <p:blipFill>
          <a:blip r:embed="rId1"/>
          <a:stretch/>
        </p:blipFill>
        <p:spPr>
          <a:xfrm>
            <a:off x="-115920" y="646200"/>
            <a:ext cx="94791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Заголовок 1"/>
          <p:cNvSpPr/>
          <p:nvPr/>
        </p:nvSpPr>
        <p:spPr>
          <a:xfrm>
            <a:off x="457200" y="115920"/>
            <a:ext cx="82296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рмационны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бъект 2"/>
          <p:cNvSpPr/>
          <p:nvPr/>
        </p:nvSpPr>
        <p:spPr>
          <a:xfrm>
            <a:off x="25092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Электронное устройство, предназначенное для автоматической обработки информации посредством выполнения заданий, чётко определённых последовательностью операций; персональное средство связи, общения, передачи снимков и других изображений через сеть Интернет; ЭВ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Человек, работающий с компьютером по готовым програм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Компьютерные методы хранения, обработки и передач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Заголовок 1"/>
          <p:cNvSpPr/>
          <p:nvPr/>
        </p:nvSpPr>
        <p:spPr>
          <a:xfrm>
            <a:off x="45072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зультат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бъект 2"/>
          <p:cNvSpPr/>
          <p:nvPr/>
        </p:nvSpPr>
        <p:spPr>
          <a:xfrm>
            <a:off x="457200" y="98100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Times New Roman"/>
              </a:rPr>
              <a:t>Подводит итог информационного дикта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Times New Roman"/>
              </a:rPr>
              <a:t>Вопросы диктанта снова задаются классу, учащиеся отвечают устно (сверяют свои ответы с правильными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бъект 2"/>
          <p:cNvSpPr/>
          <p:nvPr/>
        </p:nvSpPr>
        <p:spPr>
          <a:xfrm>
            <a:off x="468360" y="3471840"/>
            <a:ext cx="8424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рмин, используемый в науке, для обозначения всего разнообразия материальн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бъект 2"/>
          <p:cNvSpPr/>
          <p:nvPr/>
        </p:nvSpPr>
        <p:spPr>
          <a:xfrm>
            <a:off x="565200" y="36162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ВЕЩЕСТВ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бъект 2"/>
          <p:cNvSpPr/>
          <p:nvPr/>
        </p:nvSpPr>
        <p:spPr>
          <a:xfrm>
            <a:off x="423720" y="3429000"/>
            <a:ext cx="8425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щая количественная мера различных форм движения мате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бъект 2"/>
          <p:cNvSpPr/>
          <p:nvPr/>
        </p:nvSpPr>
        <p:spPr>
          <a:xfrm>
            <a:off x="423720" y="36450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ЭНЕРГ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бъект 2"/>
          <p:cNvSpPr/>
          <p:nvPr/>
        </p:nvSpPr>
        <p:spPr>
          <a:xfrm>
            <a:off x="395280" y="3471840"/>
            <a:ext cx="8424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ведения об окружающем мире и протекающих в нём процессах, воспринимаемые человеком или специальным устройств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бъект 2"/>
          <p:cNvSpPr/>
          <p:nvPr/>
        </p:nvSpPr>
        <p:spPr>
          <a:xfrm>
            <a:off x="533520" y="36450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ИНФОРМА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бъект 2"/>
          <p:cNvSpPr/>
          <p:nvPr/>
        </p:nvSpPr>
        <p:spPr>
          <a:xfrm>
            <a:off x="395280" y="3471840"/>
            <a:ext cx="8424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Наука о закономерностях протекания информационных процессов в системах различной природы, о методах, средствах и технологиях автоматизации информационных процессов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бъект 2"/>
          <p:cNvSpPr/>
          <p:nvPr/>
        </p:nvSpPr>
        <p:spPr>
          <a:xfrm>
            <a:off x="662040" y="36450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ИНФОР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бъект 2"/>
          <p:cNvSpPr/>
          <p:nvPr/>
        </p:nvSpPr>
        <p:spPr>
          <a:xfrm>
            <a:off x="468360" y="3494160"/>
            <a:ext cx="84247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Электронное устройство, предназначенное для автоматической обработки информации посредством выполнения заданий, чётко определённых последовательностью операций; персональное средство связи, общения, передачи снимков и других изображений через сеть Интернет; ЭВ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бъект 2"/>
          <p:cNvSpPr/>
          <p:nvPr/>
        </p:nvSpPr>
        <p:spPr>
          <a:xfrm>
            <a:off x="662040" y="36450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КОМПЬЮТЕ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бъект 2"/>
          <p:cNvSpPr/>
          <p:nvPr/>
        </p:nvSpPr>
        <p:spPr>
          <a:xfrm>
            <a:off x="395280" y="3422520"/>
            <a:ext cx="842472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ловек, работающий с компьютером по готовым програм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бъект 2"/>
          <p:cNvSpPr/>
          <p:nvPr/>
        </p:nvSpPr>
        <p:spPr>
          <a:xfrm>
            <a:off x="522360" y="365904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ПОЛЬЗОВАТ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бъект 2"/>
          <p:cNvSpPr/>
          <p:nvPr/>
        </p:nvSpPr>
        <p:spPr>
          <a:xfrm>
            <a:off x="395280" y="3357720"/>
            <a:ext cx="842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методы хран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бъект 2"/>
          <p:cNvSpPr/>
          <p:nvPr/>
        </p:nvSpPr>
        <p:spPr>
          <a:xfrm>
            <a:off x="382680" y="365904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</a:rPr>
              <a:t>ИК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50920" y="278100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73e87"/>
                </a:solidFill>
                <a:latin typeface="Times New Roman"/>
              </a:rPr>
              <a:t>Мотивация проектной деятельности учащихся. 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Демонстрирует учебные проекты учащихс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зучение нового материал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Заголовок 2"/>
          <p:cNvSpPr/>
          <p:nvPr/>
        </p:nvSpPr>
        <p:spPr>
          <a:xfrm>
            <a:off x="-561960" y="242712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6296"/>
                </a:solidFill>
                <a:latin typeface="Times New Roman"/>
              </a:rPr>
              <a:t>1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16296"/>
                </a:solidFill>
                <a:latin typeface="Times New Roman"/>
              </a:rPr>
              <a:t>Учебные проекты учащихся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Заголовок 2"/>
          <p:cNvSpPr/>
          <p:nvPr/>
        </p:nvSpPr>
        <p:spPr>
          <a:xfrm>
            <a:off x="457200" y="33336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Учебные проекты учащихс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Заголовок 2"/>
          <p:cNvSpPr/>
          <p:nvPr/>
        </p:nvSpPr>
        <p:spPr>
          <a:xfrm>
            <a:off x="19080" y="1197000"/>
            <a:ext cx="7597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Туннельный синдр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Заголовок 2"/>
          <p:cNvSpPr/>
          <p:nvPr/>
        </p:nvSpPr>
        <p:spPr>
          <a:xfrm>
            <a:off x="90360" y="1557360"/>
            <a:ext cx="5345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История ЭВ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Заголовок 2"/>
          <p:cNvSpPr/>
          <p:nvPr/>
        </p:nvSpPr>
        <p:spPr>
          <a:xfrm>
            <a:off x="-777960" y="2205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Компьютерная граф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бъект 1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73e87"/>
                </a:solidFill>
                <a:latin typeface="Times New Roman"/>
              </a:rPr>
              <a:t>Эти проекты выполнили ученики нашей школы.               Проект – это новая форма работы, которую вы будете использовать на уроках информатики.</a:t>
            </a:r>
            <a:r>
              <a:rPr b="0" i="1" lang="en-US" sz="2800" spc="-1" strike="noStrike">
                <a:solidFill>
                  <a:srgbClr val="073e87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</a:rPr>
              <a:t>                                    «Что такое учебный проект?» - на этот вопрос вам предстоит ответить в конце урока.</a:t>
            </a:r>
            <a:r>
              <a:rPr b="0" i="1" lang="en-US" sz="2800" spc="-1" strike="noStrike">
                <a:solidFill>
                  <a:srgbClr val="073e87"/>
                </a:solidFill>
                <a:latin typeface="Times New Roman"/>
              </a:rPr>
              <a:t>                   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</a:rPr>
              <a:t>                                                 Проект мы будем создавать по теме «Информация в жизни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920" y="4403520"/>
            <a:ext cx="864216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В процессе объяснения вам необходимо заполни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лист планирования про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Заголовок 2"/>
          <p:cNvSpPr/>
          <p:nvPr/>
        </p:nvSpPr>
        <p:spPr>
          <a:xfrm>
            <a:off x="457200" y="555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льтимедийная лекция «Алгоритм создания проекта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2"/>
          <p:cNvSpPr/>
          <p:nvPr/>
        </p:nvSpPr>
        <p:spPr>
          <a:xfrm>
            <a:off x="0" y="2421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2571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а: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Организация восприятия и осмысления нового материала с применением совместной и самостоятельной работы по заполнению листа планирования проекта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122400" y="2421000"/>
            <a:ext cx="459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формулируют  пробл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формулируют 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разрабатывают основополагающий вопр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формулируют проблемные вопро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выдвигают гипотезу решения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8160" y="1125360"/>
            <a:ext cx="396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бучающих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047200" y="1628640"/>
            <a:ext cx="285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4859280" y="292428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комментирует слай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следит за тем как учащиеся заполняют листы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консультир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457"/>
          <p:cNvPicPr/>
          <p:nvPr/>
        </p:nvPicPr>
        <p:blipFill>
          <a:blip r:embed="rId1"/>
          <a:stretch/>
        </p:blipFill>
        <p:spPr>
          <a:xfrm>
            <a:off x="5486400" y="3808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45" name="WordArt 4"/>
          <p:cNvSpPr txBox="1"/>
          <p:nvPr/>
        </p:nvSpPr>
        <p:spPr>
          <a:xfrm>
            <a:off x="3429000" y="3200400"/>
            <a:ext cx="5334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учебный проект»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5"/>
          <p:cNvSpPr txBox="1"/>
          <p:nvPr/>
        </p:nvSpPr>
        <p:spPr>
          <a:xfrm>
            <a:off x="762120" y="60948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чего нужн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ы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6"/>
          <p:cNvSpPr txBox="1"/>
          <p:nvPr/>
        </p:nvSpPr>
        <p:spPr>
          <a:xfrm>
            <a:off x="914400" y="51814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созд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ект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8" name="Picture 9" descr="AMCONFUS"/>
          <p:cNvPicPr/>
          <p:nvPr/>
        </p:nvPicPr>
        <p:blipFill>
          <a:blip r:embed="rId2"/>
          <a:stretch/>
        </p:blipFill>
        <p:spPr>
          <a:xfrm>
            <a:off x="914400" y="2057400"/>
            <a:ext cx="138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0000"/>
                </a:solidFill>
                <a:uFillTx/>
                <a:latin typeface="Times New Roman"/>
              </a:rPr>
              <a:t>Учебный проект –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овместная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учебно-познавательная, исследовательская, творческая или игровая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деятельность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учащихся –партнёров, имеющую общую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огласованные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методы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пособы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деятельности, направленную на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достижение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общего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результата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решению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какой-либо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проблемы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значимой для участников проекта 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Алгоритм создания проект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429000" y="914400"/>
            <a:ext cx="2362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3429000" y="1523880"/>
            <a:ext cx="2362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м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1676520" y="2133720"/>
            <a:ext cx="5790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ополагающий    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914400" y="2743200"/>
            <a:ext cx="2362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блемны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581280" y="2743200"/>
            <a:ext cx="2362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блемны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6172200" y="2743200"/>
            <a:ext cx="2362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блемны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219320" y="3733920"/>
            <a:ext cx="6933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отезы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2895480" y="4343400"/>
            <a:ext cx="3962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ь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3352680" y="4876920"/>
            <a:ext cx="2362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ведение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685800" y="4876920"/>
            <a:ext cx="2362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авление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6172200" y="4876920"/>
            <a:ext cx="23623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ор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676520" y="5791320"/>
            <a:ext cx="5715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формление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3200400" y="6400800"/>
            <a:ext cx="3352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щит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44956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44956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2362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4572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6705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2"/>
          <p:cNvSpPr/>
          <p:nvPr/>
        </p:nvSpPr>
        <p:spPr>
          <a:xfrm>
            <a:off x="2286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5"/>
          <p:cNvSpPr/>
          <p:nvPr/>
        </p:nvSpPr>
        <p:spPr>
          <a:xfrm>
            <a:off x="4572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6"/>
          <p:cNvSpPr/>
          <p:nvPr/>
        </p:nvSpPr>
        <p:spPr>
          <a:xfrm>
            <a:off x="6858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7"/>
          <p:cNvSpPr/>
          <p:nvPr/>
        </p:nvSpPr>
        <p:spPr>
          <a:xfrm>
            <a:off x="4572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8"/>
          <p:cNvSpPr/>
          <p:nvPr/>
        </p:nvSpPr>
        <p:spPr>
          <a:xfrm>
            <a:off x="30481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9"/>
          <p:cNvSpPr/>
          <p:nvPr/>
        </p:nvSpPr>
        <p:spPr>
          <a:xfrm flipH="1">
            <a:off x="57150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0"/>
          <p:cNvSpPr/>
          <p:nvPr/>
        </p:nvSpPr>
        <p:spPr>
          <a:xfrm flipH="1">
            <a:off x="228564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1"/>
          <p:cNvSpPr/>
          <p:nvPr/>
        </p:nvSpPr>
        <p:spPr>
          <a:xfrm>
            <a:off x="22860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2"/>
          <p:cNvSpPr/>
          <p:nvPr/>
        </p:nvSpPr>
        <p:spPr>
          <a:xfrm>
            <a:off x="6858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3"/>
          <p:cNvSpPr/>
          <p:nvPr/>
        </p:nvSpPr>
        <p:spPr>
          <a:xfrm>
            <a:off x="7315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4"/>
          <p:cNvSpPr/>
          <p:nvPr/>
        </p:nvSpPr>
        <p:spPr>
          <a:xfrm>
            <a:off x="44956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5"/>
          <p:cNvSpPr/>
          <p:nvPr/>
        </p:nvSpPr>
        <p:spPr>
          <a:xfrm>
            <a:off x="449568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slide1_001"/>
          <p:cNvPicPr/>
          <p:nvPr/>
        </p:nvPicPr>
        <p:blipFill>
          <a:blip r:embed="rId1"/>
          <a:stretch/>
        </p:blipFill>
        <p:spPr>
          <a:xfrm>
            <a:off x="0" y="1066680"/>
            <a:ext cx="4406760" cy="57913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Формулируем проблем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3" name="Picture 5" descr="slide1_007"/>
          <p:cNvPicPr/>
          <p:nvPr/>
        </p:nvPicPr>
        <p:blipFill>
          <a:blip r:embed="rId2"/>
          <a:stretch/>
        </p:blipFill>
        <p:spPr>
          <a:xfrm>
            <a:off x="4952880" y="1066680"/>
            <a:ext cx="3102120" cy="34290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6"/>
          <p:cNvSpPr/>
          <p:nvPr/>
        </p:nvSpPr>
        <p:spPr>
          <a:xfrm>
            <a:off x="3276720" y="4294440"/>
            <a:ext cx="586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ОБХОДИМОСТЬ НАКОПЛЕНИЯ, ОБРАБОТКИ И ПЕРЕДАЧИ ИНФОРМАЦИИ ВОЗНИКЛА ПЕРЕД ЧЕЛОВЕЧЕСТВОМ ЕЩЕ В ДРЕВНОСТИ. ЛЮДИ, ПОЛУЧИВШИЕ ВОЗМОЖНОСТЬ ПОЛУЧАТЬ И ПЕРЕДАВАТЬ ИНФОРМАЦИЮ, ДЕЙСТВОВАЛИ ОРГАНИЗОВАННО, КОЛЛЕКТИВНО, МОГЛИ СИСТЕМАТИЗИРОВАТЬ ПОЛУЧАЕМЫЕ ЗНАНИЯ, ХРАНИТЬ ИХ И ОБРАБАТЫВАТЬ, СОВЕРШАТЬ ОТКР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3860280"/>
            <a:ext cx="91440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2060"/>
                </a:solidFill>
                <a:latin typeface="Times New Roman"/>
              </a:rPr>
              <a:t>Урок 2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нформация и её свойства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Информация и информационные процессы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9 часов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Заголовок 1"/>
          <p:cNvSpPr/>
          <p:nvPr/>
        </p:nvSpPr>
        <p:spPr>
          <a:xfrm>
            <a:off x="5003640" y="115920"/>
            <a:ext cx="381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8 класс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бъект 2"/>
          <p:cNvSpPr/>
          <p:nvPr/>
        </p:nvSpPr>
        <p:spPr>
          <a:xfrm>
            <a:off x="324000" y="692280"/>
            <a:ext cx="230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060"/>
                </a:solidFill>
                <a:latin typeface="Times New Roman"/>
              </a:rPr>
              <a:t>Разд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4920" y="1844640"/>
          <a:ext cx="8569080" cy="4025880"/>
        </p:xfrm>
        <a:graphic>
          <a:graphicData uri="http://schemas.openxmlformats.org/drawingml/2006/table">
            <a:tbl>
              <a:tblPr/>
              <a:tblGrid>
                <a:gridCol w="471240"/>
                <a:gridCol w="3370320"/>
                <a:gridCol w="472752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та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59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а исследования (почему изучение этой проблемы актуальн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СТЬ НАКОПЛЕНИЯ, ОБРАБОТКИ И ПЕРЕДАЧИ ИНФОРМАЦИИ ВОЗНИКЛА ПЕРЕД ЧЕЛОВЕЧЕСТВОМ ЕЩЕ В ДРЕВНОСТИ. ЛЮДИ, ПОЛУЧИВШИЕ ВОЗМОЖНОСТЬ ПОЛУЧАТЬ И ПЕРЕДАВАТЬ ИНФОРМАЦИЮ, ДЕЙСТВОВАЛИ ОРГАНИЗОВАННО, КОЛЛЕКТИВНО, МОГЛИ СИСТЕМАТИЗИРОВАТЬ ПОЛУЧАЕМЫЕ ЗНАНИЯ, ХРАНИТЬ ИХ И ОБРАБАТЫВАТЬ, СОВЕРШАТЬ ОТКРЫ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05960" cy="10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 Формулируем тему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Информац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в жизни челове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89" name="Picture 4" descr="slide1_002"/>
          <p:cNvPicPr/>
          <p:nvPr/>
        </p:nvPicPr>
        <p:blipFill>
          <a:blip r:embed="rId1"/>
          <a:stretch/>
        </p:blipFill>
        <p:spPr>
          <a:xfrm>
            <a:off x="3962520" y="1143000"/>
            <a:ext cx="5022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468360" y="2421000"/>
          <a:ext cx="8351640" cy="1463760"/>
        </p:xfrm>
        <a:graphic>
          <a:graphicData uri="http://schemas.openxmlformats.org/drawingml/2006/table">
            <a:tbl>
              <a:tblPr/>
              <a:tblGrid>
                <a:gridCol w="458640"/>
                <a:gridCol w="3284640"/>
                <a:gridCol w="4608360"/>
              </a:tblGrid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та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9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сследования (основополагающий вопро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в жизни чело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68360" y="4292640"/>
          <a:ext cx="8351640" cy="1463760"/>
        </p:xfrm>
        <a:graphic>
          <a:graphicData uri="http://schemas.openxmlformats.org/drawingml/2006/table">
            <a:tbl>
              <a:tblPr/>
              <a:tblGrid>
                <a:gridCol w="458640"/>
                <a:gridCol w="3284640"/>
                <a:gridCol w="4608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та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сследования (основополагающий вопро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в жизни древних люд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395280" y="692280"/>
          <a:ext cx="8353440" cy="1463400"/>
        </p:xfrm>
        <a:graphic>
          <a:graphicData uri="http://schemas.openxmlformats.org/drawingml/2006/table">
            <a:tbl>
              <a:tblPr/>
              <a:tblGrid>
                <a:gridCol w="458640"/>
                <a:gridCol w="3286440"/>
                <a:gridCol w="4608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та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сследования (основополагающий вопро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информация влияет на развитие обществ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33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4. Формулируем проблемные вопросы учебной темы 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839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сти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Являются конкретными предметными и тематическим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Формируют ответ на основополагающий вопро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Не имеют однозначного правильного отве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обуждают к обсуждению и постановке проблемы для исследов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редполагают широкий диапазон разнообразных ответ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80880" y="1752480"/>
          <a:ext cx="8229600" cy="37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ополагающий 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информация влияет на развитие обществ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eaeff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 человеку нужна информаци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eaeff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уда человек получает информаци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eaeff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еловек получает информаци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9" name="Picture 23" descr="slide1_007"/>
          <p:cNvPicPr/>
          <p:nvPr/>
        </p:nvPicPr>
        <p:blipFill>
          <a:blip r:embed="rId1"/>
          <a:stretch/>
        </p:blipFill>
        <p:spPr>
          <a:xfrm>
            <a:off x="914400" y="3581280"/>
            <a:ext cx="26193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58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. Выдвигаем гипотезы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ешения проблем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71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предполагают ответ на проблемный вопрос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требуют доказательства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возникают как возможные варианты решения проблем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в ходе исследований подвергаются проверк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95280" y="692280"/>
          <a:ext cx="8353440" cy="2193840"/>
        </p:xfrm>
        <a:graphic>
          <a:graphicData uri="http://schemas.openxmlformats.org/drawingml/2006/table">
            <a:tbl>
              <a:tblPr/>
              <a:tblGrid>
                <a:gridCol w="458640"/>
                <a:gridCol w="3286440"/>
                <a:gridCol w="4608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та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82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нутые гипотезы (предполагаемый ответ на основополагающий вопрос, который требует доказательст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бщество развивается независимо от информационных потоко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324000" y="3284640"/>
          <a:ext cx="8351640" cy="2193840"/>
        </p:xfrm>
        <a:graphic>
          <a:graphicData uri="http://schemas.openxmlformats.org/drawingml/2006/table">
            <a:tbl>
              <a:tblPr/>
              <a:tblGrid>
                <a:gridCol w="458640"/>
                <a:gridCol w="3284640"/>
                <a:gridCol w="4608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та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82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нутые гипотезы (предполагаемый ответ на основополагающий вопрос, который требует доказательст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ез информации человеку трудно жит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250920" y="206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73e87"/>
                </a:solidFill>
                <a:latin typeface="Times New Roman"/>
              </a:rPr>
              <a:t>IV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</a:rPr>
              <a:t>Практический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</a:rPr>
              <a:t> (работа в группах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</a:rPr>
              <a:t> постановка цели, задач  исследования, планирование хода исследования, определение  формы представления результа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</a:rPr>
              <a:t>Формирование групп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Учитель предлагает озвучить проблему, тему, основополагающий и проблемные вопросы, гипотезу. На основании сходных данных учащиеся объединяются в группы. Далее заполнение листа планирования осуществляется совместно в процессе обсужд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. Ставим цель исследо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07732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Times New Roman"/>
              </a:rPr>
              <a:t>Цель – отражает конечный результа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09" name="Picture 4" descr="DARTS"/>
          <p:cNvPicPr/>
          <p:nvPr/>
        </p:nvPicPr>
        <p:blipFill>
          <a:blip r:embed="rId1"/>
          <a:stretch/>
        </p:blipFill>
        <p:spPr>
          <a:xfrm>
            <a:off x="2816280" y="3068640"/>
            <a:ext cx="34732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MEETING"/>
          <p:cNvPicPr/>
          <p:nvPr/>
        </p:nvPicPr>
        <p:blipFill>
          <a:blip r:embed="rId1"/>
          <a:stretch/>
        </p:blipFill>
        <p:spPr>
          <a:xfrm>
            <a:off x="5105520" y="1523880"/>
            <a:ext cx="3352680" cy="283212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8. Планируем ход исследования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ыбор методов исследовани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Эксперимен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Наблюд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Анализ (описание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Сравнени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Составление плана исследовани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орядок проведения исследова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основные этапы исследо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08000" y="2494080"/>
            <a:ext cx="90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</a:rPr>
              <a:t>Образовательна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73e87"/>
                </a:solidFill>
                <a:latin typeface="Times New Roman"/>
              </a:rPr>
              <a:t>Раскрыть связь между информацией и знаниями человека; продолжить о</a:t>
            </a:r>
            <a:r>
              <a:rPr b="0" i="1" lang="en-US" sz="2600" spc="-1" strike="noStrike">
                <a:solidFill>
                  <a:srgbClr val="073e87"/>
                </a:solidFill>
                <a:latin typeface="Times New Roman"/>
              </a:rPr>
              <a:t>бучение навыкам систематизации и структуризации информаци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</a:rPr>
              <a:t>Развивающа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73e87"/>
                </a:solidFill>
                <a:latin typeface="Times New Roman"/>
              </a:rPr>
              <a:t>Развитие творческой и исследовательской инициатив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</a:rPr>
              <a:t>Воспитательна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73e87"/>
                </a:solidFill>
                <a:latin typeface="Times New Roman"/>
              </a:rPr>
              <a:t>Стремиться воспитать чувство ответственности за порученное дело, исполнительности, добросовестност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179280" y="17002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4"/>
          <p:cNvSpPr/>
          <p:nvPr/>
        </p:nvSpPr>
        <p:spPr>
          <a:xfrm>
            <a:off x="0" y="357120"/>
            <a:ext cx="916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1360" indent="-143028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раскрыть смысл понятия «информация» в контексте жизни и деятельности челов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40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9. Проводим исследование</a:t>
            </a:r>
            <a:br>
              <a:rPr sz="3800"/>
            </a:b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(самостоятельная работа в группах)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2674440"/>
            <a:ext cx="8569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оиск информации (литература, Интернет, электронные учебники, энциклопедии, СМИ и др.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роведение эксперимента, опыта, наблю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Интервью, опро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Анализ документов и статистических данны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10. Оформляем результаты исследования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3640" y="2674440"/>
            <a:ext cx="7956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</a:rPr>
              <a:t>Публикации (газеты, буклеты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</a:rPr>
              <a:t>Электронные таблиц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</a:rPr>
              <a:t>Веб-сай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17" name="Picture 4" descr="COMP3"/>
          <p:cNvPicPr/>
          <p:nvPr/>
        </p:nvPicPr>
        <p:blipFill>
          <a:blip r:embed="rId1"/>
          <a:stretch/>
        </p:blipFill>
        <p:spPr>
          <a:xfrm>
            <a:off x="5651640" y="3753000"/>
            <a:ext cx="35114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78920" y="249192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73e87"/>
                </a:solidFill>
                <a:latin typeface="Times New Roman"/>
              </a:rPr>
              <a:t>V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</a:rPr>
              <a:t>. Контроль первичного понимания учебного материа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закрепить знания полученные на урок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закрепления зна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</a:rPr>
              <a:t>Что такое учебный проект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Отв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</a:rPr>
              <a:t>Чем основополагающий вопрос отличается от проблемного?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</a:rPr>
              <a:t>Назовите алгоритм создания проекта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Отв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Прямоугольник 3"/>
          <p:cNvSpPr/>
          <p:nvPr/>
        </p:nvSpPr>
        <p:spPr>
          <a:xfrm>
            <a:off x="324000" y="213660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ый проект –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ная учебно-познавательная, исследовательская, творческая или игровая деятельность учащихся – партнёров, имеющую общую цель, согласованные методы, способы деятельности, направленную на достижение общего результата по решению какой-либо проблемы, значимой для участников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826920" y="3357720"/>
          <a:ext cx="7409160" cy="2736720"/>
        </p:xfrm>
        <a:graphic>
          <a:graphicData uri="http://schemas.openxmlformats.org/drawingml/2006/table">
            <a:tbl>
              <a:tblPr/>
              <a:tblGrid>
                <a:gridCol w="3705480"/>
                <a:gridCol w="3703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ополагающий 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блемный 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ходит вглубь учебного предм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сит философски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ет ответить на основополагающий 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яется конкрет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871560" y="2276280"/>
            <a:ext cx="7408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блема исследова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ма исследова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блемные вопрос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двинутая гипотез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 исследова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чи исследова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од исследова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формление результат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формационные ресурс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1"/>
          <p:cNvSpPr/>
          <p:nvPr/>
        </p:nvSpPr>
        <p:spPr>
          <a:xfrm>
            <a:off x="539640" y="4365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436b"/>
                </a:solidFill>
                <a:latin typeface="Arial"/>
              </a:rPr>
              <a:t>Листы планирования сдаются учителю для анализа и выставления оц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250920" y="2674440"/>
            <a:ext cx="8642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73e87"/>
                </a:solidFill>
                <a:latin typeface="Times New Roman"/>
              </a:rPr>
              <a:t>VI.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</a:rPr>
              <a:t>Домашнее задание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Учащимся необходимо найти информацию на тему «Информация в жизни человека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436b"/>
                </a:solidFill>
                <a:latin typeface="Times New Roman"/>
                <a:ea typeface="Arial"/>
              </a:rPr>
              <a:t>V</a:t>
            </a:r>
            <a:r>
              <a:rPr b="1" i="1" lang="en-US" sz="3200" spc="-1" strike="noStrike">
                <a:solidFill>
                  <a:srgbClr val="06436b"/>
                </a:solidFill>
                <a:latin typeface="Times New Roman"/>
                <a:ea typeface="Arial"/>
              </a:rPr>
              <a:t>I</a:t>
            </a:r>
            <a:r>
              <a:rPr b="1" i="1" lang="ru-RU" sz="3200" spc="-1" strike="noStrike">
                <a:solidFill>
                  <a:srgbClr val="06436b"/>
                </a:solidFill>
                <a:latin typeface="Times New Roman"/>
                <a:ea typeface="Arial"/>
              </a:rPr>
              <a:t>I. Рефлексия.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Arial"/>
              </a:rPr>
              <a:t>Рефлексия урока проводится с помощью техники </a:t>
            </a:r>
            <a:br>
              <a:rPr sz="2400"/>
            </a:b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Arial"/>
              </a:rPr>
              <a:t>«Как я себя чувствую после урока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1" name="AutoShape 3"/>
          <p:cNvSpPr/>
          <p:nvPr/>
        </p:nvSpPr>
        <p:spPr>
          <a:xfrm>
            <a:off x="123840" y="160200"/>
            <a:ext cx="386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917640" y="4508640"/>
            <a:ext cx="7308720" cy="1657080"/>
          </a:xfrm>
          <a:prstGeom prst="rect">
            <a:avLst/>
          </a:prstGeom>
          <a:ln w="0">
            <a:noFill/>
          </a:ln>
        </p:spPr>
      </p:pic>
      <p:sp>
        <p:nvSpPr>
          <p:cNvPr id="535" name="Заголовок 2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се требования программы по данной теме получили отражение в уроке. Обучающиеся были активны и с интересом работали. Для достижения поставленных целей и задач  мною использовался метод учебного проекта, как технология формирования ключевых  компетентностей обучающихся. Важнейшим признаком  метода проектов, отражающим его сущность,  является самостоятельность деятельности обучающихся. Самостоятельность связана с постановкой  проблемы и поисками путей ее решения. Для решения проблемы правильно подобраны различные  средства, формы и методы работы. Формы и методы работы выбраны активные, которые способствовали глубокому, детальному усвоению нового материала. Материал изложен научно, соответствует возрастным и психологическим особенностям детей. Материал усвоен.  Вся работа на  уроке была подчинена главной цели. Задачи урока выполнены, цель достигнута, обучающиеся  вышли на проект. Метод учебного проекта вносит интерес и оживление обучающихся. Учебная активность совместима с окружающими условия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раткий самоанализ уро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5921280" y="6156360"/>
            <a:ext cx="29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Подробно прилагается докумен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56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Технологии: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метод учебного проект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Методы обучения: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словесный (беседа, объяснение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проблемный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частично-поисковый (поиск информации, анализ документов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наглядно-иллюстративный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Формы обучения: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фронтальная работа </a:t>
            </a:r>
            <a:r>
              <a:rPr b="0" lang="en-US" sz="2600" spc="-1" strike="noStrike">
                <a:solidFill>
                  <a:srgbClr val="073e87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                         </a:t>
            </a:r>
            <a:r>
              <a:rPr b="0" lang="en-US" sz="2600" spc="-1" strike="noStrike">
                <a:solidFill>
                  <a:srgbClr val="073e87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73e87"/>
                </a:solidFill>
                <a:latin typeface="Times New Roman"/>
              </a:rPr>
              <a:t> групповая работ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ип урока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урок изучения и первичного закрепления нового материала.</a:t>
            </a:r>
            <a:endParaRPr b="0" lang="en-US" sz="3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Заголовок 1"/>
          <p:cNvSpPr/>
          <p:nvPr/>
        </p:nvSpPr>
        <p:spPr>
          <a:xfrm>
            <a:off x="179280" y="92160"/>
            <a:ext cx="8589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орудование и материа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бъект 2"/>
          <p:cNvSpPr/>
          <p:nvPr/>
        </p:nvSpPr>
        <p:spPr>
          <a:xfrm>
            <a:off x="108000" y="1125360"/>
            <a:ext cx="8928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73e87"/>
                </a:solidFill>
                <a:latin typeface="Times New Roman"/>
              </a:rPr>
              <a:t>Бланки листов планировани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73e87"/>
                </a:solidFill>
                <a:latin typeface="Times New Roman"/>
              </a:rPr>
              <a:t>Мультимедийная презентация «Учебный проект по информатике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73e87"/>
                </a:solidFill>
                <a:latin typeface="Times New Roman"/>
              </a:rPr>
              <a:t>Презентации проектов учащихся «Туннельный синдром», «История ЭВМ», «Компьютерная графика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73e87"/>
                </a:solidFill>
                <a:latin typeface="Times New Roman"/>
              </a:rPr>
              <a:t>Компьютер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73e87"/>
                </a:solidFill>
                <a:latin typeface="Times New Roman"/>
              </a:rPr>
              <a:t>Мультимедийный проектор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73e87"/>
                </a:solidFill>
                <a:latin typeface="Times New Roman"/>
              </a:rPr>
              <a:t>Информатика и ИКТ: учебник для 8 класса / Л.Л.Босова, А.Ю.Босов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Заголовок 1"/>
          <p:cNvSpPr/>
          <p:nvPr/>
        </p:nvSpPr>
        <p:spPr>
          <a:xfrm>
            <a:off x="10800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бъект 2"/>
          <p:cNvSpPr/>
          <p:nvPr/>
        </p:nvSpPr>
        <p:spPr>
          <a:xfrm>
            <a:off x="108000" y="1268280"/>
            <a:ext cx="90360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Организационный момент(1 мин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Актуализация полученных ранее знаний  учащихся (5 ми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Изучение нового материала (10 ми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Демонстрация учебных проектов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Организация восприятия и осмысления нового материала с применением совместной и самостоятельной работы по заполнению листа планирования 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Первичное закрепление нового материала. Работа в группах (15 ми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Контроль первичного понимания учебного материала </a:t>
            </a:r>
            <a:r>
              <a:rPr b="0" lang="en-US" sz="2200" spc="-1" strike="noStrike">
                <a:solidFill>
                  <a:srgbClr val="073e87"/>
                </a:solidFill>
                <a:latin typeface="Times New Roman"/>
              </a:rPr>
              <a:t>(5 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ми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Опро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Анализ листов планирования 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Итог урока. (3 ми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Рефлексия (1 ми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Заголовок 1"/>
          <p:cNvSpPr/>
          <p:nvPr/>
        </p:nvSpPr>
        <p:spPr>
          <a:xfrm>
            <a:off x="45720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ганизационный момен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бъект 2"/>
          <p:cNvSpPr/>
          <p:nvPr/>
        </p:nvSpPr>
        <p:spPr>
          <a:xfrm>
            <a:off x="250920" y="98100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0" lang="ru-RU" sz="30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73e87"/>
                </a:solidFill>
                <a:latin typeface="Times New Roman"/>
              </a:rPr>
              <a:t>создание положительной мотивации, включение обучающихся в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73e87"/>
                </a:solidFill>
                <a:latin typeface="Times New Roman"/>
              </a:rPr>
              <a:t>“</a:t>
            </a:r>
            <a:r>
              <a:rPr b="0" i="1" lang="ru-RU" sz="4000" spc="-1" strike="noStrike">
                <a:solidFill>
                  <a:srgbClr val="073e87"/>
                </a:solidFill>
                <a:latin typeface="Times New Roman"/>
              </a:rPr>
              <a:t>Мало знать, надо и применять. Мало очень хотеть, надо и делать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73e87"/>
                </a:solidFill>
                <a:latin typeface="Times New Roman"/>
              </a:rPr>
              <a:t>Сэр Артур Чарльз </a:t>
            </a:r>
            <a:r>
              <a:rPr b="1" i="1" lang="ru-RU" sz="2200" spc="-1" strike="noStrike">
                <a:solidFill>
                  <a:srgbClr val="073e87"/>
                </a:solidFill>
                <a:latin typeface="Times New Roman"/>
              </a:rPr>
              <a:t>Клар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23640" y="2276640"/>
            <a:ext cx="85690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73e87"/>
                </a:solidFill>
                <a:latin typeface="Times New Roman"/>
              </a:rPr>
              <a:t>закрепить знание основных понятий информатик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нформационный диктант для закрепления знаний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Инструкция для учащихс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Внимательно прослушайте определение понятия и запишите понятие, которое характеризует данное определение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280" y="338040"/>
            <a:ext cx="8785440" cy="22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ктуализация полученных ранее знаний учащихс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информационный диктант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бъект 2"/>
          <p:cNvSpPr/>
          <p:nvPr/>
        </p:nvSpPr>
        <p:spPr>
          <a:xfrm>
            <a:off x="250920" y="1469880"/>
            <a:ext cx="864216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Термин, используемый в науке, для обозначения всего разнообразия материальных объе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Общая количественная мера различных форм движения мат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Сведения об окружающем мире и протекающих в нём процессах, воспринимаемые человеком или специальным устрой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Times New Roman"/>
              </a:rPr>
              <a:t>Наука о закономерностях протекания информационных процессов в системах различной природы, о методах, средствах и технологиях автоматизации информацион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457200" y="115920"/>
            <a:ext cx="82296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рмационны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2:06:27Z</dcterms:created>
  <dc:creator>Учитель</dc:creator>
  <dc:description/>
  <dc:language>en-US</dc:language>
  <cp:lastModifiedBy>Компьютер</cp:lastModifiedBy>
  <dcterms:modified xsi:type="dcterms:W3CDTF">2012-11-13T13:54:15Z</dcterms:modified>
  <cp:revision>73</cp:revision>
  <dc:subject/>
  <dc:title>Мультимедийная презентация урока информатики</dc:title>
</cp:coreProperties>
</file>