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2B0-7D83-44FC-B677-78938185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68E-5B73-4883-8F5E-A34F94D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71C-2CEA-486D-9807-448D2128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B97-847E-4FB2-9392-A90B5EE7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041C-B091-4918-A010-7A1E3D8B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2E53-A815-4BDA-9752-1392F62B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F9B9-BF1A-4D0E-92E1-1B9E97A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13FA-702A-4D87-995C-0363697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EA8-85C8-427F-B5E5-15865B5A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412-8DF0-46B5-8C5B-779B58D0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6E2-63B4-41E2-A9F9-63E4362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135-5E9F-43D8-A4A5-34F3CC4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2600-62F3-4E4C-97D4-09E01692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DF63-8B2E-4889-B92E-AE4D30A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F3FF-6791-4D43-A06D-87D42BC0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62D3-5790-42FF-9B1E-BB3AAE7F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DFD-3DA9-4FC3-96D6-4867D22A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F2D9-BBAD-4133-A0AA-DDD8C566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A91F-F213-40EA-91E4-6C08910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3112-29B9-4F8A-9C5E-70216827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2C4E-F5D5-4120-8641-85914168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ED3F-8C5D-4B40-B677-6D6A21A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A6B-8F0D-46A6-BA34-5D23110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FAB2-7086-4C7F-AE28-CDFB6997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53C6-3316-4946-8C7F-3CEA604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3947-7971-4B18-8D52-E259598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C8C6-A130-48FD-9CDB-7833FF6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B68E-31D0-4D1F-8389-08B416FC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2785-3644-4720-A1FA-3672DFB6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0C1A-4AA9-4316-9CAC-211DF4CA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89AC-F3C1-4BCE-A9B2-3012E458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A163-D1EE-4E52-A707-BA4FD49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FD25-4FD5-43C2-8AE5-35F2CC7F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8AD-4155-4A00-9436-3AD02CB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6780-89D7-445D-997C-28D34AF0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CF0E-DB03-423C-861A-5B750F1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5834-1E22-48FB-9129-A95DBD82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39BA-8478-445C-A8EC-A30B576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493E-6AE5-419C-954A-0F080D3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F202-EB56-4E32-AA74-6C8A74A7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1C37-6EFB-49A0-B8A6-D704AA1E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73ED-41FF-4473-87D6-083619FE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4C59-3DBC-486E-AB97-A8C36CB3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5A02B-770A-4A7F-97C8-8D2F1895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BD9-DBD2-401D-A5E7-706D748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6237D-1A09-4D6B-893D-84669609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28E8-0FB6-4305-9896-392CC67A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4D63-7446-4CAC-B340-9FACC1F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1D21-343E-4835-B2FB-BE5674D6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4163-E41F-4A63-BFC8-926B8758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16B3F-938C-41BD-AF96-02CA68A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AA56-6528-4CFB-A421-6E77E8D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5806-BB8F-4E19-AD64-1DAFD47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69E5-99F3-4F07-B879-4A5CF00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55E1-0BBF-48C4-A279-74438240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DF0-EFF7-4D0E-96E8-F37822E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02AF-C513-4386-B9F2-2ED422C8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59F-41A5-4798-B434-19F8FF6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01F-0D90-4573-98D4-1FB66C3F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759-0493-4070-966F-F255051F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EE33-17BA-468F-B95A-8BE347B2FFED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50ED-D256-401B-AA4A-E7A0FD91AFC5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D6B9-AA22-4075-9FE6-73737CE554C1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B1C3-A067-4BB7-A9D6-A978DE0D644E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EBA9-8A7A-4408-9B2F-94715114186E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втор проекта к.п.н., доцент кафедры РАЯ МГПУ, учитель ГБОУ СОШ № 648 САО г. Москв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ирво Ал. Ю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Nouns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Some more example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Countab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re are two hairs in my coffee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re are two lights in our bedroom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hhhhh! I thought I heard a nois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Our house has seven room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Uncountabl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 don't have much hair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ose the curtain. There's too much light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t's difficult to work when there is too much nois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s there room for me to sit here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Useful information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rinks (coffee, water, orange juice) are usually uncountable. But if we are thinking of a cup or a glass, we can say (in a restaurant, for example)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wo teas and one coffee, pleas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There were dozens of cheeses to choose from. - Там были десятки СОРТОВ сыра для выбора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 had a stone in my shoe. -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 меня в туфле был камень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конкретный ПРИМЕР какого-то вещества, в данном случае камня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heck your knowledge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ll in the gaps using: </a:t>
            </a: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stone, tin, sport, cheese, glas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Century Schoolbook"/>
              </a:rPr>
              <a:t>a/a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otball is mainly winter ________ in Britain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s statue was made of ________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'm bleeding! I must have cut myself with ________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ould you like _________ of water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There's _________ in the fridge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Thank you for your attention!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author or the project is Chirvo Alina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chirvo@gmail.co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entury Schoolbook"/>
              </a:rPr>
              <a:t>Countable</a:t>
            </a:r>
            <a:r>
              <a:rPr b="1" lang="ru-RU" sz="4000" spc="-1" strike="noStrike">
                <a:solidFill>
                  <a:srgbClr val="696464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696464"/>
                </a:solidFill>
                <a:latin typeface="Century Schoolbook"/>
              </a:rPr>
              <a:t>Noun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nouns we can count are called countabl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eople: a boy – two boys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imals: a cow – two cows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Objects: a book – four book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use indefinite articles (a/an) that means “one” (a nice toy, an umbrella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use the article “a” if the first letter of the word starts with a consonant sound (a car [k]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use the article “an” if the first letter of the word starts with a vowel sound (an apple [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]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Quantity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can use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few/a few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many, som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with countable nouns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ew = not enough: Sorry, but I can’t give you any book. I have few books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few =  enough: I can give you some books about England. I have a few books about i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re are some oranges on the plat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re aren’t many oranges on the plat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Mind the first sound of the word 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 apple – a tasty apple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flower – an orange flower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 hour – a late hour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 umbrella – a uniform, etc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n umbrella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nice umbrella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nice folding umbrella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nice folding umbrella for girls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nice folding umbrella for young girl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entury Schoolbook"/>
              </a:rPr>
              <a:t>Uncountable</a:t>
            </a:r>
            <a:r>
              <a:rPr b="1" lang="ru-RU" sz="4000" spc="-1" strike="noStrike">
                <a:solidFill>
                  <a:srgbClr val="696464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696464"/>
                </a:solidFill>
                <a:latin typeface="Century Schoolbook"/>
              </a:rPr>
              <a:t>Nouns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nouns we can’t count are called uncountable. They are substances, concepts etc. that we cannot divide into separate elements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od –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rice, sugar, butter, water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etc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music, art, love, happines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advice, information, new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furniture, luggag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electricity, gas, power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money, currency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entury Schoolbook"/>
              </a:rPr>
              <a:t>We use a singular verb with uncountable nouns. 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usually treat uncountable nouns as singular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news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very important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Your luggage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looks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heavy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do not usually use the indefinite article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a/an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with uncountable nouns. But we can say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a something of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 bottle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of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a kilo of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eat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 grain of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ric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 piece of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new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2 good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piece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of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new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Quantity 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can use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some, any, a littl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 with uncountable noun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Little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= not enough: I can’t make a cake. I have little butter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A littl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= enough: Don’t go to the shop. There is some milk in the fridg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ve you got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rice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 haven't got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much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rice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I've got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some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money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Century Schoolbook"/>
              </a:rPr>
              <a:t>Sometimes, the same noun can be countable </a:t>
            </a:r>
            <a:r>
              <a:rPr b="0" i="1" lang="en-US" sz="2800" spc="-1" strike="noStrike">
                <a:solidFill>
                  <a:srgbClr val="696464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696464"/>
                </a:solidFill>
                <a:latin typeface="Century Schoolbook"/>
              </a:rPr>
              <a:t> uncountable, often with a change of meaning.</a:t>
            </a:r>
            <a:endParaRPr b="0" lang="en-US" sz="28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tin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олово, жесть) -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 tin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консервная банка)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glass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стекло) -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 glass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стакан)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iron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железо) -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n iron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утюг)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room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пространство) -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 room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комната)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power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 (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ила, власть, могущество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power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держава)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government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правление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  - a government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правительство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Century Schoolbook"/>
              </a:rPr>
              <a:t>Nouns that can be Countable and Uncountable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ve you got a paper to read?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=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newspaper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had a great time at the part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Macbeth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is one of Shakespeare's greatest work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 want to draw a picture. Have you got any paper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ve you got time for a break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 have no money. I need work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6:58:23Z</dcterms:created>
  <dc:creator>АЛИНА</dc:creator>
  <dc:description/>
  <dc:language>en-US</dc:language>
  <cp:lastModifiedBy>Admin</cp:lastModifiedBy>
  <dcterms:modified xsi:type="dcterms:W3CDTF">2012-11-11T09:19:01Z</dcterms:modified>
  <cp:revision>63</cp:revision>
  <dc:subject/>
  <dc:title>Nouns that can be Countable and Uncountable </dc:title>
</cp:coreProperties>
</file>