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B61-7708-4956-A3F0-D872A57F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121-2BE5-413C-BB25-E3011988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AC9-1322-4F36-98B4-D896335A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C7C-0437-406C-8FBD-C6C25FEE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8B4-1BF5-449E-A6BC-CE0C0EDE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DC1-22E6-4B1C-940D-92C99121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16E-126A-40F1-8A6E-FDF9B7AB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3D1-0EA3-454A-A74C-DCF94502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E4A-381F-40E1-A525-2AD55BEC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FE5-47E0-422D-BA5B-61972D9E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022-BF39-4E64-8C57-82AE85B4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370-EEFD-475A-A705-8E41734A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071C-0F90-4B45-9464-BEBA4D8BE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дносоставные пред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ал для закрепления знаний в 10-11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л. ед. ч. 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юблю грозу в начале м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л. мн. ч.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мчимся. Озарим     кострами степную д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л. ед. ч.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ышишь пение пт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л. мн. ч.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йдете с нами на прогул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лительное накл.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ишите. Прочитайте. Спрячь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 всех случаях форма глагола вполне определенно указывает на производителя действ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о либо Я, либо 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ибо Мы, либо 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помнишь разлуку с улыбкою    стр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е вспомнишь родное, далёк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ушая ропот колёс непрест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ядя задумчиво в небо высок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И.С.Тургене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определенно-личные предлож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такие, в которых производитель действия не опреде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Кто-т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азуемое выражено глаголами изъявительного наклонения 3 лица множественного числа или глаголом прошедшего времени множественного чис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о сокращении расход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няли цены на горючие материал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ите тип односоставных предло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презирай совета ничь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ины врагу не открывай, тайны дураку не повер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речи пустой мысли не извлеч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бишь кататься – люби и саночки воз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должите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добра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чужой рото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песни слова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чужом глазу сучок видим, а в сво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двумя зайцами погонишься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езличные предлож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о такие предложения, в которых нет и не может быть производителя действия. Действие происходит как-то само соб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лодает. Нездоровится. Надоело. Светле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особы выражения сказуем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зличными глагол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здоровитс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чере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ить и закрепить значения односоставных предложений и способы выражения главных членов предлож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ить отработанный навык определения типов односоставных предлож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чными глаголами в безличной фор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тле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лесу сильно похолод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лаголом в неопределенной форме(инфинитивом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лго петь и звенеть пург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 бродить, не мять в кустах багряных лебеды и не искать сле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атким причаст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е поруче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азано громким голо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делано быстр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реч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х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уш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ар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астицей Н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редложении нет сказуем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асмурный день нет солн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нировоч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ределите тип односоставных пред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над головой у нее безупречно синий куп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й представилось, будто они клан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ватает покоя и силы увидеть себя са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этих ясных знающих глаз ей больно и страш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вожно ей бы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ее не достало сил уложить ве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ей всего было подбирать после жатвы пшеничные колосья или принести ежев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его книгах много спорили при его жизни и в последующи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 восхищались и возмущались, его превозносили и ниспроверг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ниге повествуется о двух поколениях семьи Мор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пытаемся разъяснить это кажущееся противореч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являю, что держусь противоположного м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ите мой сердечный привет и не сомневайтесь в искренних чувст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 мой, чтобы добраться до цели, надо мчаться на почтовых и по большой дор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ете ли вы о нелепости своей зате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прочем, не тревожьтесь за исход начатого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трудно бывает  устоять перед искуш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расспрашивайте меня о предстоящем  веч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вращайтесь к ужину и все узна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нас здесь много говорят о прошедшем недавно конце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дносоставные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 такие предложения, в которых есть только один главный член. Это либо подлежащее, либо сказуем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таю главу из «Илиады», чтобы восстановить в памяти собы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дать ему прийти в себя после виражей, совершим небольшую прогул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бы мне и хотелось это знать, то лишь для того, чтобы иметь лишний повод склониться к вашему мнению или склонить вас к мо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е представляется весьма затруднительным просить его тетушку не задерживать его у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е не удастся провести вечер с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шу вас не сомневаться в э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согласитесь ли вы передать это письмо по назначению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му скажут, что нас нет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еюсь, завтра ей станет луч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таточно посмотреть на него, чтобы все по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благородно было с ее стороны сказать мне об э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надо оставлять открытыми ок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еня и без того достаточно причин жаловаться на суд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ю вас уверить в полнейшей безопасности поез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езжайте же поскорее и привезите обещан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аю вам доброго веч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лько очень уж трудно все это сказ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вольте мне задать вам еще один вопр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рманюк Юлия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й№1546 «Плеханов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зывные пред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ложения, в которых есть только подлежащее, называются назывными. Они служат для того, чтобы создать статическую карти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роз и солнц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чь. Улица. Фонарь. Апт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епот, легкое дыханье, трели солов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ш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ывные предложения могут быть распространенными. Второстепенный член – определение, т. к. к подлежащему относится только согласованное или несогласованное опре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ннее ут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шайший рас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ая кромка 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тоятельства относятся к сказуемым, поэтому предложения типа: В лесу тишина. являются неполными двусоставными ( обстоятельство «в лесу» относится к пропущенному в этом предложении сказуемому «стояла», «есть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им образом, наличие в предложении обстоятельства свидетельствует о том, что в предложении есть сказуе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ределенно-личные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предложения, в которых нет подлежащего, но производитель действия точно указан формой сказуем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азуемое выражено глагол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или 2 лица единственного или множественного числа настоящ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 будущего време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ъявительного накло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 глаголом повелительного накло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5:31:09Z</dcterms:created>
  <dc:creator>Дмитрий Шишков</dc:creator>
  <dc:description/>
  <dc:language>en-US</dc:language>
  <cp:lastModifiedBy>Юлия</cp:lastModifiedBy>
  <dcterms:modified xsi:type="dcterms:W3CDTF">2012-11-13T17:59:46Z</dcterms:modified>
  <cp:revision>5</cp:revision>
  <dc:subject/>
  <dc:title>Односоставные предложения.</dc:title>
</cp:coreProperties>
</file>