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F5C-3B37-481E-B7E7-131A38D5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798-B477-4094-99DD-00C9E4D4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CDB-8848-4F3F-B73C-FE488C12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401-360B-45D6-8798-97C533F9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C1C-6664-4503-A3BB-2B19EC25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4173-CD53-45C9-8E04-F726F61D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457B-5B0C-45F6-B441-D0F918A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1F57-1044-4164-9A91-FA2FBEEA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C953-F71E-4913-8743-9E8678FA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BAB8-AD8F-44DD-9AAE-6011022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B6C4-53D2-496A-89A1-A367DC5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433-1FFF-451F-9896-771DEEAA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CFC8-9C28-493A-B1EA-7C63A39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ED48-62CF-4556-BA7F-1A85CF20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28D9-B1FD-44C1-BFA8-C956627D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3F8A-1202-4FDB-83D9-6E7FFA8F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8688-A955-4246-9289-7B3A4A50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90E-F1D6-404D-9C41-2667835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7E5-1A85-4DAD-9F93-7F7D0D7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B46-5B31-4F83-A922-C1CCA0A1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70B-83F1-4027-A289-37436E7D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DA1-5F84-4C44-A211-AF658FD4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247-EBCF-4738-8AC3-E4BCA2B5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043-B58E-415B-A3B1-5C86C2E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63C2-FC9D-4D2E-908A-E636762D61E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8DDA-0B26-43DA-B21B-6B8428FDB02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5280" y="47628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ит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4000" y="476280"/>
            <a:ext cx="3672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ичество циф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413000"/>
            <a:ext cx="4319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частном и найдит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292720" y="1557360"/>
            <a:ext cx="280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х знач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270828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960 : 4 =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2708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240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50864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864 : 8 =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9280" y="4508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108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637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324 : 3 =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7708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108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450864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7299 : 9 =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45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811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348000" y="333360"/>
            <a:ext cx="511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Возраст старика Хоттабыча записывается четырехзначным числом с разными цифрами. Первая цифра больше последней в 4раза. Сумма второй и третьей цифры составляет число 13, причем оно будет наибольшим из всех двузначных чисел с суммой цифр 13. Ответьте сколько лет Хоттабычу?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3655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лгоритм дел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3026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ыделяем первое неполное делимо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пределяем количество цифр в частн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аходим цифру частно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множаем цифру частного на делитель и находим какое число раздели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ычитаем, находим остаток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статок сравниваем с делителем (если он меньше, то разделили правильно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должим делени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5092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52 980 : 6 =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69228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8 830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24922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65 376 : 9 =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2492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7 264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076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37 400 : 8 =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0360" y="407664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4 675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люч к тест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) 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) 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) 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) 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) 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) 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432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1:10:13Z</dcterms:created>
  <dc:creator>Ольга</dc:creator>
  <dc:description/>
  <dc:language>en-US</dc:language>
  <cp:lastModifiedBy>Ольга</cp:lastModifiedBy>
  <dcterms:modified xsi:type="dcterms:W3CDTF">2008-12-11T02:30:39Z</dcterms:modified>
  <cp:revision>3</cp:revision>
  <dc:subject/>
  <dc:title>Слайд 1</dc:title>
</cp:coreProperties>
</file>