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3F95-3838-4C63-8148-319302E6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6C8-7020-438C-A762-46993A51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B6EA-C510-49CE-A3F6-8C3FB547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801D-E4C3-4076-9A43-91A01195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11D-91C0-4835-838C-4B5A1484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FD56-4FE5-4016-84A7-454CDBB1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273-7239-4BD5-AFD7-B6788125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383-38EF-45E8-B5E8-A3BF9F8E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47B-AF99-457D-A154-B02FA872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2B00-03F1-4DBB-8C96-4328B16D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C92E-BA7A-490F-9C56-8E6BEBE1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5C3-E90D-4026-A8E7-39DED667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BAAF-6C9F-432C-AC60-B545711E59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ПАМЯТКА ДЛЯ РОДИТЕЛЕ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86040" y="3214440"/>
            <a:ext cx="5500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ИЛИ О ТОМ КАК НЕ НАДО  КОРМИТЬ РЕБЕНКА: 7 ВЕЛИКИХ И ОБЯЗАТЕЛЬ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« Н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490760" y="5429160"/>
            <a:ext cx="74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(из книги В. Леви "Нестандартный ребенок"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42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omic Sans MS"/>
              </a:rPr>
              <a:t>Не принуждать. Поймем и запомним: пищевое насилие - одно из самых страшных насилий над организмом и личностью, вред и физический и психический. Если ребенок не хочет, есть - значит, ему в данный момент есть не нужно! Если не хочет есть только чего-то определенного, - значит, не нужно именно этого! Никаких принуждений в еде! Никакого "откармливания"! Ребенок не сельскохозяйственное животное! Отсутствие аппетита при болезни есть знак, что организм нуждается во внутренней очистке, сам хочет поголодать, и в этом случае голос инстинкта вернее любого врачебного предпис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навязыв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силие в мягкой форме: уговоры, убеждения, настойчивые повторения предложения. Прекратить - и никогда больш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блажать. Еда - не средство добиться послушания и не средство наслаждения; еда - средство жить. Здоровое удовольствие от еды, конечно, необходимо, но оно должно происходить только от здорового аппетита. Вашими конфетками вы добьетесь только избалованности и извращения вкуса, равно как и нарушения обмена вещест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ропить. Еда - не тушение пожара. Темп еды - дело сугубо личное. Спешка в еде всегда вредна, а перерывы в жевании необходимы даже корове. Если приходится спешить в школу или куда-нибудь еще, то пусть ребенок лучше не доест, чем в суматохе и панике проглотит еще один недожеванный кусо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отвлекать. Пока ребенок ест, телевизор должен быть выключен, а новая игрушка припрятана. Однако, если ребенок отвлекается от еды сам, не протестуйте и не понукайте: значит, он не голоде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7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такать, но понять. Нельзя позволять ребенку есть, что попало и в каком угодно количестве (например, неограниченные дозы варенья или мороженого). Не должно быть пищевых принуждений, но должны быть пищевые запреты, особенно при диатезах и аллергиях. Соблюдение всех прочих "не" избавит вас от множества дополнительных пробл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тревожиться и не тревожить. Никакой тревоги, никакого беспокойства по поводу того, поел ли ребенок вовремя и сколько. Следите только за качеством пищи. Не приставать, не спрашивать: "Ты поел? Хочешь есть?" Пусть попросит, пусть потребует сам, когда захочет, так будет правильно - так, только так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        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Будьте здоровы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наслаждайтесь жизнью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ru-RU" sz="19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ru-RU" sz="1900" spc="-1" strike="noStrike">
                <a:solidFill>
                  <a:srgbClr val="c00000"/>
                </a:solidFill>
                <a:latin typeface="Comic Sans MS"/>
              </a:rPr>
              <a:t>Материал подготовил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mic Sans MS"/>
              </a:rPr>
              <a:t>                                            </a:t>
            </a:r>
            <a:r>
              <a:rPr b="0" lang="ru-RU" sz="1900" spc="-1" strike="noStrike">
                <a:solidFill>
                  <a:srgbClr val="c00000"/>
                </a:solidFill>
                <a:latin typeface="Comic Sans MS"/>
              </a:rPr>
              <a:t>АСАНОВА НУРИЯ МАВЛЕТШАЕВН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mic Sans MS"/>
              </a:rPr>
              <a:t>                                             </a:t>
            </a:r>
            <a:r>
              <a:rPr b="0" lang="ru-RU" sz="1900" spc="-1" strike="noStrike">
                <a:solidFill>
                  <a:srgbClr val="c00000"/>
                </a:solidFill>
                <a:latin typeface="Comic Sans MS"/>
              </a:rPr>
              <a:t>инструктор по физической культур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mic Sans MS"/>
              </a:rPr>
              <a:t>                                         </a:t>
            </a:r>
            <a:r>
              <a:rPr b="0" lang="ru-RU" sz="1900" spc="-1" strike="noStrike">
                <a:solidFill>
                  <a:srgbClr val="c00000"/>
                </a:solidFill>
                <a:latin typeface="Comic Sans MS"/>
              </a:rPr>
              <a:t>МБДОУ Старополтавский  детский сад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mic Sans MS"/>
              </a:rPr>
              <a:t>                                                            </a:t>
            </a:r>
            <a:r>
              <a:rPr b="0" lang="ru-RU" sz="1900" spc="-1" strike="noStrike">
                <a:solidFill>
                  <a:srgbClr val="c00000"/>
                </a:solidFill>
                <a:latin typeface="Comic Sans MS"/>
              </a:rPr>
              <a:t>« СОЛНЫШКО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6:28:07Z</dcterms:created>
  <dc:creator>Нурия</dc:creator>
  <dc:description/>
  <dc:language>en-US</dc:language>
  <cp:lastModifiedBy>Нурия</cp:lastModifiedBy>
  <dcterms:modified xsi:type="dcterms:W3CDTF">2012-11-11T16:42:51Z</dcterms:modified>
  <cp:revision>2</cp:revision>
  <dc:subject/>
  <dc:title>ПАМЯТКА ДЛЯ РОДИТЕЛЕЙ</dc:title>
</cp:coreProperties>
</file>