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ABF-DF92-42FE-B093-246B8977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4DC-3997-4912-B3F3-0C86ADB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688-F27C-4226-97BC-1E93E616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0B7-9C75-4224-8C6C-1BB5DEC0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7511-BD0B-4151-9E9C-F236C148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A6D7-F400-40A8-BBDD-6BB0CB4C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454D-789E-44D2-937F-E5681D68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33BE-24A8-40BE-B274-39F95E1C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8DC7-CE1A-4AE2-A3DE-0214F20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7310-CC81-40A9-8883-ED910DD1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8964-E8E3-4068-A0C1-D186850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CC6-0D48-4835-82CD-A1DA0B56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F6F-0821-4932-AA33-2BEAA48E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B2EB-DB65-4C15-8C2D-870DEFC5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0143-E7EB-4165-A0C4-21587850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52F-9290-41F7-BFED-94BB5040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FE3-309F-4E02-9542-3D253821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A22-3BE6-4B2E-9E0F-5D076177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5C3-F5ED-48FB-B7E2-9315CAC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A56-A8DF-470E-9B46-D13A02D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863-4127-44FA-AA87-328F234E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D94-B4B8-401F-8F53-AD29AFA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7E5-2CD0-489D-86BE-FD5821A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FE5-AEF2-4FC6-A8FC-B17B7B1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938B-CF18-4904-BD36-FC0C652B2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1C4D-AEF0-432D-94CF-DCB41056EF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«Современный урок: как научить учиться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806200"/>
            <a:ext cx="7772400" cy="33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«Мотивация и проблемы в обучении»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фьина К.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итель истории и общество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Интере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- вечный двигатель всех человеческих изысканий, неугасающий огонь пытливой души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падные психологи изучают мотивацию как верный путь достижения успеха тщательнее других проблем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. Карнег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утверждает, что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на свете есть только один способ побуди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людей что-то сделать; и он заключается в том, чтобы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заставить человека захотеть это сдела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Американский философ и педагог Д. Дьюи утверждае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что глубочайшим стремлением, присущим человеческой природе, является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«желание быть значительным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826920" y="1229040"/>
            <a:ext cx="7631640" cy="3421080"/>
            <a:chOff x="826920" y="1229040"/>
            <a:chExt cx="7631640" cy="3421080"/>
          </a:xfrm>
        </p:grpSpPr>
        <p:cxnSp>
          <p:nvCxnSpPr>
            <p:cNvPr id="105" name="_s24587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344920" y="1823400"/>
              <a:ext cx="649440" cy="2055960"/>
            </a:xfrm>
            <a:prstGeom prst="bentConnector3">
              <a:avLst>
                <a:gd name="adj1" fmla="val 18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4586"/>
            <p:cNvCxnSpPr>
              <a:stCxn id="109" idx="0"/>
              <a:endCxn id="107" idx="2"/>
            </p:cNvCxnSpPr>
            <p:nvPr/>
          </p:nvCxnSpPr>
          <p:spPr>
            <a:xfrm flipH="1" flipV="1" rot="5400000">
              <a:off x="3290400" y="1824120"/>
              <a:ext cx="649440" cy="2054880"/>
            </a:xfrm>
            <a:prstGeom prst="bentConnector3">
              <a:avLst>
                <a:gd name="adj1" fmla="val 18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4582"/>
            <p:cNvSpPr/>
            <p:nvPr/>
          </p:nvSpPr>
          <p:spPr>
            <a:xfrm>
              <a:off x="2881080" y="1229040"/>
              <a:ext cx="3522240" cy="1297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Личность име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две мотивационные систем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4583"/>
            <p:cNvSpPr/>
            <p:nvPr/>
          </p:nvSpPr>
          <p:spPr>
            <a:xfrm>
              <a:off x="826920" y="3176280"/>
              <a:ext cx="3522240" cy="1473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нутренняя мотив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Собствен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знавательный интере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4584"/>
            <p:cNvSpPr/>
            <p:nvPr/>
          </p:nvSpPr>
          <p:spPr>
            <a:xfrm>
              <a:off x="4936320" y="3176280"/>
              <a:ext cx="3522240" cy="1473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нешняя мотив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страх перед оценкой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наказание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213840"/>
            <a:ext cx="811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 и задачи  педсовет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знакомиться с   теорией вопроса  «мотивация »    (Силина И.Ю.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основе анализа  итогов  1 полугодия выявить причины  проблем, связанных с обучением и воспитанием  учащихся школы  (Мурзина Т.И. Урвачёва М.А.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анализировать  результаты диагностики учащихся по мотивации  (Силина И.Ю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основные направления работы педагогического коллектива школы по  развитию   внутренней мотивации учащихся. Принять соответствующие реш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604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Формирование мотивации ученика </a:t>
            </a:r>
            <a:br>
              <a:rPr sz="40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Совместная с детьми работа по осмыслению и принятию цели предстоящей деятельности и постановке учебных задач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Создание ситуации успеха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Создание атмосферы взаимопонимания и сотрудничества на уроке.                   - Использование познавательных и  дидактических игр, игровых технологий.     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- Вера учителя в возможности ученика.                                                                 - Стимулирование ученика к выбору и самостоятельному использованию  разных способов выполнения заданий без боязни ошибиться.                         -Оценка деятельности ученика не только по конечному результату, но и по процессу его достижения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932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Формирование познавательного интереса у учащихся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увлеченное преподава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новизна учебного материала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историзм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связь знаний с судьбами людей, их открывши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показ практического применения знаний в связи с жизненными планами и ориентациями учащихс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использование новых и нетрадиционных форм обуче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чередование форм и методов обуче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проблемное обуче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эвристическое обуче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использование интерактивных компьютерных средств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взаимообучение (в парах, микро группах)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тестирование ЗУН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показ достижений обучаемы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создание ситуаций успеха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соревнова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создание положительного микроклимата в групп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доверие к обучаемому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педагогический такт и мастерство педагога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положительное отношение педагога к своему предмету, к обучаемым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5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 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гуманизация межличностных отношений и д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т того каким путем учитель идет, зависит усвоение материала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ь профессор -5% усвоения матери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ь друг- 1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ь артист-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временный учитель для достижения наивысшего результата в учебной деятельности использует все три пу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62064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Учитель должен ориентировать ученика на успех его учебной или творческой деятельности, подбадривать его и сопереживать вместе с ни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9:41:13Z</dcterms:created>
  <dc:creator>XP GAME 2007</dc:creator>
  <dc:description/>
  <dc:language>en-US</dc:language>
  <cp:lastModifiedBy>Lenovo</cp:lastModifiedBy>
  <dcterms:modified xsi:type="dcterms:W3CDTF">2012-03-28T09:20:08Z</dcterms:modified>
  <cp:revision>34</cp:revision>
  <dc:subject/>
  <dc:title>Слайд 1</dc:title>
</cp:coreProperties>
</file>