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D2C9-3B3D-426C-B9EB-CB6F39540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25BA-2BF7-4F97-8152-EF2A6AD7D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9844-BBC5-48B5-BF21-5B7017709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56A4-BDBB-49D2-89E8-8FFE8A5CB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5554-C8E1-4E42-884C-3740A6FED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B610-5E6D-4D37-9518-7A020371E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EF46-5CEC-447B-99A8-E9047EBEB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4F7C-8257-4F48-89AD-F46631097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7D0A-843E-4C71-8039-753E3E16B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3AE3-1805-4816-B5D0-4F80F704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7DFF-F2DA-48F8-95E5-B35AF423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2E04-7758-4E7C-A5AB-1155501E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31B96-600B-4973-BAA2-E5B60CDAF6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14360" y="569700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Times New Roman"/>
                <a:ea typeface="Gulim"/>
              </a:rPr>
              <a:t>POPULATION GROW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5" descr=".infraware.PolarisOfficeForTablet/files/.polaris_temp/fImage3.jp"/>
          <p:cNvPicPr/>
          <p:nvPr/>
        </p:nvPicPr>
        <p:blipFill>
          <a:blip r:embed="rId1"/>
          <a:stretch/>
        </p:blipFill>
        <p:spPr>
          <a:xfrm>
            <a:off x="6480" y="0"/>
            <a:ext cx="91296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974520" y="1085760"/>
            <a:ext cx="7297560" cy="15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ko-KR" sz="3200" spc="-1" strike="noStrike">
                <a:solidFill>
                  <a:srgbClr val="000084"/>
                </a:solidFill>
                <a:latin typeface="Times New Roman"/>
                <a:ea typeface="Gulim"/>
              </a:rPr>
              <a:t>The presentation is made 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ko-KR" sz="3200" spc="-1" strike="noStrike">
                <a:solidFill>
                  <a:srgbClr val="000084"/>
                </a:solidFill>
                <a:latin typeface="Times New Roman"/>
                <a:ea typeface="Gulim"/>
              </a:rPr>
              <a:t>Veronica Shirobokova &amp; Irina Anisim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ko-KR" sz="4400" spc="-1" strike="noStrike">
                <a:solidFill>
                  <a:srgbClr val="9c3400"/>
                </a:solidFill>
                <a:latin typeface="Times New Roman"/>
                <a:ea typeface="Gulim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79040" y="1171080"/>
            <a:ext cx="8045640" cy="7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The term "population growth" refers to how the number of individuals in a population increases (or decreses) with time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259" descr="infraware.PolarisOfficeForTablet/files/.polaris_temp/fImage40.jp"/>
          <p:cNvPicPr/>
          <p:nvPr/>
        </p:nvPicPr>
        <p:blipFill>
          <a:blip r:embed="rId1"/>
          <a:stretch/>
        </p:blipFill>
        <p:spPr>
          <a:xfrm>
            <a:off x="1000080" y="2174760"/>
            <a:ext cx="7247160" cy="43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274320"/>
            <a:ext cx="85946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  <a:ea typeface="Gulim"/>
              </a:rPr>
              <a:t>Earth's population is increasing by 10 000 an hou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4000"/>
              </a:lnSpc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  <a:ea typeface="Gulim"/>
              </a:rPr>
              <a:t>The UN forecast is 9.3 billion by 205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517" descr="infraware.PolarisOfficeForTablet/files/.polaris_temp/fImage45.jp"/>
          <p:cNvPicPr/>
          <p:nvPr/>
        </p:nvPicPr>
        <p:blipFill>
          <a:blip r:embed="rId1"/>
          <a:stretch/>
        </p:blipFill>
        <p:spPr>
          <a:xfrm>
            <a:off x="2392200" y="1438200"/>
            <a:ext cx="4164120" cy="51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73" descr="infraware.PolarisOfficeForTablet/files/.polaris_temp/fImage45.jp"/>
          <p:cNvPicPr/>
          <p:nvPr/>
        </p:nvPicPr>
        <p:blipFill>
          <a:blip r:embed="rId1"/>
          <a:stretch/>
        </p:blipFill>
        <p:spPr>
          <a:xfrm>
            <a:off x="2200320" y="2741760"/>
            <a:ext cx="4549680" cy="40399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774"/>
          <p:cNvSpPr/>
          <p:nvPr/>
        </p:nvSpPr>
        <p:spPr>
          <a:xfrm>
            <a:off x="558720" y="1587600"/>
            <a:ext cx="8462880" cy="16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Overpopulation influences the climate change. More people require more energy. This energy is mostly produced by burning carbon-emitting fossil fuels, what causes a “green-house” eff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9000"/>
              </a:lnSpc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ko-KR" sz="4400" spc="-1" strike="noStrike">
                <a:solidFill>
                  <a:srgbClr val="0000ff"/>
                </a:solidFill>
                <a:latin typeface="Times New Roman"/>
                <a:ea typeface="Gulim"/>
              </a:rPr>
              <a:t>DANGEROUS CLIMATE CHANG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9000"/>
              </a:lnSpc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ko-KR" sz="4400" spc="-1" strike="noStrike">
                <a:solidFill>
                  <a:srgbClr val="3165ff"/>
                </a:solidFill>
                <a:latin typeface="Times New Roman"/>
                <a:ea typeface="Gulim"/>
              </a:rPr>
              <a:t>THIR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6560" y="1001880"/>
            <a:ext cx="8483760" cy="13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Each year, as the world population grows, demand for fresh water  increases. Now about 3 billion people suffer from lack of water and poor sanitation. 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259" descr="infraware.PolarisOfficeForTablet/files/.polaris_temp/fImage46.jp"/>
          <p:cNvPicPr/>
          <p:nvPr/>
        </p:nvPicPr>
        <p:blipFill>
          <a:blip r:embed="rId1"/>
          <a:stretch/>
        </p:blipFill>
        <p:spPr>
          <a:xfrm>
            <a:off x="1949400" y="2313000"/>
            <a:ext cx="562932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9000"/>
              </a:lnSpc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ko-KR" sz="4400" spc="-1" strike="noStrike">
                <a:solidFill>
                  <a:srgbClr val="00ff00"/>
                </a:solidFill>
                <a:latin typeface="Times New Roman"/>
                <a:ea typeface="Gulim"/>
              </a:rPr>
              <a:t>WILD LIFE VANIS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71120" y="1022400"/>
            <a:ext cx="7844040" cy="131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Human overpopulation is critical for wild life, as people in overpopulated areas invade the habitats and with the rise of poverty start to hunt illegally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771" descr="infraware.PolarisOfficeForTablet/files/.polaris_temp/fImage47.jp"/>
          <p:cNvPicPr/>
          <p:nvPr/>
        </p:nvPicPr>
        <p:blipFill>
          <a:blip r:embed="rId1"/>
          <a:stretch/>
        </p:blipFill>
        <p:spPr>
          <a:xfrm>
            <a:off x="1357200" y="2201760"/>
            <a:ext cx="6551640" cy="43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infraware.PolarisOfficeForTablet/files/.polaris_temp/fImage39.jp"/>
          <p:cNvPicPr/>
          <p:nvPr/>
        </p:nvPicPr>
        <p:blipFill>
          <a:blip r:embed="rId1"/>
          <a:stretch/>
        </p:blipFill>
        <p:spPr>
          <a:xfrm>
            <a:off x="1241280" y="2390760"/>
            <a:ext cx="6470640" cy="42782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4"/>
          <p:cNvSpPr/>
          <p:nvPr/>
        </p:nvSpPr>
        <p:spPr>
          <a:xfrm>
            <a:off x="595440" y="1262160"/>
            <a:ext cx="826740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As people need energy and food they cut forests for timber and wood, or burn them down to convert to farml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9000"/>
              </a:lnSpc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ko-KR" sz="4400" spc="-1" strike="noStrike">
                <a:solidFill>
                  <a:srgbClr val="008200"/>
                </a:solidFill>
                <a:latin typeface="Times New Roman"/>
                <a:ea typeface="Gulim"/>
              </a:rPr>
              <a:t>DEFORES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9000"/>
              </a:lnSpc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Times New Roman"/>
                <a:ea typeface="Gulim"/>
              </a:rPr>
              <a:t>W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17680" y="116316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Limited resources, especially energy, make people fight for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-765" descr="infraware.PolarisOfficeForTablet/files/.polaris_temp/fImage48.jp"/>
          <p:cNvPicPr/>
          <p:nvPr/>
        </p:nvPicPr>
        <p:blipFill>
          <a:blip r:embed="rId1"/>
          <a:stretch/>
        </p:blipFill>
        <p:spPr>
          <a:xfrm>
            <a:off x="1103400" y="2098800"/>
            <a:ext cx="6875280" cy="45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9000"/>
              </a:lnSpc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ko-KR" sz="4400" spc="-1" strike="noStrike">
                <a:solidFill>
                  <a:srgbClr val="ff00ff"/>
                </a:solidFill>
                <a:latin typeface="Times New Roman"/>
                <a:ea typeface="Gulim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65040" y="1052640"/>
            <a:ext cx="8220240" cy="115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Human overpopulation is one of the greatest dangers, that the Earth faces to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-253" descr="infraware.PolarisOfficeForTablet/files/.polaris_temp/fImage49.jp"/>
          <p:cNvPicPr/>
          <p:nvPr/>
        </p:nvPicPr>
        <p:blipFill>
          <a:blip r:embed="rId1"/>
          <a:stretch/>
        </p:blipFill>
        <p:spPr>
          <a:xfrm>
            <a:off x="1004760" y="2054160"/>
            <a:ext cx="714060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11-13T07:11:18Z</dcterms:modified>
  <cp:revision>3</cp:revision>
  <dc:subject/>
  <dc:title>POPULATION GROWTH</dc:title>
</cp:coreProperties>
</file>