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34609-A1D5-4D6D-8D27-C33F42571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A220C-3A2D-4510-A13C-B41ABCBBA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2AC2F-3AAB-4683-A2AA-A51D7D538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9E40A-ABC6-4D06-BFF5-A5448255D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262BB-7839-477C-A74B-5964997EE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EB597-F816-40EE-9862-A194258A3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50DA5-4385-4B28-829E-882068478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73308-DE49-4EBA-AD5F-717440511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3B134-844A-414E-BCCA-4D90F7B62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3A314-94A4-4193-8F95-604404961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4616A-6E45-46AB-8997-C4969BDA6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3451B-BDFF-47CF-8E8C-B46B0A5DC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79B2D-967A-4C0F-800A-EF7B38F54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CF46D-7948-43C2-B741-9984B12A1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70D02-2B06-49E5-B251-A411A170C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B801A-9049-47BF-A2F4-6FF113A87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25ED1-583C-4C6F-BD8C-0ABCB52C9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50E225-576A-48C7-828D-2D4F147A0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B4C4E5-4B03-41F9-A601-548F63151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23E8D8-6DF0-4EA4-80D6-0BA9BC7E3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8943EE-F292-461A-9AC2-21FD088BF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5DB3AB-23EC-47B6-9799-90F019EEB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553EA-CCC5-4B70-9F7C-D3F8C9794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1C7F2B-6D62-46A8-8CA7-C45C23C98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2DD654-B4C5-4DD2-81AE-94C0418BF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DE49C0-B570-428E-9242-12D1D2D4E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AC6E26-F31D-43E6-AF83-4765CFE63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FFFC2D-746B-4E39-80C8-81A6A9EBE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0F83E5-5F28-4768-8927-6ABFDB996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72658B-D325-4308-AB90-677EB3938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2B0D80-14E0-451B-8C67-9FADA7661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2E6F09-B368-4FA2-87E3-726097AB6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4D4825-55DB-4D9D-BA99-3D56899BB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C9B4C-24B1-4191-85B1-DD9635A04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3D3C5A-63A8-442E-92CC-98C1FB709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8886DF-D40B-434D-AC75-16E279DFE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F48869-08D8-4FB8-A1BA-1A35AF2D3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27A626-B667-4EAF-BEA9-533072561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40E93F-1EB2-40E0-B807-A5B6B75CD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0E7F91-67F5-49A5-AA50-25BE93719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94084A-C694-41CF-A12D-CB6A9E2AD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7227AC-02BD-4972-B926-03BA0FD87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EE66E0-A365-4DA1-A49D-6200FC7FA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814A09-5093-422D-99CD-5587BF69D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63F4A-1057-43C1-8EBE-2139F930D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7C7304-F7A9-41E4-A11B-9F39C975D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77F74C-315B-42BB-92CB-0731A3466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A78201-7398-40D4-A38A-BDF8B64DF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9DED2A-9339-420E-A0C6-634977B71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052DA3-A974-4014-9063-ACE8330E0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9C554D-318D-48ED-83CA-35B7E0662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DB0E3D-FFDC-4440-949A-66EAE5A79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1B2CF0-3E6D-4469-BB84-86D13AF43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E09F62-AD2C-4FE0-9BF3-255B7EB06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A14BB1-94CC-48B7-A899-60F9460D9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BA368-3232-458D-B11A-3F2597E5A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036CFE-2343-4977-99D7-98C53CD61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C9324A-F881-4209-9F69-B3CAB42A8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96B62C-9663-492E-AF76-8CDC90BB7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543B67-2D33-42FE-920E-7AF28F39D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F95E7B-5838-40A9-968C-78EDD6E1C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E1EEDA-A58C-4397-B91B-266B9ABEC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50C51F-9152-4CCD-9F85-AB9B5365E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B587DC-58FB-43D1-9294-AFA6BD2E2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363C5F-81CC-46E1-9067-0CB8D99B0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E16EF9-58E2-4C90-98CF-15F9D26B0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CC8CF-BDC9-4E2D-A400-4766913F3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3D07B8-38C3-4E52-B6D5-56E66FFBD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629272-3438-4AB0-A521-63CE4760F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224006-99D6-483E-97A4-249B9FA15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B23A6-E724-45FE-A298-955478FB7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D0D9D-20C5-4595-81B5-B05E9705D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олилиния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D164B-D786-4DA3-A68A-A0396B433252}" type="slidenum">
              <a:rPr b="0" lang="ru-RU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олилиния 10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Полилиния 12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DCB7C-81ED-4AD1-95C0-D7E4D81CB6CD}" type="slidenum">
              <a:rPr b="0" lang="ru-RU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олилиния 10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Полилиния 12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ADFA2-6181-4C13-A6D4-4195BC2FB25F}" type="slidenum">
              <a:rPr b="0" lang="ru-RU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BF801-1E05-494B-879D-23741180802D}" type="slidenum">
              <a:rPr b="0" lang="ru-RU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Полилиния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Полилиния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76579-ECEE-4FDF-B27C-200948589C6A}" type="slidenum">
              <a:rPr b="0" lang="ru-RU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F245B-1A56-40EF-90E9-E117C62263AC}" type="slidenum">
              <a:rPr b="0" lang="ru-RU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s58.radikal.ru/i161/0903/5b/f22b90515f6d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Picture 2" descr="http://crowded-house.narod.ru/monument/images/nos.jpg"/>
          <p:cNvPicPr/>
          <p:nvPr/>
        </p:nvPicPr>
        <p:blipFill>
          <a:blip r:embed="rId1"/>
          <a:stretch/>
        </p:blipFill>
        <p:spPr>
          <a:xfrm>
            <a:off x="857160" y="372960"/>
            <a:ext cx="7215120" cy="6224760"/>
          </a:xfrm>
          <a:prstGeom prst="rect">
            <a:avLst/>
          </a:prstGeom>
          <a:ln w="0">
            <a:noFill/>
          </a:ln>
        </p:spPr>
      </p:pic>
    </p:spTree>
  </p:cSld>
  <p:transition>
    <p:pull dir="l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000320" y="0"/>
            <a:ext cx="5143320" cy="4929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100"/>
            </a:br>
            <a:br>
              <a:rPr sz="4100"/>
            </a:br>
            <a:br>
              <a:rPr sz="4100"/>
            </a:br>
            <a:br>
              <a:rPr sz="4100"/>
            </a:br>
            <a:br>
              <a:rPr sz="4100"/>
            </a:br>
            <a:r>
              <a:rPr b="0" lang="ru-RU" sz="3600" spc="-1" strike="noStrike">
                <a:solidFill>
                  <a:srgbClr val="ffffff"/>
                </a:solidFill>
                <a:latin typeface="Franklin Gothic Book"/>
              </a:rPr>
              <a:t>    </a:t>
            </a:r>
            <a:r>
              <a:rPr b="0" lang="ru-RU" sz="4800" spc="-1" strike="noStrike">
                <a:solidFill>
                  <a:srgbClr val="ffffff"/>
                </a:solidFill>
                <a:latin typeface="Franklin Gothic Book"/>
              </a:rPr>
              <a:t>Соединение      трагического и                      комического в судьбе гоголевских героев. </a:t>
            </a:r>
            <a:br>
              <a:rPr sz="4800"/>
            </a:br>
            <a:r>
              <a:rPr b="0" lang="ru-RU" sz="4800" spc="-1" strike="noStrike">
                <a:solidFill>
                  <a:srgbClr val="ffffff"/>
                </a:solidFill>
                <a:latin typeface="Franklin Gothic Book"/>
              </a:rPr>
              <a:t>Повесть «Нос». </a:t>
            </a:r>
            <a:br>
              <a:rPr sz="6000"/>
            </a:br>
            <a:endParaRPr b="0" lang="en-US" sz="48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56" name="Picture 8" descr="Картинка 1 из 135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857160"/>
            <a:ext cx="3786120" cy="45007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8229600" cy="64292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Franklin Gothic Book"/>
              </a:rPr>
              <a:t>Коллежский асессор Ковалев проснулся довольно рано… потянулся, приказал себе подать небольшое стоявшее на стене зеркало. Он хотел взглянуть на прыщик, который вчерашнего вечера вскочил у него на носу; но, к величайшему изумлению, увидел, что у него вместо носа совершенно гладкое место!</a:t>
            </a:r>
            <a:br>
              <a:rPr sz="2400"/>
            </a:br>
            <a:r>
              <a:rPr b="0" i="1" lang="ru-RU" sz="2400" spc="-1" strike="noStrike">
                <a:solidFill>
                  <a:srgbClr val="ffffff"/>
                </a:solidFill>
                <a:latin typeface="Franklin Gothic Book"/>
              </a:rPr>
              <a:t> 2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Franklin Gothic Book"/>
              </a:rPr>
              <a:t> </a:t>
            </a:r>
            <a:r>
              <a:rPr b="0" i="1" lang="ru-RU" sz="2400" spc="-1" strike="noStrike">
                <a:solidFill>
                  <a:srgbClr val="ffffff"/>
                </a:solidFill>
                <a:latin typeface="Franklin Gothic Book"/>
              </a:rPr>
              <a:t>Вы посудите, в самом деле, как же мне быть без такой заметной части тела? Это не то, что какой-нибудь мизинный палец на ноге, которую я в сапог – и никто не увидит, если его нет. Я бываю по четвергам у статской советницы Чехтаревой; Подточина Палагея Григорьевна, штаб-офицерша, … и вы посудите сами, как же мне теперь… Мне теперь к ним нельзя явиться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229600" cy="6072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br>
              <a:rPr sz="2500"/>
            </a:br>
            <a:r>
              <a:rPr b="0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br>
              <a:rPr sz="2800"/>
            </a:b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i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айор Ковалев прибыл в Петербург … искать приличного своему званию места: если удастся, то вице-губернаторского, а не то – экзекуторского в каком-нибудь видном департаменте.</a:t>
            </a:r>
            <a:br>
              <a:rPr sz="32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0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Экзекутор – чиновник в присутственном месте, на котором лежали полицейские и хозяйственные обязанности.</a:t>
            </a:r>
            <a:br>
              <a:rPr sz="2800"/>
            </a:br>
            <a:r>
              <a:rPr b="0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 Вице – первая часть сложного слова со значением «заместитель», «помощник».</a:t>
            </a:r>
            <a:br>
              <a:rPr sz="2800"/>
            </a:br>
            <a:r>
              <a:rPr b="0" i="1" lang="ru-RU" sz="2800" spc="-1" strike="noStrike">
                <a:solidFill>
                  <a:srgbClr val="ffffff"/>
                </a:solidFill>
                <a:latin typeface="Franklin Gothic Book"/>
              </a:rPr>
              <a:t> </a:t>
            </a:r>
            <a:br>
              <a:rPr sz="2800"/>
            </a:br>
            <a:r>
              <a:rPr b="0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r>
              <a:rPr b="0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  <p:transition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00040" y="142560"/>
            <a:ext cx="8229600" cy="368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АБЕЛЬ О РАНГАХ</a:t>
            </a:r>
            <a:endParaRPr b="0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graphicFrame>
        <p:nvGraphicFramePr>
          <p:cNvPr id="260" name=""/>
          <p:cNvGraphicFramePr/>
          <p:nvPr/>
        </p:nvGraphicFramePr>
        <p:xfrm>
          <a:off x="357120" y="500040"/>
          <a:ext cx="8501040" cy="6010200"/>
        </p:xfrm>
        <a:graphic>
          <a:graphicData uri="http://schemas.openxmlformats.org/drawingml/2006/table">
            <a:tbl>
              <a:tblPr/>
              <a:tblGrid>
                <a:gridCol w="928800"/>
                <a:gridCol w="3571920"/>
                <a:gridCol w="40003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ласс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ea0b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Гражданские чины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ea0b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оенные чины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ea0b0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нцлер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енерал-фельдмаршал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</a:tr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йствительный Тайный Советник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енерал от кавалерии; и т.п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айный Советник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енерал-лейтенант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йствительный Статский Советник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енерал-майор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тский Советник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ригадир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лежский Советник; 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енный Советник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ковник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дворный Советник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полковник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лежский асессор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йор (до 1884г.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итулярный советник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питан; ротмистр (кавалерия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лежский секретарь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бс-капитан; штабс-ротмистр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рабельный секретарь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убернский секретарь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ручик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натский секретар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поручик; корнет (кавалерия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лежский регистратор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апорщик (с 1884г.) только в военное врем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</a:tr>
            </a:tbl>
          </a:graphicData>
        </a:graphic>
      </p:graphicFrame>
    </p:spTree>
  </p:cSld>
  <p:transition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0040" y="214200"/>
            <a:ext cx="8229600" cy="6429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Franklin Gothic Book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Franklin Gothic Book"/>
              </a:rPr>
              <a:t>4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Franklin Gothic Book"/>
              </a:rPr>
              <a:t> </a:t>
            </a:r>
            <a:r>
              <a:rPr b="0" i="1" lang="ru-RU" sz="4000" spc="-1" strike="noStrike">
                <a:solidFill>
                  <a:srgbClr val="ffffff"/>
                </a:solidFill>
                <a:latin typeface="Franklin Gothic Book"/>
              </a:rPr>
              <a:t>Ковалев…два года только еще состоял в этом звании и потому ни на минуту не мог его позабыть; а чтобы более придать себе благородства и веса, он никогда не называл себя коллежским асессором, но всегда майором.</a:t>
            </a: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  <p:transition>
    <p:wipe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00040" y="142920"/>
            <a:ext cx="8229600" cy="6500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r>
              <a:rPr b="0" i="1" lang="ru-RU" sz="2400" spc="-1" strike="noStrike">
                <a:solidFill>
                  <a:srgbClr val="ffffff"/>
                </a:solidFill>
                <a:latin typeface="Franklin Gothic Book"/>
              </a:rPr>
              <a:t>5</a:t>
            </a:r>
            <a:br>
              <a:rPr sz="2400"/>
            </a:br>
            <a:r>
              <a:rPr b="0" i="1" lang="ru-RU" sz="2400" spc="-1" strike="noStrike">
                <a:solidFill>
                  <a:srgbClr val="ffffff"/>
                </a:solidFill>
                <a:latin typeface="Franklin Gothic Book"/>
              </a:rPr>
              <a:t> Нужно заметить, что Ковалев был чрезвычайно обидчивый человек. Он мог простить всё, что ни говорили о нем самом, но никак не извинял, если это относилось к чину или званию.</a:t>
            </a:r>
            <a:br>
              <a:rPr sz="2400"/>
            </a:br>
            <a:r>
              <a:rPr b="0" i="1" lang="ru-RU" sz="2400" spc="-1" strike="noStrike">
                <a:solidFill>
                  <a:srgbClr val="ffffff"/>
                </a:solidFill>
                <a:latin typeface="Franklin Gothic Book"/>
              </a:rPr>
              <a:t> 6</a:t>
            </a:r>
            <a:br>
              <a:rPr sz="2400"/>
            </a:br>
            <a:r>
              <a:rPr b="0" i="1" lang="ru-RU" sz="2400" spc="-1" strike="noStrike">
                <a:solidFill>
                  <a:srgbClr val="ffffff"/>
                </a:solidFill>
                <a:latin typeface="Franklin Gothic Book"/>
              </a:rPr>
              <a:t> Вдруг он стал как вкопанный у дверей одного дома; в глазах его произошло явление необъяснимое: перед подъездом остановилась карета; дверцы отворились; выпрыгнул, согнувшись, господин в мундире и побежал вверх по лестнице. Каков же был ужас и вместе изумление Ковалева, когда он узнал, что это был собственный его нос! ... Он был в мундире, шитом золотом, с большим стоячим воротником; на нем были замшевые панталоны; при боку шпага. По шляпе с плюмажем можно было заключить, что он считался в ранге статского советника.  </a:t>
            </a:r>
            <a:br>
              <a:rPr sz="2400"/>
            </a:br>
            <a:r>
              <a:rPr b="0" i="1" lang="ru-RU" sz="2400" spc="-1" strike="noStrike">
                <a:solidFill>
                  <a:srgbClr val="ffffff"/>
                </a:solidFill>
                <a:latin typeface="Franklin Gothic Book"/>
              </a:rPr>
              <a:t> </a:t>
            </a:r>
            <a:br>
              <a:rPr sz="2400"/>
            </a:br>
            <a:r>
              <a:rPr b="0" i="1" lang="ru-RU" sz="2400" spc="-1" strike="noStrike">
                <a:solidFill>
                  <a:srgbClr val="ffffff"/>
                </a:solidFill>
                <a:latin typeface="Franklin Gothic Book"/>
              </a:rPr>
              <a:t> 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  <p:transition>
    <p:zoom dir="in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707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Franklin Gothic Book"/>
              </a:rPr>
              <a:t>Иллюстрации С. Алимова к повести Н. В. Гоголя «Нос»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64" name="Picture 2" descr="C:\Documents and Settings\Admin\Рабочий стол\нос\сканирование0001.jpg"/>
          <p:cNvPicPr/>
          <p:nvPr/>
        </p:nvPicPr>
        <p:blipFill>
          <a:blip r:embed="rId1"/>
          <a:stretch/>
        </p:blipFill>
        <p:spPr>
          <a:xfrm>
            <a:off x="642960" y="1714680"/>
            <a:ext cx="3571920" cy="493380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3" descr="C:\Documents and Settings\Admin\Рабочий стол\нос\сканирование0002.jpg"/>
          <p:cNvPicPr/>
          <p:nvPr/>
        </p:nvPicPr>
        <p:blipFill>
          <a:blip r:embed="rId2"/>
          <a:stretch/>
        </p:blipFill>
        <p:spPr>
          <a:xfrm>
            <a:off x="5286240" y="1714680"/>
            <a:ext cx="3500640" cy="48672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8T13:15:52Z</dcterms:created>
  <dc:creator>Admin</dc:creator>
  <dc:description/>
  <dc:language>en-US</dc:language>
  <cp:lastModifiedBy>Денис</cp:lastModifiedBy>
  <dcterms:modified xsi:type="dcterms:W3CDTF">2011-08-17T19:18:40Z</dcterms:modified>
  <cp:revision>48</cp:revision>
  <dc:subject/>
  <dc:title> Н.В.  ГОГОЛЬ. Повесть «Нос» </dc:title>
</cp:coreProperties>
</file>