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3B30-E580-48A0-9CE4-4EF9509CA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A2C2-CAF7-46B2-81D5-BD1BF07F4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C75E-6647-45D3-9D0C-D786F6E9A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0BC2-27BB-4FAF-AEE6-4B4B10DF8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-141120"/>
            <a:ext cx="822312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805E-37B9-4678-BEA5-287CB7116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A01F-933A-4906-9E2F-6D5AC6F7F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1413-23CF-44BF-8259-C3BB2A623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475C-712F-4AA2-BF95-6C30C2805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-141120"/>
            <a:ext cx="8223120" cy="91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1CDB-E572-44A3-9B7C-CBFB12B00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A010-1775-487D-9E06-4E18EE89F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2735-5AF7-4A00-BA6A-85604F57C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627D-DDA1-48BD-8631-99E414414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68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476478-A19A-484D-A2F4-EF1BE6AE87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557280" y="6378480"/>
            <a:ext cx="8083440" cy="180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2"/>
          <p:cNvSpPr/>
          <p:nvPr/>
        </p:nvSpPr>
        <p:spPr>
          <a:xfrm>
            <a:off x="557280" y="1154160"/>
            <a:ext cx="808344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57280" y="6485040"/>
            <a:ext cx="233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723080" y="6454800"/>
            <a:ext cx="99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FB20-AB9F-445E-85EA-46C4F1D39D3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617400" y="422280"/>
            <a:ext cx="55908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82640" y="258840"/>
            <a:ext cx="55872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977760" y="520560"/>
            <a:ext cx="559080" cy="55908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743040" indent="-2858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143000" indent="-228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1600200" indent="-228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2057400" indent="-228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2057400" indent="-228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2057400" indent="-228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50920" y="0"/>
            <a:ext cx="779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Times New Roman"/>
              </a:rPr>
              <a:t>Муниципальное общео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80"/>
                </a:solidFill>
                <a:latin typeface="Times New Roman"/>
              </a:rPr>
              <a:t>«Турунтаевская районная гимназ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720720" y="1465200"/>
            <a:ext cx="759132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овый государственный стандарт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е революция, не иннова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а развитие лучших тради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ечественн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Александр Конда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9440" y="48240"/>
            <a:ext cx="339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0160" y="48240"/>
            <a:ext cx="335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520" y="-41544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F:\первоклассники 2007 041.jpg"/>
          <p:cNvPicPr/>
          <p:nvPr/>
        </p:nvPicPr>
        <p:blipFill>
          <a:blip r:embed="rId1"/>
          <a:stretch/>
        </p:blipFill>
        <p:spPr>
          <a:xfrm>
            <a:off x="285840" y="1357200"/>
            <a:ext cx="5143320" cy="4000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itstream Vera Serif"/>
              </a:rPr>
              <a:t>Риторика  (Чиркова Г.Г.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7-конечная звезда 3"/>
          <p:cNvSpPr/>
          <p:nvPr/>
        </p:nvSpPr>
        <p:spPr>
          <a:xfrm>
            <a:off x="4786200" y="2143080"/>
            <a:ext cx="4572000" cy="4714920"/>
          </a:xfrm>
          <a:prstGeom prst="pi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msmincho"/>
              </a:rPr>
              <a:t>Осознание общечеловеческих ценностей (общаюсь так, как хотел бы чтобы общались со мно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msmincho"/>
              </a:rPr>
              <a:t>Поиск разных вариантов одной и той же зада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:\логика.jpg"/>
          <p:cNvPicPr/>
          <p:nvPr/>
        </p:nvPicPr>
        <p:blipFill>
          <a:blip r:embed="rId1"/>
          <a:stretch/>
        </p:blipFill>
        <p:spPr>
          <a:xfrm>
            <a:off x="4000680" y="3000240"/>
            <a:ext cx="4519440" cy="3389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itstream Vera Serif"/>
              </a:rPr>
              <a:t>Логика  (Ищенко В.И.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Выноска-облако 4"/>
          <p:cNvSpPr/>
          <p:nvPr/>
        </p:nvSpPr>
        <p:spPr>
          <a:xfrm>
            <a:off x="0" y="1214280"/>
            <a:ext cx="4572000" cy="3143520"/>
          </a:xfrm>
          <a:prstGeom prst="cloudCallout">
            <a:avLst>
              <a:gd name="adj1" fmla="val 46296"/>
              <a:gd name="adj2" fmla="val 4101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msmincho"/>
              </a:rPr>
              <a:t>Развитие внимания, умения сравнивать, анализировать, синтезиров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F:\матем. конструирование в 5 кл. (8).JPG"/>
          <p:cNvPicPr/>
          <p:nvPr/>
        </p:nvPicPr>
        <p:blipFill>
          <a:blip r:embed="rId1"/>
          <a:stretch/>
        </p:blipFill>
        <p:spPr>
          <a:xfrm>
            <a:off x="357120" y="1428840"/>
            <a:ext cx="5000760" cy="4357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14560" y="-357120"/>
            <a:ext cx="889452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itstream Vera Serif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Bitstream Vera Serif"/>
              </a:rPr>
              <a:t>Математическое конструировани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Bitstream Vera Serif"/>
              </a:rPr>
              <a:t>( Аникьева Н.М.)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Блок-схема: процесс 3"/>
          <p:cNvSpPr/>
          <p:nvPr/>
        </p:nvSpPr>
        <p:spPr>
          <a:xfrm>
            <a:off x="6000840" y="3571920"/>
            <a:ext cx="2857320" cy="2928960"/>
          </a:xfrm>
          <a:prstGeom prst="flowChartProcess">
            <a:avLst/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itstream Vera Serif"/>
              </a:rPr>
              <a:t>Развитие пространственного воображения, способностей вариативного мыш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8840" y="-243000"/>
            <a:ext cx="72072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itstream Vera Serif"/>
              </a:rPr>
              <a:t>Проблемы, которые нужно решить: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00712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Значительное обновления материально-технической базы и учебного оборудования школы.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1219320" y="1676520"/>
            <a:ext cx="6705360" cy="373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f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79280" y="0"/>
            <a:ext cx="8962920" cy="6903720"/>
            <a:chOff x="179280" y="0"/>
            <a:chExt cx="8962920" cy="690372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6975720" y="952200"/>
              <a:ext cx="216648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" descr=""/>
            <p:cNvPicPr/>
            <p:nvPr/>
          </p:nvPicPr>
          <p:blipFill>
            <a:blip r:embed="rId2"/>
            <a:stretch/>
          </p:blipFill>
          <p:spPr>
            <a:xfrm>
              <a:off x="771120" y="4364640"/>
              <a:ext cx="1720440" cy="14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"/>
            <p:cNvPicPr/>
            <p:nvPr/>
          </p:nvPicPr>
          <p:blipFill>
            <a:blip r:embed="rId3"/>
            <a:stretch/>
          </p:blipFill>
          <p:spPr>
            <a:xfrm>
              <a:off x="179280" y="1983600"/>
              <a:ext cx="1322280" cy="15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"/>
            <p:cNvPicPr/>
            <p:nvPr/>
          </p:nvPicPr>
          <p:blipFill>
            <a:blip r:embed="rId4"/>
            <a:stretch/>
          </p:blipFill>
          <p:spPr>
            <a:xfrm>
              <a:off x="6580800" y="4205880"/>
              <a:ext cx="1825200" cy="16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7" descr=""/>
            <p:cNvPicPr/>
            <p:nvPr/>
          </p:nvPicPr>
          <p:blipFill>
            <a:blip r:embed="rId5"/>
            <a:stretch/>
          </p:blipFill>
          <p:spPr>
            <a:xfrm>
              <a:off x="3625200" y="0"/>
              <a:ext cx="226620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" descr=""/>
            <p:cNvPicPr/>
            <p:nvPr/>
          </p:nvPicPr>
          <p:blipFill>
            <a:blip r:embed="rId6"/>
            <a:stretch/>
          </p:blipFill>
          <p:spPr>
            <a:xfrm>
              <a:off x="1361880" y="158400"/>
              <a:ext cx="1466280" cy="13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"/>
            <p:cNvPicPr/>
            <p:nvPr/>
          </p:nvPicPr>
          <p:blipFill>
            <a:blip r:embed="rId7"/>
            <a:stretch/>
          </p:blipFill>
          <p:spPr>
            <a:xfrm>
              <a:off x="3429720" y="4999680"/>
              <a:ext cx="2261520" cy="190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10"/>
          <p:cNvSpPr/>
          <p:nvPr/>
        </p:nvSpPr>
        <p:spPr>
          <a:xfrm>
            <a:off x="1828800" y="2209680"/>
            <a:ext cx="5486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деятельности по введению ФГОС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1.Ознакомитель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.Аналитическ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3. Проектирово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6"/>
          <p:cNvSpPr txBox="1"/>
          <p:nvPr/>
        </p:nvSpPr>
        <p:spPr>
          <a:xfrm>
            <a:off x="395280" y="549360"/>
            <a:ext cx="637236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6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2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785960" y="21420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omic"/>
              </a:rPr>
              <a:t>Система развивающего обучения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comic"/>
              </a:rPr>
              <a:t>Л. В. Зан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285840" y="1428840"/>
            <a:ext cx="3786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Один шаг в обучении может означать сто шагов в развит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Л.С. Выгот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4071960" y="22147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44360" y="1417680"/>
            <a:ext cx="84963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кажи мне, и я забуду, покажи мне, и я запомню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дай мне действовать самому, и я научусь</a:t>
            </a:r>
            <a:r>
              <a:rPr b="0" lang="ru-RU" sz="36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1857240" y="2858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Times New Roman"/>
              </a:rPr>
              <a:t>Муниципаль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80"/>
                </a:solidFill>
                <a:latin typeface="Times New Roman"/>
              </a:rPr>
              <a:t>«Турунтаевская районная гимназ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C:\Documents and Settings\Администратор\Рабочий стол\учителя\чиркова н.в\Посв в 1классники\IMG_9938.JPG"/>
          <p:cNvPicPr/>
          <p:nvPr/>
        </p:nvPicPr>
        <p:blipFill>
          <a:blip r:embed="rId1"/>
          <a:stretch/>
        </p:blipFill>
        <p:spPr>
          <a:xfrm rot="406200">
            <a:off x="5839920" y="3887280"/>
            <a:ext cx="3079800" cy="231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Documents and Settings\Администратор\Рабочий стол\учителя\чиркова н.в\Посв в 1классники\IMG_9994.JPG"/>
          <p:cNvPicPr/>
          <p:nvPr/>
        </p:nvPicPr>
        <p:blipFill>
          <a:blip r:embed="rId2"/>
          <a:stretch/>
        </p:blipFill>
        <p:spPr>
          <a:xfrm rot="20243400">
            <a:off x="3400200" y="3033360"/>
            <a:ext cx="2367000" cy="177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 rot="20806200">
            <a:off x="1108080" y="4114440"/>
            <a:ext cx="246708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71720" y="785880"/>
          <a:ext cx="6715080" cy="5118120"/>
        </p:xfrm>
        <a:graphic>
          <a:graphicData uri="http://schemas.openxmlformats.org/drawingml/2006/table">
            <a:tbl>
              <a:tblPr/>
              <a:tblGrid>
                <a:gridCol w="857160"/>
                <a:gridCol w="2200320"/>
                <a:gridCol w="922320"/>
                <a:gridCol w="922320"/>
                <a:gridCol w="1812960"/>
              </a:tblGrid>
              <a:tr h="4147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Наименование основных раздел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Обязательная часть(8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Вариативная часть (2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Максимальна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учебная нагруз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msmincho"/>
                        </a:rPr>
                        <a:t>Образовательные облас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Русский язы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2 (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65 (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Литературное чте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06 (3.3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6 (0.7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2 (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Матема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06 (3.3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6 (0.7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2 (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Окружающий ми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53 (1.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 (0.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6 (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Музы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7 (0.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 (0.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з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7 (0.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 (0.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Технолог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7 (0.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 (0.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Физическая культу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53 (1.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 (0.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6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Ритм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7 (0.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 (0.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558 (17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5 (4.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93 (2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msmincho"/>
                        </a:rPr>
                        <a:t>Предметные области во внеурочной деятельнос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58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ндивидуальные занятия/консульт/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--------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тоговая рефлекс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---------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66(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Двигательная актив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---------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8(0,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Проектная 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-------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8(0,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35(4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msmincho"/>
                        </a:rPr>
                        <a:t>Внеучебная образовательная 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Домашние зада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85 (2.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768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Математическое конструир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351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Ритор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Хочу все знать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6776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Классная рефлекс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33 (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6812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84 (5.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184 (5.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Всего по план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mincho"/>
                        </a:rPr>
                        <a:t>8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22" name="Rectangle 1"/>
          <p:cNvSpPr/>
          <p:nvPr/>
        </p:nvSpPr>
        <p:spPr>
          <a:xfrm>
            <a:off x="571680" y="319320"/>
            <a:ext cx="76435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ебный план  на 2011-2012 уч. год 1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223120" cy="22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itstream Vera Serif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3000"/>
          </a:bodyPr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Математическое конструирование;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Логика;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Риторика;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Развивающий час;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Шахматы;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Исследовательский час.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18960" indent="-3189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itstream Vera Serif"/>
              </a:rPr>
              <a:t>Ритмика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нача школа предм доп образования 023.jpg"/>
          <p:cNvPicPr/>
          <p:nvPr/>
        </p:nvPicPr>
        <p:blipFill>
          <a:blip r:embed="rId1"/>
          <a:stretch/>
        </p:blipFill>
        <p:spPr>
          <a:xfrm>
            <a:off x="1143000" y="1452600"/>
            <a:ext cx="3483000" cy="464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itstream Vera Serif"/>
              </a:rPr>
              <a:t>ШАХМАТЫ (Ткачева Н.К.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56840"/>
            <a:ext cx="42577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-3430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1604520"/>
            <a:ext cx="40352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lvl="1" marL="743040" indent="-285840">
              <a:lnSpc>
                <a:spcPct val="98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нировка логического мышления, памяти, наблюдательности, внимания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9" name="Picture 2" descr="F:\нача школа предм доп образования 026.jpg"/>
          <p:cNvPicPr/>
          <p:nvPr/>
        </p:nvPicPr>
        <p:blipFill>
          <a:blip r:embed="rId2"/>
          <a:stretch/>
        </p:blipFill>
        <p:spPr>
          <a:xfrm>
            <a:off x="5357880" y="357192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41120"/>
            <a:ext cx="822312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tstream Vera Serif"/>
              </a:rPr>
              <a:t>Играем в шахмат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1" name="Picture 2" descr="C:\Documents and Settings\Админ\Рабочий стол\нач школа\шахматы на ком-пе 009.jpg"/>
          <p:cNvPicPr/>
          <p:nvPr/>
        </p:nvPicPr>
        <p:blipFill>
          <a:blip r:embed="rId1"/>
          <a:stretch/>
        </p:blipFill>
        <p:spPr>
          <a:xfrm>
            <a:off x="785880" y="1643040"/>
            <a:ext cx="7429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первоклассники 2007 034.jpg"/>
          <p:cNvPicPr/>
          <p:nvPr/>
        </p:nvPicPr>
        <p:blipFill>
          <a:blip r:embed="rId1"/>
          <a:stretch/>
        </p:blipFill>
        <p:spPr>
          <a:xfrm>
            <a:off x="3857760" y="264312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itstream Vera Serif"/>
              </a:rPr>
              <a:t>Развивающий час  (Петрова Л.А.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Пятно 1 3"/>
          <p:cNvSpPr/>
          <p:nvPr/>
        </p:nvSpPr>
        <p:spPr>
          <a:xfrm>
            <a:off x="0" y="1071720"/>
            <a:ext cx="4929120" cy="42861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itstream Vera Serif"/>
              </a:rPr>
              <a:t>Развитие дивергентного мышления(разрушение шаблонных стереотипов и ограничений, большей свободы выбора в решении проблем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18:01Z</dcterms:created>
  <dc:creator>Admin</dc:creator>
  <dc:description/>
  <dc:language>en-US</dc:language>
  <cp:lastModifiedBy>1</cp:lastModifiedBy>
  <dcterms:modified xsi:type="dcterms:W3CDTF">2005-12-31T17:27:46Z</dcterms:modified>
  <cp:revision>36</cp:revision>
  <dc:subject/>
  <dc:title>Деятельностный подход в обучении и воспитании</dc:title>
</cp:coreProperties>
</file>