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EA0-B2A8-4735-A63C-D5A40091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02F-89C2-4693-B42A-3E72BD5B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778-5E29-4BB8-8C05-330B19BD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1D1-944A-46C7-90CD-BFCD578A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816-72A4-4840-94F8-98969934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C5B-5808-4C76-BDB5-8E2FE38E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ECE-36A3-4EFF-ADAD-35DA0D3A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B75-3F7D-4050-9AC9-AF50F1A3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551-C229-4B3F-9554-076CBED9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E32-AA39-4B55-BB27-EDFE633F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FE8-C022-4EC3-A60A-4283B9E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183-35B3-4326-92B7-6B5C394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A50B-2CDC-4A03-8523-5C1715DFD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20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image" Target="../media/image17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9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115920"/>
            <a:ext cx="6400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Исследовательская работ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700280"/>
            <a:ext cx="84488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" Доходы и расходы семьи.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Стоимость жизни "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4211640" y="3068640"/>
            <a:ext cx="468000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Работу 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группа учеников 7А   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МОУ «СОШ №10 с. </a:t>
            </a:r>
            <a:r>
              <a:rPr b="1" i="1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Солдато-Александровског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80399"/>
                </a:solidFill>
                <a:latin typeface="Candara"/>
                <a:ea typeface="Arial"/>
              </a:rPr>
              <a:t>Кудинова Елиза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80399"/>
                </a:solidFill>
                <a:latin typeface="Candara"/>
                <a:ea typeface="Arial"/>
              </a:rPr>
              <a:t>Крутицкий Станисл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80399"/>
                </a:solidFill>
                <a:latin typeface="Candara"/>
                <a:ea typeface="Arial"/>
              </a:rPr>
              <a:t>Кобзев Дмитрий Александрович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1476360" y="189000"/>
            <a:ext cx="6262560" cy="649080"/>
            <a:chOff x="1476360" y="189000"/>
            <a:chExt cx="6262560" cy="64908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1476360" y="189000"/>
              <a:ext cx="863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620720" y="259920"/>
              <a:ext cx="6476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340000" y="189000"/>
              <a:ext cx="5398920" cy="64908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66"/>
                  </a:solidFill>
                  <a:latin typeface="Monotype Corsiva"/>
                </a:rPr>
                <a:t>Группировка данны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0" name=""/>
          <p:cNvGraphicFramePr/>
          <p:nvPr/>
        </p:nvGraphicFramePr>
        <p:xfrm>
          <a:off x="179280" y="3789360"/>
          <a:ext cx="8785440" cy="2879640"/>
        </p:xfrm>
        <a:graphic>
          <a:graphicData uri="http://schemas.openxmlformats.org/drawingml/2006/table">
            <a:tbl>
              <a:tblPr/>
              <a:tblGrid>
                <a:gridCol w="524160"/>
                <a:gridCol w="975960"/>
                <a:gridCol w="974880"/>
                <a:gridCol w="746280"/>
                <a:gridCol w="806400"/>
                <a:gridCol w="952560"/>
                <a:gridCol w="1023840"/>
                <a:gridCol w="952560"/>
                <a:gridCol w="877680"/>
                <a:gridCol w="9511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чета и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н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т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. жи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5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15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8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0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5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7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36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255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8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9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7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7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70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39640" y="907920"/>
            <a:ext cx="806472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onotype Corsiva"/>
              </a:rPr>
              <a:t>Группа 1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: </a:t>
            </a:r>
            <a:r>
              <a:rPr b="1" lang="en-US" sz="2800" spc="-1" strike="noStrike">
                <a:solidFill>
                  <a:srgbClr val="cc0000"/>
                </a:solidFill>
                <a:latin typeface="Monotype Corsiva"/>
              </a:rPr>
              <a:t>15000 – 25000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en-US" sz="2800" spc="-1" strike="noStrike">
                <a:solidFill>
                  <a:srgbClr val="000066"/>
                </a:solidFill>
                <a:latin typeface="Monotype Corsiva"/>
              </a:rPr>
              <a:t>Группа 2: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Monotype Corsiva"/>
              </a:rPr>
              <a:t>30000 - 40000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084720" y="1484280"/>
            <a:ext cx="2880000" cy="2230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48428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987640" y="148428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D:\Documents and Settings\Diana\Рабочий стол\Новая папка рисунков\CALENDCR\MONEY\FINANCE.WMF"/>
          <p:cNvPicPr/>
          <p:nvPr/>
        </p:nvPicPr>
        <p:blipFill>
          <a:blip r:embed="rId7"/>
          <a:stretch/>
        </p:blipFill>
        <p:spPr>
          <a:xfrm>
            <a:off x="7740720" y="333360"/>
            <a:ext cx="1224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1547640" y="189000"/>
            <a:ext cx="5978160" cy="647640"/>
            <a:chOff x="1547640" y="189000"/>
            <a:chExt cx="5978160" cy="6476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1547640" y="189000"/>
              <a:ext cx="10094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1716840" y="261720"/>
              <a:ext cx="757080" cy="44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59240" y="189000"/>
              <a:ext cx="4966560" cy="647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66"/>
                  </a:solidFill>
                  <a:latin typeface="Monotype Corsiva"/>
                </a:rPr>
                <a:t>Анализ данны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"/>
          <p:cNvGraphicFramePr/>
          <p:nvPr/>
        </p:nvGraphicFramePr>
        <p:xfrm>
          <a:off x="250920" y="905040"/>
          <a:ext cx="8713800" cy="360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905040"/>
                    <a:ext cx="871380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250920" y="3789360"/>
            <a:ext cx="8713800" cy="2808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71640" y="4005360"/>
            <a:ext cx="734544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С ростом дохода семьи структура расходов меняется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удельный вес расходов на счета и услуги, бытовые товары, питание </a:t>
            </a:r>
            <a:r>
              <a:rPr b="1" lang="en-US" sz="1600" spc="-1" strike="noStrike">
                <a:solidFill>
                  <a:srgbClr val="660033"/>
                </a:solidFill>
                <a:latin typeface="Verdana"/>
              </a:rPr>
              <a:t>снижается;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доля расходов на связь, домашних животных остается </a:t>
            </a:r>
            <a:r>
              <a:rPr b="1" lang="en-US" sz="1600" spc="-1" strike="noStrike">
                <a:solidFill>
                  <a:srgbClr val="660033"/>
                </a:solidFill>
                <a:latin typeface="Verdana"/>
              </a:rPr>
              <a:t>на прежнем уров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удельный вес расходов на транспорт и удовлетворение личных потребностей </a:t>
            </a:r>
            <a:r>
              <a:rPr b="1" lang="en-US" sz="1600" spc="-1" strike="noStrike">
                <a:solidFill>
                  <a:srgbClr val="660033"/>
                </a:solidFill>
                <a:latin typeface="Verdana"/>
              </a:rPr>
              <a:t>увеличивается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D:\Documents and Settings\Diana\Рабочий стол\Новая папка рисунков\CALENDCR\MONEY\FINANCE.WMF"/>
          <p:cNvPicPr/>
          <p:nvPr/>
        </p:nvPicPr>
        <p:blipFill>
          <a:blip r:embed="rId7"/>
          <a:stretch/>
        </p:blipFill>
        <p:spPr>
          <a:xfrm>
            <a:off x="7667640" y="260280"/>
            <a:ext cx="122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62064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Строгое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ведение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учё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д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енежных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средств семь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п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риводит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к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их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эконом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D:\Documents and Settings\Diana\Рабочий стол\Новая папка рисунков\CALENDCR\MONEY\FINANCE.WMF"/>
          <p:cNvPicPr/>
          <p:nvPr/>
        </p:nvPicPr>
        <p:blipFill>
          <a:blip r:embed="rId2"/>
          <a:stretch/>
        </p:blipFill>
        <p:spPr>
          <a:xfrm>
            <a:off x="4500720" y="3213000"/>
            <a:ext cx="3889080" cy="2017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1042920" y="3284640"/>
            <a:ext cx="31687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060640"/>
            <a:ext cx="73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тоимость базовой товарной корзины в текущем пери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278136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тоимость базовой товарной корзины в базисном пери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8480" y="242100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89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4005360"/>
            <a:ext cx="430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692360" y="335772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4076640"/>
            <a:ext cx="5046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378936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12000" y="4581360"/>
            <a:ext cx="2651040" cy="1758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263700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79280" y="692280"/>
          <a:ext cx="8821440" cy="3811320"/>
        </p:xfrm>
        <a:graphic>
          <a:graphicData uri="http://schemas.openxmlformats.org/drawingml/2006/table">
            <a:tbl>
              <a:tblPr/>
              <a:tblGrid>
                <a:gridCol w="2286720"/>
                <a:gridCol w="1743120"/>
                <a:gridCol w="1306080"/>
                <a:gridCol w="1960560"/>
                <a:gridCol w="15249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– й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– й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6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5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5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Сах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0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Ч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5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8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7,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2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,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6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Шампу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 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2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2 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Электроэнер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0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,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5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Доход среднестатистической семьи – </a:t>
            </a:r>
            <a:r>
              <a:rPr b="1" i="1" lang="en-US" sz="2000" spc="-1" strike="noStrike">
                <a:solidFill>
                  <a:srgbClr val="ff3300"/>
                </a:solidFill>
                <a:latin typeface="Verdana"/>
              </a:rPr>
              <a:t>27019,5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4581360"/>
            <a:ext cx="8856720" cy="201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4941720"/>
            <a:ext cx="720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Verdana"/>
              </a:rPr>
              <a:t>45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45,36+56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30,22+43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367,68+42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18,32+43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32,52+42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87,84+650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2,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5373720"/>
            <a:ext cx="698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Verdana"/>
              </a:rPr>
              <a:t>45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42,6+56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40,62+43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348,21+42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17,03+43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31,9+42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82,17+700</a:t>
            </a:r>
            <a:r>
              <a:rPr b="1" lang="ar-SA" sz="1300" spc="-1" strike="noStrike">
                <a:solidFill>
                  <a:srgbClr val="003300"/>
                </a:solidFill>
                <a:latin typeface="Verdana"/>
                <a:cs typeface="Arial"/>
              </a:rPr>
              <a:t>٠</a:t>
            </a:r>
            <a:r>
              <a:rPr b="1" lang="ru-RU" sz="1300" spc="-1" strike="noStrike">
                <a:solidFill>
                  <a:srgbClr val="003300"/>
                </a:solidFill>
                <a:latin typeface="Verdana"/>
                <a:ea typeface="Arial"/>
              </a:rPr>
              <a:t>2,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5300640"/>
            <a:ext cx="698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522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101080" y="5084640"/>
            <a:ext cx="86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5661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Verdana"/>
              </a:rPr>
              <a:t>ИПЦ= 103,0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5157720"/>
            <a:ext cx="86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Verdana"/>
              </a:rPr>
              <a:t>ИПЦ=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59500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Цены увеличились на </a:t>
            </a: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3,08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Verdana"/>
              </a:rPr>
              <a:t>Задача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Если цены на товары и услуги увеличились в среднем  на 3,08 %, как изменился реальный дохо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2421000"/>
            <a:ext cx="4032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Р Е Ш Е Н И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Verdana"/>
              </a:rPr>
              <a:t>ИПЦ  был - </a:t>
            </a:r>
            <a:r>
              <a:rPr b="1" i="1" lang="en-US" sz="28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1" i="1" lang="en-US" sz="2800" spc="-1" strike="noStrike">
                <a:solidFill>
                  <a:srgbClr val="003300"/>
                </a:solidFill>
                <a:latin typeface="Verdana"/>
              </a:rPr>
              <a:t>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299736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Verdana"/>
              </a:rPr>
              <a:t>ИПЦ стал -</a:t>
            </a:r>
            <a:r>
              <a:rPr b="1" i="1" lang="en-US" sz="2800" spc="-1" strike="noStrike">
                <a:solidFill>
                  <a:srgbClr val="ff3300"/>
                </a:solidFill>
                <a:latin typeface="Verdana"/>
              </a:rPr>
              <a:t>103,08</a:t>
            </a:r>
            <a:r>
              <a:rPr b="1" i="1" lang="en-US" sz="2800" spc="-1" strike="noStrike">
                <a:solidFill>
                  <a:srgbClr val="003300"/>
                </a:solidFill>
                <a:latin typeface="Verdana"/>
              </a:rPr>
              <a:t>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371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Номинальный доход  -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5373720"/>
            <a:ext cx="7380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Ответ:</a:t>
            </a:r>
            <a:r>
              <a:rPr b="1" i="1" lang="en-US" sz="26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00"/>
                </a:solidFill>
                <a:latin typeface="Verdana"/>
              </a:rPr>
              <a:t>реальный доход уменьшился на</a:t>
            </a:r>
            <a:r>
              <a:rPr b="1" i="1" lang="en-US" sz="2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i="1" lang="en-US" sz="26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i="1" lang="en-US" sz="2600" spc="-1" strike="noStrike">
                <a:solidFill>
                  <a:srgbClr val="003300"/>
                </a:solidFill>
                <a:latin typeface="Verdana"/>
              </a:rPr>
              <a:t>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4000" y="404640"/>
            <a:ext cx="8339040" cy="902160"/>
            <a:chOff x="324000" y="404640"/>
            <a:chExt cx="8339040" cy="902160"/>
          </a:xfrm>
        </p:grpSpPr>
        <p:sp>
          <p:nvSpPr>
            <p:cNvPr id="194" name=""/>
            <p:cNvSpPr/>
            <p:nvPr/>
          </p:nvSpPr>
          <p:spPr>
            <a:xfrm>
              <a:off x="324000" y="62064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Verdana"/>
                </a:rPr>
                <a:t>Реальный дохо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1280" y="836640"/>
              <a:ext cx="324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51280" y="404640"/>
              <a:ext cx="36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Verdana"/>
                </a:rPr>
                <a:t>Номинальный дох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2360" y="907920"/>
              <a:ext cx="118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Verdana"/>
                </a:rPr>
                <a:t>ИП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93080" y="549360"/>
              <a:ext cx="156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A" sz="3200" spc="-1" strike="noStrike">
                  <a:solidFill>
                    <a:srgbClr val="000000"/>
                  </a:solidFill>
                  <a:latin typeface="Verdana"/>
                  <a:cs typeface="Arial"/>
                </a:rPr>
                <a:t>٠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r>
                <a:rPr b="1" i="1" lang="ru-RU" sz="2400" spc="-1" strike="noStrike">
                  <a:solidFill>
                    <a:srgbClr val="ff3300"/>
                  </a:solidFill>
                  <a:latin typeface="Verdana"/>
                </a:rPr>
                <a:t>100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68360" y="4437000"/>
            <a:ext cx="8159760" cy="860400"/>
            <a:chOff x="468360" y="4437000"/>
            <a:chExt cx="8159760" cy="860400"/>
          </a:xfrm>
        </p:grpSpPr>
        <p:sp>
          <p:nvSpPr>
            <p:cNvPr id="200" name=""/>
            <p:cNvSpPr/>
            <p:nvPr/>
          </p:nvSpPr>
          <p:spPr>
            <a:xfrm>
              <a:off x="468360" y="466704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Verdana"/>
                </a:rPr>
                <a:t>Реальный дохо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95640" y="4897080"/>
              <a:ext cx="153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64120" y="4437000"/>
              <a:ext cx="117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00"/>
                  </a:solidFill>
                  <a:latin typeface="Verdana"/>
                </a:rPr>
                <a:t>100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48120" y="4898520"/>
              <a:ext cx="167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00"/>
                  </a:solidFill>
                  <a:latin typeface="Verdana"/>
                </a:rPr>
                <a:t>103,08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59400" y="459108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A" sz="3200" spc="-1" strike="noStrike">
                  <a:solidFill>
                    <a:srgbClr val="003300"/>
                  </a:solidFill>
                  <a:latin typeface="Verdana"/>
                  <a:cs typeface="Arial"/>
                </a:rPr>
                <a:t>٠</a:t>
              </a:r>
              <a:r>
                <a:rPr b="1" i="1" lang="ru-RU" sz="2400" spc="-1" strike="noStrike">
                  <a:solidFill>
                    <a:srgbClr val="003300"/>
                  </a:solidFill>
                  <a:latin typeface="Verdana"/>
                  <a:ea typeface="Arial"/>
                </a:rPr>
                <a:t> </a:t>
              </a:r>
              <a:r>
                <a:rPr b="1" i="1" lang="ru-RU" sz="2400" spc="-1" strike="noStrike">
                  <a:solidFill>
                    <a:srgbClr val="003300"/>
                  </a:solidFill>
                  <a:latin typeface="Verdana"/>
                </a:rPr>
                <a:t>100% = </a:t>
              </a:r>
              <a:r>
                <a:rPr b="1" i="1" lang="ru-RU" sz="2400" spc="-1" strike="noStrike">
                  <a:solidFill>
                    <a:srgbClr val="ff3300"/>
                  </a:solidFill>
                  <a:latin typeface="Verdana"/>
                </a:rPr>
                <a:t>97</a:t>
              </a:r>
              <a:r>
                <a:rPr b="1" i="1" lang="ru-RU" sz="2400" spc="-1" strike="noStrike">
                  <a:solidFill>
                    <a:srgbClr val="003300"/>
                  </a:solidFill>
                  <a:latin typeface="Verdana"/>
                </a:rPr>
                <a:t>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8000" y="1816200"/>
            <a:ext cx="871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проблема изучения формирования и расходования семейного бюджета становится актуальной, так как семейный бюджет является неотъемлемой частью бюджета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ременная экономическая мысль рассматривает семью или, более обобщенно – домашнее хозяйство, как важного потребителя и производителя, жизнедеятельность которых осуществляется для реализации социальных, экономических и духовных потребностей индивида, самой семьи и общества в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60280"/>
            <a:ext cx="7272360" cy="935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40000" y="26028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Актуальность проблемы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9" name="Picture 2" descr="D:\Documents and Settings\Diana\Рабочий стол\Новая папка рисунков\CALENDCR\MONEY\EXCHNGE.WMF"/>
          <p:cNvPicPr/>
          <p:nvPr/>
        </p:nvPicPr>
        <p:blipFill>
          <a:blip r:embed="rId2"/>
          <a:stretch/>
        </p:blipFill>
        <p:spPr>
          <a:xfrm>
            <a:off x="1116000" y="333360"/>
            <a:ext cx="1008000" cy="795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2735280" cy="181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692360" y="4437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Documents and Settings\Diana\Рабочий стол\Новая папка рисунков\CALENDCR\MONEY\MONEYBAG.WMF"/>
          <p:cNvPicPr/>
          <p:nvPr/>
        </p:nvPicPr>
        <p:blipFill>
          <a:blip r:embed="rId5"/>
          <a:stretch/>
        </p:blipFill>
        <p:spPr>
          <a:xfrm>
            <a:off x="8317080" y="476280"/>
            <a:ext cx="6858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187280" y="141300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Цель: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67280" y="1125360"/>
            <a:ext cx="251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чи: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781360"/>
            <a:ext cx="33116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Исследовать зависимость между потреблением и уровнем доходов (закон Энгел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Verdana"/>
              </a:rPr>
              <a:t>Сопоставить номинальные доходы семьи с реальным уровнем ц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0"/>
            <a:ext cx="7272360" cy="93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Documents and Settings\Diana\Рабочий стол\Новая папка рисунков\CALENDCR\MONEY\EXCHNGE.WMF"/>
          <p:cNvPicPr/>
          <p:nvPr/>
        </p:nvPicPr>
        <p:blipFill>
          <a:blip r:embed="rId3"/>
          <a:stretch/>
        </p:blipFill>
        <p:spPr>
          <a:xfrm>
            <a:off x="755640" y="115920"/>
            <a:ext cx="1008000" cy="795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8000" y="115920"/>
            <a:ext cx="5616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Цель и задачи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60" name="Picture 3" descr="D:\Documents and Settings\Diana\Рабочий стол\Новая папка рисунков\CALENDCR\MONEY\MONEYBAG.WMF"/>
          <p:cNvPicPr/>
          <p:nvPr/>
        </p:nvPicPr>
        <p:blipFill>
          <a:blip r:embed="rId4"/>
          <a:stretch/>
        </p:blipFill>
        <p:spPr>
          <a:xfrm>
            <a:off x="8101080" y="0"/>
            <a:ext cx="93672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92720" y="2781360"/>
            <a:ext cx="3311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Изучить основные источники доходов и статьи расходов домохозяй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Рассмотреть разницу между номинальным и реальным дох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84000" y="4076640"/>
            <a:ext cx="7777080" cy="1224000"/>
            <a:chOff x="684000" y="4076640"/>
            <a:chExt cx="7777080" cy="1224000"/>
          </a:xfrm>
        </p:grpSpPr>
        <p:sp>
          <p:nvSpPr>
            <p:cNvPr id="64" name=""/>
            <p:cNvSpPr/>
            <p:nvPr/>
          </p:nvSpPr>
          <p:spPr>
            <a:xfrm rot="10800000">
              <a:off x="684000" y="4076640"/>
              <a:ext cx="2292120" cy="1224000"/>
            </a:xfrm>
            <a:prstGeom prst="leftArrowCallout">
              <a:avLst>
                <a:gd name="adj1" fmla="val 25002"/>
                <a:gd name="adj2" fmla="val 25000"/>
                <a:gd name="adj3" fmla="val 31211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755640" y="414972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10800000">
              <a:off x="2158560" y="4076640"/>
              <a:ext cx="6302520" cy="1224000"/>
            </a:xfrm>
            <a:prstGeom prst="flowChartOnlineStorag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Бюджет среднестатистическ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емьи с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24000" y="404640"/>
            <a:ext cx="5112000" cy="792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2924280"/>
            <a:ext cx="5111640" cy="86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476280"/>
            <a:ext cx="437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Объек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2997360"/>
            <a:ext cx="49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Предме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63480" y="1495080"/>
            <a:ext cx="7775640" cy="1152360"/>
            <a:chOff x="663480" y="1495080"/>
            <a:chExt cx="7775640" cy="1152360"/>
          </a:xfrm>
        </p:grpSpPr>
        <p:sp>
          <p:nvSpPr>
            <p:cNvPr id="72" name=""/>
            <p:cNvSpPr/>
            <p:nvPr/>
          </p:nvSpPr>
          <p:spPr>
            <a:xfrm rot="10800000">
              <a:off x="2138400" y="1494720"/>
              <a:ext cx="6300720" cy="1152360"/>
            </a:xfrm>
            <a:prstGeom prst="flowChartOnlineStorag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емейная экономи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663480" y="1495080"/>
              <a:ext cx="2292480" cy="1152360"/>
            </a:xfrm>
            <a:prstGeom prst="leftArrowCallout">
              <a:avLst>
                <a:gd name="adj1" fmla="val 25002"/>
                <a:gd name="adj2" fmla="val 25000"/>
                <a:gd name="adj3" fmla="val 33156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755640" y="1557360"/>
              <a:ext cx="1368360" cy="100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324000" y="1268280"/>
            <a:ext cx="8569080" cy="1441440"/>
            <a:chOff x="324000" y="1268280"/>
            <a:chExt cx="8569080" cy="1441440"/>
          </a:xfrm>
        </p:grpSpPr>
        <p:sp>
          <p:nvSpPr>
            <p:cNvPr id="77" name=""/>
            <p:cNvSpPr/>
            <p:nvPr/>
          </p:nvSpPr>
          <p:spPr>
            <a:xfrm rot="10800000">
              <a:off x="324000" y="1411920"/>
              <a:ext cx="1584000" cy="1081080"/>
            </a:xfrm>
            <a:prstGeom prst="leftArrowCallout">
              <a:avLst>
                <a:gd name="adj1" fmla="val 22447"/>
                <a:gd name="adj2" fmla="val 25000"/>
                <a:gd name="adj3" fmla="val 22751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95280" y="1484280"/>
              <a:ext cx="93672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908000" y="1268280"/>
              <a:ext cx="6912000" cy="14414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8000" y="1341360"/>
              <a:ext cx="698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авильное планирование своих расходов поможет сберечь денежные средства и повысить уровень благосостояния семьи. Научившись экономить в малом, получится экономить и в больш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124000" y="260280"/>
            <a:ext cx="5112000" cy="792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7360" y="260280"/>
            <a:ext cx="27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2997360"/>
            <a:ext cx="511164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4800" y="2997360"/>
            <a:ext cx="639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4000" y="4005360"/>
            <a:ext cx="8496000" cy="1225440"/>
            <a:chOff x="324000" y="4005360"/>
            <a:chExt cx="8496000" cy="1225440"/>
          </a:xfrm>
        </p:grpSpPr>
        <p:sp>
          <p:nvSpPr>
            <p:cNvPr id="86" name=""/>
            <p:cNvSpPr/>
            <p:nvPr/>
          </p:nvSpPr>
          <p:spPr>
            <a:xfrm rot="10800000">
              <a:off x="324000" y="4076280"/>
              <a:ext cx="1584000" cy="1081080"/>
            </a:xfrm>
            <a:prstGeom prst="leftArrowCallout">
              <a:avLst>
                <a:gd name="adj1" fmla="val 25002"/>
                <a:gd name="adj2" fmla="val 25000"/>
                <a:gd name="adj3" fmla="val 24420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00" y="4005360"/>
              <a:ext cx="6912000" cy="12254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анализ литературы, наблюдение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равнение и обобщение результат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95280" y="4149720"/>
              <a:ext cx="93672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Выгнутая вправо стрелка 8"/>
          <p:cNvSpPr/>
          <p:nvPr/>
        </p:nvSpPr>
        <p:spPr>
          <a:xfrm>
            <a:off x="8101080" y="3284640"/>
            <a:ext cx="574560" cy="1368360"/>
          </a:xfrm>
          <a:custGeom>
            <a:avLst/>
            <a:gdLst>
              <a:gd name="textAreaLeft" fmla="*/ 76680 w 574560"/>
              <a:gd name="textAreaRight" fmla="*/ 497880 w 574560"/>
              <a:gd name="textAreaTop" fmla="*/ 270720 h 1368360"/>
              <a:gd name="textAreaBottom" fmla="*/ 10026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50" stAng="-5400000" swAng="5400000"/>
                <a:lnTo>
                  <a:pt x="21600" y="11550"/>
                </a:lnTo>
                <a:arcTo wR="21600" hR="8550" stAng="0" swAng="3413035"/>
                <a:lnTo>
                  <a:pt x="5400" y="21329"/>
                </a:lnTo>
                <a:lnTo>
                  <a:pt x="0" y="18600"/>
                </a:lnTo>
                <a:lnTo>
                  <a:pt x="5400" y="15329"/>
                </a:lnTo>
                <a:lnTo>
                  <a:pt x="5400" y="16829"/>
                </a:lnTo>
                <a:arcTo wR="21600" hR="8550" stAng="3413035" swAng="-3170942"/>
                <a:lnTo>
                  <a:pt x="21265" y="10050"/>
                </a:lnTo>
                <a:arcTo wR="21600" hR="8550" stAng="-242092" swAng="-5157908"/>
                <a:close/>
              </a:path>
              <a:path fill="darkenLess" w="21600" h="21600">
                <a:moveTo>
                  <a:pt x="0" y="0"/>
                </a:moveTo>
                <a:arcTo wR="21600" hR="8550" stAng="-5400000" swAng="5400000"/>
                <a:lnTo>
                  <a:pt x="21600" y="11550"/>
                </a:lnTo>
                <a:arcTo wR="21600" hR="8550" stAng="0" swAng="-242092"/>
                <a:lnTo>
                  <a:pt x="21265" y="10050"/>
                </a:lnTo>
                <a:arcTo wR="21600" hR="8550" stAng="-242092" swAng="-5157908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71640" y="189000"/>
            <a:ext cx="7272360" cy="934920"/>
            <a:chOff x="971640" y="189000"/>
            <a:chExt cx="7272360" cy="934920"/>
          </a:xfrm>
        </p:grpSpPr>
        <p:sp>
          <p:nvSpPr>
            <p:cNvPr id="92" name=""/>
            <p:cNvSpPr/>
            <p:nvPr/>
          </p:nvSpPr>
          <p:spPr>
            <a:xfrm>
              <a:off x="971640" y="189000"/>
              <a:ext cx="7272360" cy="934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D:\Documents and Settings\Diana\Рабочий стол\Новая папка рисунков\CALENDCR\MONEY\EXCHNGE.WMF"/>
            <p:cNvPicPr/>
            <p:nvPr/>
          </p:nvPicPr>
          <p:blipFill>
            <a:blip r:embed="rId2"/>
            <a:stretch/>
          </p:blipFill>
          <p:spPr>
            <a:xfrm>
              <a:off x="1042920" y="260280"/>
              <a:ext cx="9367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2340000" y="260280"/>
              <a:ext cx="56167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800000"/>
                  </a:solidFill>
                  <a:latin typeface="Monotype Corsiva"/>
                </a:rPr>
                <a:t>Этапы выполнения</a:t>
              </a:r>
              <a:endPara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800000"/>
                </a:solidFill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800000"/>
                  </a:solidFill>
                  <a:latin typeface="Monotype Corsiva"/>
                </a:rPr>
                <a:t>исследовательской работы</a:t>
              </a:r>
              <a:endPara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800000"/>
                </a:solidFill>
                <a:latin typeface="Monotype Corsiva"/>
                <a:ea typeface="Monotype Corsiva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03280" y="1916280"/>
            <a:ext cx="6554880" cy="647640"/>
            <a:chOff x="1403280" y="1916280"/>
            <a:chExt cx="6554880" cy="647640"/>
          </a:xfrm>
        </p:grpSpPr>
        <p:sp>
          <p:nvSpPr>
            <p:cNvPr id="96" name="Скругленный прямоугольник 9"/>
            <p:cNvSpPr/>
            <p:nvPr/>
          </p:nvSpPr>
          <p:spPr>
            <a:xfrm>
              <a:off x="2268360" y="1916280"/>
              <a:ext cx="5689800" cy="6476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66"/>
                  </a:solidFill>
                  <a:latin typeface="Monotype Corsiva"/>
                </a:rPr>
                <a:t>Сбор данны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1403280" y="1916280"/>
              <a:ext cx="863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1619280" y="1989000"/>
              <a:ext cx="57636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1403280" y="2997360"/>
            <a:ext cx="6624720" cy="647640"/>
            <a:chOff x="1403280" y="2997360"/>
            <a:chExt cx="6624720" cy="647640"/>
          </a:xfrm>
        </p:grpSpPr>
        <p:sp>
          <p:nvSpPr>
            <p:cNvPr id="100" name="Выноска со стрелкой вправо 6"/>
            <p:cNvSpPr/>
            <p:nvPr/>
          </p:nvSpPr>
          <p:spPr>
            <a:xfrm>
              <a:off x="2268360" y="2997360"/>
              <a:ext cx="5759640" cy="647640"/>
            </a:xfrm>
            <a:prstGeom prst="rightArrowCallout">
              <a:avLst>
                <a:gd name="adj1" fmla="val 25002"/>
                <a:gd name="adj2" fmla="val 25000"/>
                <a:gd name="adj3" fmla="val 54842"/>
                <a:gd name="adj4" fmla="val 90028"/>
              </a:avLst>
            </a:pr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66"/>
                  </a:solidFill>
                  <a:latin typeface="Monotype Corsiva"/>
                </a:rPr>
                <a:t>Группировка данны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1403280" y="2997360"/>
              <a:ext cx="863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1547640" y="3068640"/>
              <a:ext cx="648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403280" y="4076640"/>
            <a:ext cx="6625800" cy="646200"/>
            <a:chOff x="1403280" y="4076640"/>
            <a:chExt cx="6625800" cy="646200"/>
          </a:xfrm>
        </p:grpSpPr>
        <p:sp>
          <p:nvSpPr>
            <p:cNvPr id="104" name="Выноска со стрелкой вправо 6"/>
            <p:cNvSpPr/>
            <p:nvPr/>
          </p:nvSpPr>
          <p:spPr>
            <a:xfrm rot="10800000">
              <a:off x="2268000" y="4076640"/>
              <a:ext cx="5761080" cy="642960"/>
            </a:xfrm>
            <a:prstGeom prst="rightArrowCallout">
              <a:avLst>
                <a:gd name="adj1" fmla="val 25002"/>
                <a:gd name="adj2" fmla="val 25000"/>
                <a:gd name="adj3" fmla="val 55255"/>
                <a:gd name="adj4" fmla="val 89981"/>
              </a:avLst>
            </a:pr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66"/>
                  </a:solidFill>
                  <a:latin typeface="Monotype Corsiva"/>
                </a:rPr>
                <a:t>Анализ данны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1403280" y="4076640"/>
              <a:ext cx="8636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1547640" y="4149720"/>
              <a:ext cx="648000" cy="4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Выгнутая влево стрелка 5"/>
          <p:cNvSpPr/>
          <p:nvPr/>
        </p:nvSpPr>
        <p:spPr>
          <a:xfrm>
            <a:off x="684360" y="2133720"/>
            <a:ext cx="639720" cy="1295280"/>
          </a:xfrm>
          <a:custGeom>
            <a:avLst/>
            <a:gdLst>
              <a:gd name="textAreaLeft" fmla="*/ 85680 w 639720"/>
              <a:gd name="textAreaRight" fmla="*/ 554040 w 639720"/>
              <a:gd name="textAreaTop" fmla="*/ 252720 h 1295280"/>
              <a:gd name="textAreaBottom" fmla="*/ 9478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38" stAng="-5400000" swAng="-5400000"/>
                <a:lnTo>
                  <a:pt x="0" y="11588"/>
                </a:lnTo>
                <a:arcTo wR="21600" hR="8438" stAng="10800000" swAng="-3392144"/>
                <a:lnTo>
                  <a:pt x="16200" y="21332"/>
                </a:lnTo>
                <a:lnTo>
                  <a:pt x="21600" y="18450"/>
                </a:lnTo>
                <a:lnTo>
                  <a:pt x="16200" y="15032"/>
                </a:lnTo>
                <a:lnTo>
                  <a:pt x="16200" y="16607"/>
                </a:lnTo>
                <a:arcTo wR="21600" hR="8438" stAng="7407856" swAng="3137457"/>
                <a:lnTo>
                  <a:pt x="380" y="10013"/>
                </a:lnTo>
                <a:arcTo wR="21600" hR="8438" stAng="-10545313" swAng="5145313"/>
                <a:close/>
              </a:path>
              <a:path fill="darkenLess" w="21600" h="21600">
                <a:moveTo>
                  <a:pt x="21600" y="0"/>
                </a:moveTo>
                <a:arcTo wR="21600" hR="8438" stAng="-5400000" swAng="-5400000"/>
                <a:lnTo>
                  <a:pt x="0" y="8438"/>
                </a:lnTo>
                <a:arcTo wR="21600" hR="8438" stAng="10800000" swAng="-254687"/>
                <a:lnTo>
                  <a:pt x="380" y="10013"/>
                </a:lnTo>
                <a:arcTo wR="21600" hR="8438" stAng="-10545313" swAng="5145313"/>
                <a:close/>
              </a:path>
            </a:pathLst>
          </a:cu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03280" y="4076640"/>
            <a:ext cx="6625800" cy="646200"/>
            <a:chOff x="1403280" y="4076640"/>
            <a:chExt cx="6625800" cy="646200"/>
          </a:xfrm>
        </p:grpSpPr>
        <p:sp>
          <p:nvSpPr>
            <p:cNvPr id="109" name="Выноска со стрелкой вправо 6"/>
            <p:cNvSpPr/>
            <p:nvPr/>
          </p:nvSpPr>
          <p:spPr>
            <a:xfrm rot="10800000">
              <a:off x="2268000" y="4076640"/>
              <a:ext cx="5761080" cy="642960"/>
            </a:xfrm>
            <a:prstGeom prst="rightArrowCallout">
              <a:avLst>
                <a:gd name="adj1" fmla="val 25002"/>
                <a:gd name="adj2" fmla="val 25000"/>
                <a:gd name="adj3" fmla="val 55255"/>
                <a:gd name="adj4" fmla="val 89981"/>
              </a:avLst>
            </a:pr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66"/>
                  </a:solidFill>
                  <a:latin typeface="Monotype Corsiva"/>
                </a:rPr>
                <a:t>Анализ данны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9"/>
            <a:stretch/>
          </p:blipFill>
          <p:spPr>
            <a:xfrm>
              <a:off x="1403280" y="4076640"/>
              <a:ext cx="8636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0"/>
            <a:stretch/>
          </p:blipFill>
          <p:spPr>
            <a:xfrm>
              <a:off x="1547640" y="4149720"/>
              <a:ext cx="648000" cy="44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476360" y="189000"/>
            <a:ext cx="6554880" cy="647640"/>
            <a:chOff x="1476360" y="189000"/>
            <a:chExt cx="6554880" cy="647640"/>
          </a:xfrm>
        </p:grpSpPr>
        <p:sp>
          <p:nvSpPr>
            <p:cNvPr id="114" name="Скругленный прямоугольник 9"/>
            <p:cNvSpPr/>
            <p:nvPr/>
          </p:nvSpPr>
          <p:spPr>
            <a:xfrm>
              <a:off x="2341440" y="189000"/>
              <a:ext cx="5689800" cy="64764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66"/>
                  </a:solidFill>
                  <a:latin typeface="Monotype Corsiva"/>
                </a:rPr>
                <a:t>Сбор данны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1476360" y="189000"/>
              <a:ext cx="863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1692360" y="261720"/>
              <a:ext cx="57636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059280" y="1844640"/>
            <a:ext cx="1800000" cy="374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50920" y="1052640"/>
            <a:ext cx="2808360" cy="5545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1446120"/>
            <a:ext cx="2520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аван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алимен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гра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дивиденд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доход от бизнес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арплат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нс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одар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омощь (родите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супруга, детей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ре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риработ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роценты по депозит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социальное пособ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ипенд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859280" y="981000"/>
            <a:ext cx="4105440" cy="561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92720" y="1206720"/>
            <a:ext cx="338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м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(аренда, налоги, страховка, содержание дом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Еда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продукты, кафе и рестораны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лги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(кредитные карты, долги, кредиты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Транспорт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автомобиль, общественный транспорт, такси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чета и услуги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(электричество, вода, газ, телефон и т.д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Личные расходы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(одежда, красота, развлечения, книги, медицина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бережения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(резервный фонд, отпуск, пенсионные накопления, инвестици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ругие расход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79280" y="115920"/>
          <a:ext cx="8785440" cy="6578640"/>
        </p:xfrm>
        <a:graphic>
          <a:graphicData uri="http://schemas.openxmlformats.org/drawingml/2006/table">
            <a:tbl>
              <a:tblPr/>
              <a:tblGrid>
                <a:gridCol w="524160"/>
                <a:gridCol w="975960"/>
                <a:gridCol w="974880"/>
                <a:gridCol w="746280"/>
                <a:gridCol w="806400"/>
                <a:gridCol w="952560"/>
                <a:gridCol w="1023840"/>
                <a:gridCol w="952560"/>
                <a:gridCol w="877680"/>
                <a:gridCol w="9511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чета и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н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т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. жи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3682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7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4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2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28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8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34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82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7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3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8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26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25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82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5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2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7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2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4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34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476360" y="189000"/>
            <a:ext cx="6262560" cy="649080"/>
            <a:chOff x="1476360" y="189000"/>
            <a:chExt cx="6262560" cy="6490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476360" y="189000"/>
              <a:ext cx="863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1620720" y="259920"/>
              <a:ext cx="6476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340000" y="189000"/>
              <a:ext cx="5398920" cy="64908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66"/>
                  </a:solidFill>
                  <a:latin typeface="Monotype Corsiva"/>
                </a:rPr>
                <a:t>Группировка данны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9" name=""/>
          <p:cNvGraphicFramePr/>
          <p:nvPr/>
        </p:nvGraphicFramePr>
        <p:xfrm>
          <a:off x="179280" y="2852640"/>
          <a:ext cx="8785440" cy="3778200"/>
        </p:xfrm>
        <a:graphic>
          <a:graphicData uri="http://schemas.openxmlformats.org/drawingml/2006/table">
            <a:tbl>
              <a:tblPr/>
              <a:tblGrid>
                <a:gridCol w="524160"/>
                <a:gridCol w="975960"/>
                <a:gridCol w="974880"/>
                <a:gridCol w="746280"/>
                <a:gridCol w="806400"/>
                <a:gridCol w="952560"/>
                <a:gridCol w="1023840"/>
                <a:gridCol w="952560"/>
                <a:gridCol w="877680"/>
                <a:gridCol w="9511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чета и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н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т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. жи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3682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57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6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274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82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5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4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234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82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1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4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7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25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539640" y="907920"/>
            <a:ext cx="806472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onotype Corsiva"/>
              </a:rPr>
              <a:t>Группа 1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: </a:t>
            </a:r>
            <a:r>
              <a:rPr b="1" lang="en-US" sz="2800" spc="-1" strike="noStrike">
                <a:solidFill>
                  <a:srgbClr val="cc0000"/>
                </a:solidFill>
                <a:latin typeface="Monotype Corsiva"/>
              </a:rPr>
              <a:t>15000 – 25000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en-US" sz="2800" spc="-1" strike="noStrike">
                <a:solidFill>
                  <a:srgbClr val="000066"/>
                </a:solidFill>
                <a:latin typeface="Monotype Corsiva"/>
              </a:rPr>
              <a:t>Группа 2: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Monotype Corsiva"/>
              </a:rPr>
              <a:t>30000 - 40000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372360" y="1413000"/>
            <a:ext cx="1873080" cy="1403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971640" y="1413000"/>
            <a:ext cx="187308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3564000" y="1413000"/>
            <a:ext cx="2016000" cy="140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Documents and Settings\Diana\Рабочий стол\Новая папка рисунков\CALENDCR\MONEY\FINANCE.WMF"/>
          <p:cNvPicPr/>
          <p:nvPr/>
        </p:nvPicPr>
        <p:blipFill>
          <a:blip r:embed="rId7"/>
          <a:stretch/>
        </p:blipFill>
        <p:spPr>
          <a:xfrm>
            <a:off x="7740720" y="260280"/>
            <a:ext cx="122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09:42:39Z</dcterms:created>
  <dc:creator>Admin</dc:creator>
  <dc:description/>
  <dc:language>en-US</dc:language>
  <cp:lastModifiedBy>Admin</cp:lastModifiedBy>
  <dcterms:modified xsi:type="dcterms:W3CDTF">2012-11-13T16:35:56Z</dcterms:modified>
  <cp:revision>12</cp:revision>
  <dc:subject/>
  <dc:title>Слайд 1</dc:title>
</cp:coreProperties>
</file>