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8E6-4E7E-4C56-9727-BC08BBC1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8C2-D435-410F-8E26-65228020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C08-1AAB-4CA4-A2BD-49AD441F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136-8CD3-4240-9614-64D2C112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B35D-0CC9-4AD8-8980-E4C9EF23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F2D2-85B8-4917-B2E1-B8C93CE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E147-BC53-42F2-80CC-3940683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6360-656B-4BBE-B799-869986DA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E06-8D87-439C-964D-DE931B10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AD5B-E336-45F6-BF81-A7D33F1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70AB-5B4F-44E2-9A63-4752675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0EC-2A3D-4413-AA27-BDCD21F0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45D7-C859-4B61-A292-7C7272A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7FC-5F88-4CD4-BFAB-F364F58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60C7-5199-4E7A-9CDE-FA392381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93D5-1B9F-4A36-9AA0-13A2A83F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5991-7394-4433-B013-5609F8A5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DD7-E962-4658-8DFF-DD387E8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1FA-8106-4B6B-B779-6E5FC3B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5D5-C5F7-467A-8B1F-1A248C3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A5E-BC46-462D-BEAB-BFEC7E30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280-77B7-4848-99F7-F67FDE0F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0AD-B300-41B1-BCA1-0B17930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E46-0A8F-43C4-B822-10D56E9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F9C7-6581-44D8-A3B8-306007461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B075-86C5-47CE-B27C-D718933A05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Марс"/>
          <p:cNvPicPr/>
          <p:nvPr/>
        </p:nvPicPr>
        <p:blipFill>
          <a:blip r:embed="rId1"/>
          <a:stretch/>
        </p:blipFill>
        <p:spPr>
          <a:xfrm>
            <a:off x="1720800" y="244440"/>
            <a:ext cx="6667560" cy="6424560"/>
          </a:xfrm>
          <a:prstGeom prst="rect">
            <a:avLst/>
          </a:prstGeom>
          <a:ln w="0">
            <a:noFill/>
          </a:ln>
        </p:spPr>
      </p:pic>
      <p:pic>
        <p:nvPicPr>
          <p:cNvPr id="99" name="Земляне - Трава У Дома.mp3" descr=""/>
          <p:cNvPicPr/>
          <p:nvPr/>
        </p:nvPicPr>
        <p:blipFill>
          <a:blip r:embed="rId2"/>
          <a:stretch/>
        </p:blipFill>
        <p:spPr>
          <a:xfrm>
            <a:off x="221472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08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spirit_first_colour_mars"/>
          <p:cNvPicPr/>
          <p:nvPr/>
        </p:nvPicPr>
        <p:blipFill>
          <a:blip r:embed="rId1"/>
          <a:stretch/>
        </p:blipFill>
        <p:spPr>
          <a:xfrm>
            <a:off x="993600" y="244440"/>
            <a:ext cx="7826400" cy="626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hyst4"/>
          <p:cNvPicPr/>
          <p:nvPr/>
        </p:nvPicPr>
        <p:blipFill>
          <a:blip r:embed="rId1"/>
          <a:stretch/>
        </p:blipFill>
        <p:spPr>
          <a:xfrm>
            <a:off x="539640" y="85680"/>
            <a:ext cx="8496360" cy="629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40ba2a689d34b117d531e89fbb56f2f1"/>
          <p:cNvPicPr/>
          <p:nvPr/>
        </p:nvPicPr>
        <p:blipFill>
          <a:blip r:embed="rId1"/>
          <a:stretch/>
        </p:blipFill>
        <p:spPr>
          <a:xfrm>
            <a:off x="900000" y="0"/>
            <a:ext cx="7128000" cy="6805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5" descr="8e3b6e6815"/>
          <p:cNvPicPr/>
          <p:nvPr/>
        </p:nvPicPr>
        <p:blipFill>
          <a:blip r:embed="rId1"/>
          <a:stretch/>
        </p:blipFill>
        <p:spPr>
          <a:xfrm>
            <a:off x="2050920" y="177840"/>
            <a:ext cx="5349960" cy="6564240"/>
          </a:xfrm>
          <a:prstGeom prst="rect">
            <a:avLst/>
          </a:prstGeom>
          <a:ln w="0">
            <a:noFill/>
          </a:ln>
        </p:spPr>
      </p:pic>
      <p:pic>
        <p:nvPicPr>
          <p:cNvPr id="104" name="Земляне - Трава У Дома.mp3" descr=""/>
          <p:cNvPicPr/>
          <p:nvPr/>
        </p:nvPicPr>
        <p:blipFill>
          <a:blip r:embed="rId2"/>
          <a:stretch/>
        </p:blipFill>
        <p:spPr>
          <a:xfrm>
            <a:off x="2143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10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7T15:53:26Z</dcterms:modified>
  <cp:revision>3</cp:revision>
  <dc:subject/>
  <dc:title>PowerPoint Presentation</dc:title>
</cp:coreProperties>
</file>