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923-D2F6-4C81-8CDE-381AB447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4CB-F7F5-4BC3-82AB-29B532E6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331-B734-4728-8EC5-69D34A03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0DC-16D7-4AE7-8CBB-36542309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A068-10FD-4750-AB1D-29CE6D96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C3E1-3EE0-4D0D-A303-93016B42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333D-3864-4869-BF8D-AB353AEF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FBF5-F96B-4C52-B6D6-BD180070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EBFD-781A-49C2-8EFD-56DDE856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627A-7F7D-47AA-953A-7947B079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F60C-AD13-4AE5-962D-DDA504CD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7CD1-8799-4110-9E52-DCFDFB4C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C5D0-858F-4367-B636-25CF714B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ED72-DD28-417B-8737-4FA40D77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5DFB-7627-46E6-9016-B2849E45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4B41-8A46-48AA-996D-FBF90065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E593-0014-4349-B199-DED66539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4D8-69D5-4FFE-9994-E2651788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5F6B-AA89-47A0-823F-DBC7DC18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3E4-A551-4120-A364-B7CC86E3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435-8BE4-4E80-820B-D153D974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B95-D020-46C9-B9D8-03F3CE8E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F6A-B2C5-4E07-9A84-B153E17D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4BA-4685-4C3F-A464-F9D2CBCA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858F-B636-45F9-8993-7AE14254202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4B21-94BD-4CE4-9AFC-6859C5FC949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90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324000" y="765000"/>
          <a:ext cx="8569080" cy="46324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632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Задание №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Напишите  5 слов-ассоциаций, которые возникают у вас, когда вы слышите слово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lang="ru-RU" sz="8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«ТЕРРОРИЗМ»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Картинка 183 из 837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0" y="620640"/>
            <a:ext cx="47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</a:rPr>
              <a:t>НАСИЛИЕ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4716360" y="90792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Times New Roman"/>
              </a:rPr>
              <a:t>УГРОЗА</a:t>
            </a:r>
            <a:endParaRPr b="0" lang="en-US" sz="7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684360" y="4653000"/>
            <a:ext cx="331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СТРАХ</a:t>
            </a:r>
            <a:endParaRPr b="0" lang="en-US" sz="7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211640" y="379584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82971"/>
                </a:solidFill>
                <a:latin typeface="Times New Roman"/>
              </a:rPr>
              <a:t>ужас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Прямоугольник 6" descr=""/>
          <p:cNvPicPr/>
          <p:nvPr/>
        </p:nvPicPr>
        <p:blipFill>
          <a:blip r:embed="rId2"/>
          <a:stretch/>
        </p:blipFill>
        <p:spPr>
          <a:xfrm>
            <a:off x="-73080" y="1925640"/>
            <a:ext cx="9515520" cy="258588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1476360" y="585324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ПРЕСТУПЛЕНИЕ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Прямоугольник 1" descr=""/>
          <p:cNvPicPr/>
          <p:nvPr/>
        </p:nvPicPr>
        <p:blipFill>
          <a:blip r:embed="rId3"/>
          <a:stretch/>
        </p:blipFill>
        <p:spPr>
          <a:xfrm>
            <a:off x="139680" y="-133200"/>
            <a:ext cx="878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7"/>
          <p:cNvSpPr/>
          <p:nvPr/>
        </p:nvSpPr>
        <p:spPr>
          <a:xfrm>
            <a:off x="2049840" y="198612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силия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248760" y="1484280"/>
            <a:ext cx="25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тремиться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1547640" y="907920"/>
            <a:ext cx="34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рганизованная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5796000" y="333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еступлени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322200" y="189000"/>
            <a:ext cx="86425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00000"/>
                </a:solidFill>
                <a:uFillTx/>
                <a:latin typeface="Times New Roman"/>
              </a:rPr>
              <a:t>Терроризм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тяжкое                         , когда                              группа людей   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ичь своей цели при помощи                   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2268360" y="3716280"/>
            <a:ext cx="395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тремится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еступление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силия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рганизованная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5940360" y="404640"/>
            <a:ext cx="28728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516720" y="404640"/>
            <a:ext cx="36036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7308720" y="404640"/>
            <a:ext cx="28764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8028000" y="404640"/>
            <a:ext cx="28728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1981080" y="1033560"/>
            <a:ext cx="28728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2557440" y="1033560"/>
            <a:ext cx="36036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3349800" y="1033560"/>
            <a:ext cx="28728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4068720" y="1033560"/>
            <a:ext cx="28728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324000" y="1609560"/>
            <a:ext cx="28728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900000" y="1609560"/>
            <a:ext cx="36036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1692360" y="1609560"/>
            <a:ext cx="28728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Text Box 31"/>
          <p:cNvSpPr/>
          <p:nvPr/>
        </p:nvSpPr>
        <p:spPr>
          <a:xfrm>
            <a:off x="2411280" y="1609560"/>
            <a:ext cx="28764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Text Box 33"/>
          <p:cNvSpPr/>
          <p:nvPr/>
        </p:nvSpPr>
        <p:spPr>
          <a:xfrm>
            <a:off x="2268360" y="2133720"/>
            <a:ext cx="28764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2771640" y="2133720"/>
            <a:ext cx="36036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Text Box 35"/>
          <p:cNvSpPr/>
          <p:nvPr/>
        </p:nvSpPr>
        <p:spPr>
          <a:xfrm>
            <a:off x="3348000" y="2133720"/>
            <a:ext cx="28728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3851280" y="2133720"/>
            <a:ext cx="28728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AutoShape 38">
            <a:hlinkClick r:id="" action="ppaction://hlinkshowjump?jump=nextslide"/>
          </p:cNvPr>
          <p:cNvSpPr/>
          <p:nvPr/>
        </p:nvSpPr>
        <p:spPr>
          <a:xfrm>
            <a:off x="7667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Прямоугольник 1"/>
          <p:cNvSpPr/>
          <p:nvPr/>
        </p:nvSpPr>
        <p:spPr>
          <a:xfrm>
            <a:off x="2995560" y="288936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324000" y="476280"/>
            <a:ext cx="8424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Вы обнаружили подозрительный предмет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ПОДХОДИТЬ, СООБЩИТЬ В ПОЛИЦИЮ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Если произошел взрыв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ЦЕНИТЬ СИТУАЦИЮ И ОПРЕДЕЛИТЬ БЕЗОПАСНЫЙ ПУТЬ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Если произошел взрыв и вас завалило обломками стен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ВЛЕКАТЬ ВНИМАНИЕ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Если после взрыва начался пожар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  <a:ea typeface="Calibri"/>
              </a:rPr>
              <a:t> 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  <a:ea typeface="Calibri"/>
              </a:rPr>
              <a:t>ВЫЙТИ ИЗ ЗОНЫ ПОЖАРА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AutoShape 10">
            <a:hlinkClick r:id="" action="ppaction://hlinkshowjump?jump=nextslide"/>
          </p:cNvPr>
          <p:cNvSpPr/>
          <p:nvPr/>
        </p:nvSpPr>
        <p:spPr>
          <a:xfrm>
            <a:off x="3203640" y="1700280"/>
            <a:ext cx="395280" cy="288720"/>
          </a:xfrm>
          <a:custGeom>
            <a:avLst/>
            <a:gdLst>
              <a:gd name="textAreaLeft" fmla="*/ 18720 w 395280"/>
              <a:gd name="textAreaRight" fmla="*/ 376560 w 395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9562" h="21600">
                <a:moveTo>
                  <a:pt x="0" y="0"/>
                </a:moveTo>
                <a:lnTo>
                  <a:pt x="29562" y="0"/>
                </a:lnTo>
                <a:lnTo>
                  <a:pt x="29562" y="21600"/>
                </a:lnTo>
                <a:lnTo>
                  <a:pt x="0" y="21600"/>
                </a:lnTo>
                <a:close/>
              </a:path>
              <a:path fill="lightenLess" w="29562" h="21600">
                <a:moveTo>
                  <a:pt x="0" y="0"/>
                </a:moveTo>
                <a:lnTo>
                  <a:pt x="29562" y="0"/>
                </a:lnTo>
                <a:lnTo>
                  <a:pt x="28162" y="1400"/>
                </a:lnTo>
                <a:lnTo>
                  <a:pt x="1400" y="1400"/>
                </a:lnTo>
                <a:close/>
              </a:path>
              <a:path fill="darken" w="29562" h="21600">
                <a:moveTo>
                  <a:pt x="29562" y="0"/>
                </a:moveTo>
                <a:lnTo>
                  <a:pt x="29562" y="21600"/>
                </a:lnTo>
                <a:lnTo>
                  <a:pt x="28162" y="20200"/>
                </a:lnTo>
                <a:lnTo>
                  <a:pt x="28162" y="1400"/>
                </a:lnTo>
                <a:close/>
              </a:path>
              <a:path fill="darkenLess" w="29562" h="21600">
                <a:moveTo>
                  <a:pt x="29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62" y="20200"/>
                </a:lnTo>
                <a:close/>
              </a:path>
              <a:path fill="lighten" w="29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62" h="21600">
                <a:moveTo>
                  <a:pt x="7775" y="3794"/>
                </a:moveTo>
                <a:lnTo>
                  <a:pt x="21788" y="10800"/>
                </a:lnTo>
                <a:lnTo>
                  <a:pt x="7775" y="17806"/>
                </a:lnTo>
                <a:close/>
              </a:path>
            </a:pathLst>
          </a:custGeom>
          <a:solidFill>
            <a:srgbClr val="203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AutoShape 10">
            <a:hlinkClick r:id="" action="ppaction://hlinkshowjump?jump=nextslide"/>
          </p:cNvPr>
          <p:cNvSpPr/>
          <p:nvPr/>
        </p:nvSpPr>
        <p:spPr>
          <a:xfrm>
            <a:off x="5796000" y="47628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4839" y="3794"/>
                </a:moveTo>
                <a:lnTo>
                  <a:pt x="18852" y="10800"/>
                </a:lnTo>
                <a:lnTo>
                  <a:pt x="4839" y="17806"/>
                </a:lnTo>
                <a:close/>
              </a:path>
            </a:pathLst>
          </a:custGeom>
          <a:solidFill>
            <a:srgbClr val="203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AutoShape 10">
            <a:hlinkClick r:id="" action="ppaction://hlinkshowjump?jump=nextslide"/>
          </p:cNvPr>
          <p:cNvSpPr/>
          <p:nvPr/>
        </p:nvSpPr>
        <p:spPr>
          <a:xfrm>
            <a:off x="6516720" y="2997360"/>
            <a:ext cx="520560" cy="288720"/>
          </a:xfrm>
          <a:custGeom>
            <a:avLst/>
            <a:gdLst>
              <a:gd name="textAreaLeft" fmla="*/ 18720 w 520560"/>
              <a:gd name="textAreaRight" fmla="*/ 501840 w 5205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8923" h="21600">
                <a:moveTo>
                  <a:pt x="0" y="0"/>
                </a:moveTo>
                <a:lnTo>
                  <a:pt x="38923" y="0"/>
                </a:lnTo>
                <a:lnTo>
                  <a:pt x="38923" y="21600"/>
                </a:lnTo>
                <a:lnTo>
                  <a:pt x="0" y="21600"/>
                </a:lnTo>
                <a:close/>
              </a:path>
              <a:path fill="lightenLess" w="38923" h="21600">
                <a:moveTo>
                  <a:pt x="0" y="0"/>
                </a:moveTo>
                <a:lnTo>
                  <a:pt x="38923" y="0"/>
                </a:lnTo>
                <a:lnTo>
                  <a:pt x="37523" y="1400"/>
                </a:lnTo>
                <a:lnTo>
                  <a:pt x="1400" y="1400"/>
                </a:lnTo>
                <a:close/>
              </a:path>
              <a:path fill="darken" w="38923" h="21600">
                <a:moveTo>
                  <a:pt x="38923" y="0"/>
                </a:moveTo>
                <a:lnTo>
                  <a:pt x="38923" y="21600"/>
                </a:lnTo>
                <a:lnTo>
                  <a:pt x="37523" y="20200"/>
                </a:lnTo>
                <a:lnTo>
                  <a:pt x="37523" y="1400"/>
                </a:lnTo>
                <a:close/>
              </a:path>
              <a:path fill="darkenLess" w="38923" h="21600">
                <a:moveTo>
                  <a:pt x="38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23" y="20200"/>
                </a:lnTo>
                <a:close/>
              </a:path>
              <a:path fill="lighten" w="38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23" h="21600">
                <a:moveTo>
                  <a:pt x="12455" y="3794"/>
                </a:moveTo>
                <a:lnTo>
                  <a:pt x="26468" y="10800"/>
                </a:lnTo>
                <a:lnTo>
                  <a:pt x="12455" y="17806"/>
                </a:lnTo>
                <a:close/>
              </a:path>
            </a:pathLst>
          </a:custGeom>
          <a:solidFill>
            <a:srgbClr val="203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AutoShape 10">
            <a:hlinkClick r:id="" action="ppaction://hlinkshowjump?jump=nextslide"/>
          </p:cNvPr>
          <p:cNvSpPr/>
          <p:nvPr/>
        </p:nvSpPr>
        <p:spPr>
          <a:xfrm>
            <a:off x="4356000" y="4149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203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4:12:44Z</dcterms:created>
  <dc:creator>Евгений</dc:creator>
  <dc:description/>
  <dc:language>en-US</dc:language>
  <cp:lastModifiedBy>Мария</cp:lastModifiedBy>
  <dcterms:modified xsi:type="dcterms:W3CDTF">2012-11-13T09:59:56Z</dcterms:modified>
  <cp:revision>87</cp:revision>
  <dc:subject/>
  <dc:title>Презентация PowerPoint</dc:title>
</cp:coreProperties>
</file>