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062-C117-4886-861F-45268454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E05-A470-4F32-909E-1DEBEFF4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8F3-2411-465F-B285-67F8976D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394-C871-4229-BB39-E5612217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803-39B2-4412-B05C-3CDEAFBE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198-4940-4BFB-8B21-E996D872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964-F34C-4138-B9F4-4A8146BD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F24-096A-456E-8F18-EBD6DBD0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930-897A-4588-A20B-44D0568B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B47-D9C3-460E-8643-907DC63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283-B9C7-4B92-A63E-44095A4B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83E-5ACE-446D-843F-1F38400B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F4E6CE-F2E9-4FF0-95F7-791A20AD5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День космонавт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 апр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C:\Users\Сергей\Desktop\1325214327_cosmos.jpg"/>
          <p:cNvPicPr/>
          <p:nvPr/>
        </p:nvPicPr>
        <p:blipFill>
          <a:blip r:embed="rId1"/>
          <a:stretch/>
        </p:blipFill>
        <p:spPr>
          <a:xfrm>
            <a:off x="468360" y="1708200"/>
            <a:ext cx="864396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Users\Сергей\Desktop\i (1).jpg"/>
          <p:cNvPicPr/>
          <p:nvPr/>
        </p:nvPicPr>
        <p:blipFill>
          <a:blip r:embed="rId1"/>
          <a:stretch/>
        </p:blipFill>
        <p:spPr>
          <a:xfrm>
            <a:off x="825480" y="1065240"/>
            <a:ext cx="4286160" cy="5429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5326200" y="1494000"/>
            <a:ext cx="38574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вицкая Светлана Евген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C:\Users\Сергей\Desktop\bimg51654.jpg"/>
          <p:cNvPicPr/>
          <p:nvPr/>
        </p:nvPicPr>
        <p:blipFill>
          <a:blip r:embed="rId1"/>
          <a:stretch/>
        </p:blipFill>
        <p:spPr>
          <a:xfrm>
            <a:off x="611280" y="993600"/>
            <a:ext cx="5072040" cy="550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5754600" y="1351080"/>
            <a:ext cx="35719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дак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лена 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:\Users\Сергей\Desktop\i (2).jpg"/>
          <p:cNvPicPr/>
          <p:nvPr/>
        </p:nvPicPr>
        <p:blipFill>
          <a:blip r:embed="rId1"/>
          <a:stretch/>
        </p:blipFill>
        <p:spPr>
          <a:xfrm>
            <a:off x="611280" y="779400"/>
            <a:ext cx="5572080" cy="5643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6540480" y="1351080"/>
            <a:ext cx="285768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лёв Сергей Павл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Сергей\Desktop\shen5.jpg"/>
          <p:cNvPicPr/>
          <p:nvPr/>
        </p:nvPicPr>
        <p:blipFill>
          <a:blip r:embed="rId1"/>
          <a:stretch/>
        </p:blipFill>
        <p:spPr>
          <a:xfrm>
            <a:off x="254160" y="422280"/>
            <a:ext cx="6289560" cy="6643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6754680" y="1351080"/>
            <a:ext cx="29289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рт рак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C:\Users\Сергей\Desktop\nositel.jpg"/>
          <p:cNvPicPr/>
          <p:nvPr/>
        </p:nvPicPr>
        <p:blipFill>
          <a:blip r:embed="rId1"/>
          <a:stretch/>
        </p:blipFill>
        <p:spPr>
          <a:xfrm>
            <a:off x="682560" y="493560"/>
            <a:ext cx="4143600" cy="664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Сергей\Desktop\1727.jpg"/>
          <p:cNvPicPr/>
          <p:nvPr/>
        </p:nvPicPr>
        <p:blipFill>
          <a:blip r:embed="rId2"/>
          <a:stretch/>
        </p:blipFill>
        <p:spPr>
          <a:xfrm>
            <a:off x="5111640" y="493560"/>
            <a:ext cx="400068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:\Users\Сергей\Desktop\a30c88.jpg"/>
          <p:cNvPicPr/>
          <p:nvPr/>
        </p:nvPicPr>
        <p:blipFill>
          <a:blip r:embed="rId1"/>
          <a:stretch/>
        </p:blipFill>
        <p:spPr>
          <a:xfrm>
            <a:off x="2540160" y="933480"/>
            <a:ext cx="4643280" cy="541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1611360" y="279360"/>
            <a:ext cx="6000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приземления Гаг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25440" y="6494400"/>
            <a:ext cx="9072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товская область , у деревни Смел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6"/>
          <p:cNvSpPr/>
          <p:nvPr/>
        </p:nvSpPr>
        <p:spPr>
          <a:xfrm>
            <a:off x="2851200" y="5811840"/>
            <a:ext cx="425520" cy="17640"/>
          </a:xfrm>
          <a:custGeom>
            <a:avLst/>
            <a:gdLst/>
            <a:ahLst/>
            <a:rect l="l" t="t" r="r" b="b"/>
            <a:pathLst>
              <a:path w="1183" h="45">
                <a:moveTo>
                  <a:pt x="7919" y="16190"/>
                </a:moveTo>
                <a:cubicBezTo>
                  <a:pt x="8079" y="16137"/>
                  <a:pt x="8228" y="16146"/>
                  <a:pt x="8401" y="16146"/>
                </a:cubicBezTo>
                <a:cubicBezTo>
                  <a:pt x="8634" y="16146"/>
                  <a:pt x="8868" y="16146"/>
                  <a:pt x="9101" y="16146"/>
                </a:cubicBez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Сергей\Desktop\thumbnail.aspx.jpg"/>
          <p:cNvPicPr/>
          <p:nvPr/>
        </p:nvPicPr>
        <p:blipFill>
          <a:blip r:embed="rId1"/>
          <a:stretch/>
        </p:blipFill>
        <p:spPr>
          <a:xfrm>
            <a:off x="468360" y="922320"/>
            <a:ext cx="5143320" cy="5624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6326280" y="1494000"/>
            <a:ext cx="34290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ман Степан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 приземления  Ти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Файл:T 01.jpg"/>
          <p:cNvPicPr/>
          <p:nvPr/>
        </p:nvPicPr>
        <p:blipFill>
          <a:blip r:embed="rId1"/>
          <a:stretch/>
        </p:blipFill>
        <p:spPr>
          <a:xfrm>
            <a:off x="682560" y="1565280"/>
            <a:ext cx="8429760" cy="541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7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Файл:T 02.jpg"/>
          <p:cNvPicPr/>
          <p:nvPr/>
        </p:nvPicPr>
        <p:blipFill>
          <a:blip r:embed="rId1"/>
          <a:stretch/>
        </p:blipFill>
        <p:spPr>
          <a:xfrm>
            <a:off x="2039760" y="1065240"/>
            <a:ext cx="5357880" cy="62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Сергей\Desktop\71653062_15.jpg"/>
          <p:cNvPicPr/>
          <p:nvPr/>
        </p:nvPicPr>
        <p:blipFill>
          <a:blip r:embed="rId1"/>
          <a:stretch/>
        </p:blipFill>
        <p:spPr>
          <a:xfrm>
            <a:off x="754200" y="779400"/>
            <a:ext cx="4230720" cy="5715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5111640" y="1136520"/>
            <a:ext cx="49690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решк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ленти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4"/>
          <p:cNvSpPr/>
          <p:nvPr/>
        </p:nvSpPr>
        <p:spPr>
          <a:xfrm>
            <a:off x="4529160" y="-250920"/>
            <a:ext cx="5543640" cy="4253040"/>
          </a:xfrm>
          <a:custGeom>
            <a:avLst/>
            <a:gdLst/>
            <a:ahLst/>
            <a:rect l="l" t="t" r="r" b="b"/>
            <a:pathLst>
              <a:path w="15402" h="11815">
                <a:moveTo>
                  <a:pt x="12579" y="11114"/>
                </a:moveTo>
                <a:lnTo>
                  <a:pt x="12579" y="11114"/>
                </a:lnTo>
              </a:path>
              <a:path w="15402" h="11815">
                <a:moveTo>
                  <a:pt x="27980" y="-700"/>
                </a:moveTo>
                <a:lnTo>
                  <a:pt x="27980" y="-7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>Сергей</dc:creator>
  <dc:description/>
  <dc:language>en-US</dc:language>
  <cp:lastModifiedBy>Пользователь Windows</cp:lastModifiedBy>
  <dcterms:modified xsi:type="dcterms:W3CDTF">2012-04-12T17:33:00Z</dcterms:modified>
  <cp:revision>11</cp:revision>
  <dc:subject/>
  <dc:title>День космонавтики</dc:title>
</cp:coreProperties>
</file>