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165-7A20-4435-B649-56ADB0B9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ED2-1DFD-49D3-84A1-7A34544A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14B-6A96-42F6-BC62-BACEB667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94C-820F-44FA-A483-D6B45E4D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7F5-8876-4A93-8258-A980C99C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A4D-4AFE-4178-B7DB-21F1D21B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C0F-E73C-423B-AF53-43935B5B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DFE-D842-4FEF-B45F-1F0D669A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C54-25A0-41FC-B9FF-F707D65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F90-7704-408F-92E8-8FC8C5C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D77-0D4A-49C2-9263-C9ABC0EE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009-C532-482F-BCAF-C8B6340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06C5-0F13-4303-AFEC-7D241943F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11280" y="331920"/>
            <a:ext cx="55454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хнологи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уроках биолог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ри подготов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щихся к ЕГ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9280" y="5000760"/>
            <a:ext cx="4606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товил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тамонова О.Ю.,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БОУ СОШ №74 г. Ульян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916360" y="184464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 использованием Н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жно активиз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ные 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085880" y="2794320"/>
            <a:ext cx="1793160" cy="70380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ворческ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417680" y="476280"/>
            <a:ext cx="2611440" cy="70380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ов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25320" y="5445000"/>
            <a:ext cx="3327840" cy="70380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дготовку и провер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домашнего задания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724000" y="549360"/>
            <a:ext cx="2785320" cy="70380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амостоятель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148360" y="5373720"/>
            <a:ext cx="3625920" cy="70380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Проверочные и контроль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64960" y="2781360"/>
            <a:ext cx="1959120" cy="70380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ff"/>
                </a:solidFill>
                <a:latin typeface="Arial"/>
              </a:rPr>
              <a:t>Внекласс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ff"/>
                </a:solidFill>
                <a:latin typeface="Arial"/>
              </a:rPr>
              <a:t>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1835280" y="4654440"/>
            <a:ext cx="107928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6588000" y="1341360"/>
            <a:ext cx="79236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 flipV="1">
            <a:off x="2050920" y="1341000"/>
            <a:ext cx="8654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6372360" y="4508640"/>
            <a:ext cx="863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2411280" y="321300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6084720" y="3213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971640" y="1413000"/>
            <a:ext cx="7343640" cy="359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300" spc="-1" strike="noStrike">
                <a:solidFill>
                  <a:srgbClr val="002060"/>
                </a:solidFill>
                <a:latin typeface="Arial"/>
              </a:rPr>
              <a:t>В перспективе информационные и коммуникационные компоненты  системы образования будут доминировать, поскольку жить и работать выпускникам школ придется уже в информационном обществе. Приоритетная роль в нем будет принадлежать фундаментальным знаниям об информационных процессах в природе и обществе и новым информационным технология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MCj04348100000[1]"/>
          <p:cNvPicPr/>
          <p:nvPr/>
        </p:nvPicPr>
        <p:blipFill>
          <a:blip r:embed="rId1"/>
          <a:stretch/>
        </p:blipFill>
        <p:spPr>
          <a:xfrm>
            <a:off x="0" y="-21420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rw_170x_of_07-193"/>
          <p:cNvPicPr/>
          <p:nvPr/>
        </p:nvPicPr>
        <p:blipFill>
          <a:blip r:embed="rId2"/>
          <a:stretch/>
        </p:blipFill>
        <p:spPr>
          <a:xfrm>
            <a:off x="6372360" y="4797360"/>
            <a:ext cx="2555640" cy="19256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142920" y="6500880"/>
            <a:ext cx="42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Arial"/>
              </a:rPr>
              <a:t>Источник информации – журнал «Биология в школ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5"/>
          <p:cNvSpPr txBox="1"/>
          <p:nvPr/>
        </p:nvSpPr>
        <p:spPr>
          <a:xfrm>
            <a:off x="468360" y="1844640"/>
            <a:ext cx="8207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риме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информационных технолог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ри подготовке учащихся к ЕГ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540000"/>
            <a:ext cx="9144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руктура экзаменационной работы по биологии ЕГЭ 201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е число заданий в работе —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остоит из тре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Часть 1 (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держит 36 заданий с выбором одного верного ответа из четырех, из них 26 — базового и 10 — повышенного уров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Часть 2 (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ключает 8 заданий повышенного уровня: 3 — с выбором нескольких верных ответов из шести,4 — на соответствие и 1 задание на определение последовательности биологических явлений и процес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Часть 3 (С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ключает 6 заданий со свободным развернутым ответом: 1 — повышенного уровня и 5 — высокого уров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6464520" y="6500880"/>
            <a:ext cx="26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http://www.ege.edu.ru/ru/main/demover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36520" y="-68400"/>
            <a:ext cx="86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спределение заданий по основным содержательным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окам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052640"/>
          <a:ext cx="8642160" cy="5699160"/>
        </p:xfrm>
        <a:graphic>
          <a:graphicData uri="http://schemas.openxmlformats.org/drawingml/2006/table">
            <a:tbl>
              <a:tblPr/>
              <a:tblGrid>
                <a:gridCol w="641160"/>
                <a:gridCol w="3068640"/>
                <a:gridCol w="992160"/>
                <a:gridCol w="1131840"/>
                <a:gridCol w="28083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тельные бл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о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ксимальный первичны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цент максимального первичного балла за задания данного блока содержания от максимального первичного балла за всю работу (=6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 – наука о живой прир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етка как биологическая сист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м как биологическая сист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ногообразие организм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еловек и его здоровь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дорганизменные системы. Эволюция органического ми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осистемы и присущие им закономер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500120" y="1500120"/>
            <a:ext cx="7561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менты содержания,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яемые заданиями КИМ,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блоку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летка как биологическая система"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5" descr="i_kletka_1"/>
          <p:cNvPicPr/>
          <p:nvPr/>
        </p:nvPicPr>
        <p:blipFill>
          <a:blip r:embed="rId1"/>
          <a:srcRect l="5533" t="0" r="10871" b="0"/>
          <a:stretch/>
        </p:blipFill>
        <p:spPr>
          <a:xfrm rot="948000">
            <a:off x="7020000" y="4581360"/>
            <a:ext cx="173808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icromed-c12"/>
          <p:cNvPicPr/>
          <p:nvPr/>
        </p:nvPicPr>
        <p:blipFill>
          <a:blip r:embed="rId2"/>
          <a:stretch/>
        </p:blipFill>
        <p:spPr>
          <a:xfrm>
            <a:off x="179280" y="11592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24000" y="260280"/>
            <a:ext cx="8353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Клеточная теория,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её основные положения, роль в формировании современной естественнонаучной картины мира. Развитие знаний  о клетке. Клеточное строение организмов, сходство строения клеток всех организмов — основа единства органического мира, доказательства родства живой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95280" y="2060640"/>
            <a:ext cx="8497800" cy="4392720"/>
          </a:xfrm>
          <a:prstGeom prst="rect">
            <a:avLst/>
          </a:prstGeom>
          <a:solidFill>
            <a:srgbClr val="0000ff">
              <a:alpha val="5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9999"/>
              </a:buClr>
              <a:buSzPct val="12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Клетка – это структурная и функциональная единица, а так же единица развития  всех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SzPct val="12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Клеткам присуще мембранное стро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SzPct val="12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Ядро – главная составная часть кле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SzPct val="12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овые клетки образуются путем деления ранее существующих кл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SzPct val="12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Клетки всех организмов сходные по своему химическому составу, строению и функциям и имеют единое происхож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73"/>
                </a:solidFill>
                <a:latin typeface="Arial"/>
              </a:rPr>
              <a:t>http://www.egeteka.ru/learning/intensive_work/biology/929</a:t>
            </a: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95280" y="333360"/>
            <a:ext cx="8353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етк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а строения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изнедеятельности, роста и развития организмов. Многообразие клеток. Сравнительная характеристика клеток растений, животных, бактерий, гри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7"/>
          <p:cNvPicPr/>
          <p:nvPr/>
        </p:nvPicPr>
        <p:blipFill>
          <a:blip r:embed="rId1"/>
          <a:srcRect l="33324" t="4038" r="14958" b="73753"/>
          <a:stretch/>
        </p:blipFill>
        <p:spPr>
          <a:xfrm>
            <a:off x="142920" y="1357200"/>
            <a:ext cx="33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17"/>
          <p:cNvPicPr/>
          <p:nvPr/>
        </p:nvPicPr>
        <p:blipFill>
          <a:blip r:embed="rId2"/>
          <a:srcRect l="35831" t="30027" r="10038" b="42908"/>
          <a:stretch/>
        </p:blipFill>
        <p:spPr>
          <a:xfrm>
            <a:off x="5715000" y="1357200"/>
            <a:ext cx="3095640" cy="246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17"/>
          <p:cNvPicPr/>
          <p:nvPr/>
        </p:nvPicPr>
        <p:blipFill>
          <a:blip r:embed="rId3"/>
          <a:srcRect l="33470" t="60087" r="11988" b="11639"/>
          <a:stretch/>
        </p:blipFill>
        <p:spPr>
          <a:xfrm>
            <a:off x="3143160" y="3857760"/>
            <a:ext cx="2735280" cy="22525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0" y="65008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73"/>
                </a:solidFill>
                <a:latin typeface="Arial"/>
              </a:rPr>
              <a:t>http://school-collection.edu.ru/catalog/rubr/474383c8-b98e-4a38-90fb-553694e82c83/86759/?interface=pupil&amp;class=54&amp;subject=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14200" y="214200"/>
            <a:ext cx="8786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имическая организация клетки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Взаимосвязь строения и функций неорганических и органических веществ (белков, нуклеиновых кислот, углеводов, липидов, АТФ), входящих в состав клетки. Обоснование родства организмов на основе анализа химического состава их кл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08010502"/>
          <p:cNvPicPr/>
          <p:nvPr/>
        </p:nvPicPr>
        <p:blipFill>
          <a:blip r:embed="rId1"/>
          <a:stretch/>
        </p:blipFill>
        <p:spPr>
          <a:xfrm>
            <a:off x="357120" y="2143080"/>
            <a:ext cx="8352000" cy="4340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214800" y="1714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руктура бе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http://school-collection.edu.ru/catalog/rubr/000001a5-a000-4ddd-5fde-0c0046b1db9c/81853/?interface=pupil&amp;class[]=51&amp;class[]=54&amp;subject=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14200" y="189000"/>
            <a:ext cx="86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. Строение про- и эукариотической клетки. Взаимосвязь строения и функций частей и органоидов клетки — основа ее цело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kletka"/>
          <p:cNvPicPr/>
          <p:nvPr/>
        </p:nvPicPr>
        <p:blipFill>
          <a:blip r:embed="rId1"/>
          <a:srcRect l="880" t="1325" r="1274" b="1350"/>
          <a:stretch/>
        </p:blipFill>
        <p:spPr>
          <a:xfrm>
            <a:off x="468360" y="1052640"/>
            <a:ext cx="8280360" cy="5494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http://school-collection.edu.ru/catalog/rubr/000001a5-a000-4ddd-5fde-0c0046b1db9c/81855/?interface=pupil&amp;class[]=51&amp;class[]=54&amp;subject=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692360" y="18900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ласти примен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Т* в образован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258920" y="1268280"/>
            <a:ext cx="68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>
            <a:off x="1979640" y="1268280"/>
            <a:ext cx="792000" cy="100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6516720" y="1268280"/>
            <a:ext cx="719280" cy="100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0" y="2276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беспечение аудиторных за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708360" y="37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4643280" y="1268280"/>
            <a:ext cx="0" cy="237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084720" y="22766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лектронные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100_3091"/>
          <p:cNvPicPr/>
          <p:nvPr/>
        </p:nvPicPr>
        <p:blipFill>
          <a:blip r:embed="rId1"/>
          <a:srcRect l="0" t="0" r="10197" b="6295"/>
          <a:stretch/>
        </p:blipFill>
        <p:spPr>
          <a:xfrm>
            <a:off x="6227640" y="3716280"/>
            <a:ext cx="2737080" cy="21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internet-explorer"/>
          <p:cNvPicPr/>
          <p:nvPr/>
        </p:nvPicPr>
        <p:blipFill>
          <a:blip r:embed="rId2"/>
          <a:stretch/>
        </p:blipFill>
        <p:spPr>
          <a:xfrm>
            <a:off x="3780000" y="4292640"/>
            <a:ext cx="175572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100_3079"/>
          <p:cNvPicPr/>
          <p:nvPr/>
        </p:nvPicPr>
        <p:blipFill>
          <a:blip r:embed="rId3"/>
          <a:stretch/>
        </p:blipFill>
        <p:spPr>
          <a:xfrm>
            <a:off x="250920" y="3716280"/>
            <a:ext cx="280836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1"/>
          <p:cNvSpPr/>
          <p:nvPr/>
        </p:nvSpPr>
        <p:spPr>
          <a:xfrm>
            <a:off x="250920" y="63752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* Новые 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42920" y="189000"/>
            <a:ext cx="88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. Строение про- и эукариотической клетки. Взаимосвязь строения и функций частей и органоидов клетки — основа ее цело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етаболизм: энергетический и пластический обмен, их взаимосвязь. Ферменты, их химическая природа, роль в метаболизме. Стадии энергетического обмена. Брожение и дыхание. Фотосинтез, его значение, космическая роль. Фазы фотосинтеза. Световые и темновые реакции фотосинтеза, их взаимосвязь. Хемосинт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438"/>
          <p:cNvPicPr/>
          <p:nvPr/>
        </p:nvPicPr>
        <p:blipFill>
          <a:blip r:embed="rId1"/>
          <a:stretch/>
        </p:blipFill>
        <p:spPr>
          <a:xfrm>
            <a:off x="3492360" y="2276640"/>
            <a:ext cx="2300400" cy="414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170103"/>
          <p:cNvPicPr/>
          <p:nvPr/>
        </p:nvPicPr>
        <p:blipFill>
          <a:blip r:embed="rId2"/>
          <a:stretch/>
        </p:blipFill>
        <p:spPr>
          <a:xfrm rot="21078600">
            <a:off x="244080" y="3146400"/>
            <a:ext cx="2954520" cy="2129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1127722613"/>
          <p:cNvPicPr/>
          <p:nvPr/>
        </p:nvPicPr>
        <p:blipFill>
          <a:blip r:embed="rId3"/>
          <a:stretch/>
        </p:blipFill>
        <p:spPr>
          <a:xfrm rot="484200">
            <a:off x="6087960" y="3146400"/>
            <a:ext cx="2878200" cy="22464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http://school-collection.edu.ru/catalog/rubr/000001a5-a000-4ddd-5fde-0c0046b1db9c/81854/?interface=pupil&amp;class[]=51&amp;class[]=54&amp;subject=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14200" y="1890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6. Биосинтез белка и нуклеиновых кислот. Матричный характер реакций биосинтеза. Гены, генетический код и его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genom"/>
          <p:cNvPicPr/>
          <p:nvPr/>
        </p:nvPicPr>
        <p:blipFill>
          <a:blip r:embed="rId1"/>
          <a:stretch/>
        </p:blipFill>
        <p:spPr>
          <a:xfrm>
            <a:off x="1403280" y="12682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3"/>
          <p:cNvSpPr/>
          <p:nvPr/>
        </p:nvSpPr>
        <p:spPr>
          <a:xfrm>
            <a:off x="0" y="6429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http://school-collection.edu.ru/catalog/rubr/000001a5-a000-4ddd-5fde-0c0046b1db9c/81854/?interface=pupil&amp;class[]=51&amp;class[]=54&amp;subject=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214200" y="115920"/>
            <a:ext cx="878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7. Хромосомы, их строение (форма и размеры) и функции. Число хромосом и их видовое постоянство. Определение набора хромосом в соматических и половых клетках. Жизненный цикл клетки: интерфаза и митоз. Митоз — деление соматических клеток. Мейоз. Фазы митоза и мейоза. Развитие половых клеток у растений и животных. Сходство и отличие митоза и мейоза, их значение. Деление клетки — основа роста, развития и размножения орг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show"/>
          <p:cNvPicPr/>
          <p:nvPr/>
        </p:nvPicPr>
        <p:blipFill>
          <a:blip r:embed="rId1"/>
          <a:stretch/>
        </p:blipFill>
        <p:spPr>
          <a:xfrm>
            <a:off x="4716360" y="2349360"/>
            <a:ext cx="3816360" cy="378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1216409388_images1"/>
          <p:cNvPicPr/>
          <p:nvPr/>
        </p:nvPicPr>
        <p:blipFill>
          <a:blip r:embed="rId2"/>
          <a:stretch/>
        </p:blipFill>
        <p:spPr>
          <a:xfrm>
            <a:off x="900000" y="2421000"/>
            <a:ext cx="2938680" cy="38163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0" y="6429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73"/>
                </a:solidFill>
                <a:latin typeface="Arial"/>
              </a:rPr>
              <a:t>http://school-collection.edu.ru/catalog/rubr/000001a5-a000-4ddd-5fde-0c0046b1db9c/81854/?interface=pupil&amp;class[]=51&amp;class[]=54&amp;subject=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5"/>
          <p:cNvSpPr txBox="1"/>
          <p:nvPr/>
        </p:nvSpPr>
        <p:spPr>
          <a:xfrm>
            <a:off x="3203640" y="189000"/>
            <a:ext cx="26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280" y="907920"/>
            <a:ext cx="8713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ужно тщательно взвешивать: как, где и когда использовать компьютер при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обходима постоянная обратная связь учащегося с преподавателем, в том числе устная (диалог) и письменная (тетрад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допустима полная замена традиционных занятий на компьютер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мпьютер должен развивать успех преподавателя, экономить его время и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мпьютер может способствовать созданию у обучаемого «стереоскопической» картины мира, глубокому пониманию материала, более деталь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нтролю его усв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556000" y="2276640"/>
            <a:ext cx="5040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ю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чи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0" name="Picture 7" descr="medium"/>
          <p:cNvPicPr/>
          <p:nvPr/>
        </p:nvPicPr>
        <p:blipFill>
          <a:blip r:embed="rId2"/>
          <a:stretch/>
        </p:blipFill>
        <p:spPr>
          <a:xfrm>
            <a:off x="179280" y="189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340000" y="4428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сональный компьютер  с периферийными устройствами               (аппаратные средства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19640" y="2349360"/>
            <a:ext cx="230472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редства 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71640" y="400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ОР (цифровые образовательные ресур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00_3079"/>
          <p:cNvPicPr/>
          <p:nvPr/>
        </p:nvPicPr>
        <p:blipFill>
          <a:blip r:embed="rId1"/>
          <a:stretch/>
        </p:blipFill>
        <p:spPr>
          <a:xfrm>
            <a:off x="250920" y="1628640"/>
            <a:ext cx="2663640" cy="19954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V="1">
            <a:off x="4500720" y="1557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500720" y="3500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100_3073"/>
          <p:cNvPicPr/>
          <p:nvPr/>
        </p:nvPicPr>
        <p:blipFill>
          <a:blip r:embed="rId2"/>
          <a:stretch/>
        </p:blipFill>
        <p:spPr>
          <a:xfrm>
            <a:off x="6227640" y="1650960"/>
            <a:ext cx="2664000" cy="199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00_3082"/>
          <p:cNvPicPr/>
          <p:nvPr/>
        </p:nvPicPr>
        <p:blipFill>
          <a:blip r:embed="rId3"/>
          <a:srcRect l="8640" t="0" r="13948" b="0"/>
          <a:stretch/>
        </p:blipFill>
        <p:spPr>
          <a:xfrm>
            <a:off x="179280" y="4508640"/>
            <a:ext cx="1295640" cy="125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100_3084"/>
          <p:cNvPicPr/>
          <p:nvPr/>
        </p:nvPicPr>
        <p:blipFill>
          <a:blip r:embed="rId4"/>
          <a:srcRect l="9924" t="0" r="7374" b="0"/>
          <a:stretch/>
        </p:blipFill>
        <p:spPr>
          <a:xfrm>
            <a:off x="971640" y="5516640"/>
            <a:ext cx="1296720" cy="117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100_3080"/>
          <p:cNvPicPr/>
          <p:nvPr/>
        </p:nvPicPr>
        <p:blipFill>
          <a:blip r:embed="rId5"/>
          <a:srcRect l="8273" t="0" r="9267" b="0"/>
          <a:stretch/>
        </p:blipFill>
        <p:spPr>
          <a:xfrm>
            <a:off x="2195640" y="4581360"/>
            <a:ext cx="1224000" cy="111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100_3070"/>
          <p:cNvPicPr/>
          <p:nvPr/>
        </p:nvPicPr>
        <p:blipFill>
          <a:blip r:embed="rId6"/>
          <a:stretch/>
        </p:blipFill>
        <p:spPr>
          <a:xfrm>
            <a:off x="5580000" y="5589720"/>
            <a:ext cx="12240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100_3072"/>
          <p:cNvPicPr/>
          <p:nvPr/>
        </p:nvPicPr>
        <p:blipFill>
          <a:blip r:embed="rId7"/>
          <a:srcRect l="4355" t="0" r="0" b="0"/>
          <a:stretch/>
        </p:blipFill>
        <p:spPr>
          <a:xfrm>
            <a:off x="3203640" y="5589720"/>
            <a:ext cx="136692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100_3071"/>
          <p:cNvPicPr/>
          <p:nvPr/>
        </p:nvPicPr>
        <p:blipFill>
          <a:blip r:embed="rId8"/>
          <a:srcRect l="8823" t="0" r="0" b="0"/>
          <a:stretch/>
        </p:blipFill>
        <p:spPr>
          <a:xfrm>
            <a:off x="4500720" y="4653000"/>
            <a:ext cx="1223640" cy="100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100_3083"/>
          <p:cNvPicPr/>
          <p:nvPr/>
        </p:nvPicPr>
        <p:blipFill>
          <a:blip r:embed="rId9"/>
          <a:srcRect l="15290" t="0" r="8344" b="4132"/>
          <a:stretch/>
        </p:blipFill>
        <p:spPr>
          <a:xfrm>
            <a:off x="6732720" y="4581360"/>
            <a:ext cx="1296720" cy="122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100_3069"/>
          <p:cNvPicPr/>
          <p:nvPr/>
        </p:nvPicPr>
        <p:blipFill>
          <a:blip r:embed="rId10"/>
          <a:srcRect l="4900" t="0" r="0" b="0"/>
          <a:stretch/>
        </p:blipFill>
        <p:spPr>
          <a:xfrm>
            <a:off x="7596360" y="5589720"/>
            <a:ext cx="13842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556000" y="189000"/>
            <a:ext cx="374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ункции НИТ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981000"/>
            <a:ext cx="8496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формационно-справочное обеспечение зан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делирование и демонстрация объектов, явлений и процессов, которые невозможно показать с помощью традиционных средств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изводство измерений, имитация средств измерений и выполнение рутинной части обработки результатов измер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работка различных образователь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нтроль и оценка уровня подготовки учащихся.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65240"/>
            <a:ext cx="8785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Использование НИТ в образовании изменяет </a:t>
            </a:r>
            <a:r>
              <a:rPr b="1" i="1" lang="ru-RU" sz="2600" spc="-1" strike="noStrike" u="sng">
                <a:solidFill>
                  <a:srgbClr val="002060"/>
                </a:solidFill>
                <a:uFillTx/>
                <a:latin typeface="Arial"/>
              </a:rPr>
              <a:t>характер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i="1" lang="ru-RU" sz="2600" spc="-1" strike="noStrike" u="sng">
                <a:solidFill>
                  <a:srgbClr val="002060"/>
                </a:solidFill>
                <a:uFillTx/>
                <a:latin typeface="Arial"/>
              </a:rPr>
              <a:t>место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 и </a:t>
            </a:r>
            <a:r>
              <a:rPr b="1" i="1" lang="ru-RU" sz="2600" spc="-1" strike="noStrike" u="sng">
                <a:solidFill>
                  <a:srgbClr val="002060"/>
                </a:solidFill>
                <a:uFillTx/>
                <a:latin typeface="Arial"/>
              </a:rPr>
              <a:t>методы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совместной деятель-ности учителя и учащихся - складывается                </a:t>
            </a: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НОВАЯ МОДЕЛЬ ОБУЧЕНИЯ: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21760" y="2227320"/>
            <a:ext cx="21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990520" y="314784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средник (НИ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589440" y="402912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чащи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834920" y="3074760"/>
            <a:ext cx="1152360" cy="517320"/>
            <a:chOff x="1834920" y="3074760"/>
            <a:chExt cx="1152360" cy="517320"/>
          </a:xfrm>
        </p:grpSpPr>
        <p:sp>
          <p:nvSpPr>
            <p:cNvPr id="77" name="Line 11"/>
            <p:cNvSpPr/>
            <p:nvPr/>
          </p:nvSpPr>
          <p:spPr>
            <a:xfrm flipH="1">
              <a:off x="1834920" y="359208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V="1">
              <a:off x="1834920" y="3074760"/>
              <a:ext cx="0" cy="51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4"/>
          <p:cNvGrpSpPr/>
          <p:nvPr/>
        </p:nvGrpSpPr>
        <p:grpSpPr>
          <a:xfrm>
            <a:off x="6948360" y="3649680"/>
            <a:ext cx="1150920" cy="500040"/>
            <a:chOff x="6948360" y="3649680"/>
            <a:chExt cx="1150920" cy="500040"/>
          </a:xfrm>
        </p:grpSpPr>
        <p:sp>
          <p:nvSpPr>
            <p:cNvPr id="80" name="Line 15"/>
            <p:cNvSpPr/>
            <p:nvPr/>
          </p:nvSpPr>
          <p:spPr>
            <a:xfrm>
              <a:off x="6948360" y="3649680"/>
              <a:ext cx="115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8099280" y="364968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18" descr="j0300520"/>
          <p:cNvPicPr/>
          <p:nvPr/>
        </p:nvPicPr>
        <p:blipFill>
          <a:blip r:embed="rId1"/>
          <a:stretch/>
        </p:blipFill>
        <p:spPr>
          <a:xfrm>
            <a:off x="3851280" y="3794040"/>
            <a:ext cx="2016000" cy="173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overImage"/>
          <p:cNvPicPr/>
          <p:nvPr/>
        </p:nvPicPr>
        <p:blipFill>
          <a:blip r:embed="rId2"/>
          <a:srcRect l="0" t="10709" r="12348" b="0"/>
          <a:stretch/>
        </p:blipFill>
        <p:spPr>
          <a:xfrm>
            <a:off x="250920" y="3218040"/>
            <a:ext cx="1296720" cy="208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j0343343"/>
          <p:cNvPicPr/>
          <p:nvPr/>
        </p:nvPicPr>
        <p:blipFill>
          <a:blip r:embed="rId3"/>
          <a:stretch/>
        </p:blipFill>
        <p:spPr>
          <a:xfrm>
            <a:off x="7031160" y="4724280"/>
            <a:ext cx="1933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42920" y="18900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ороны образовательного процесса,                  на которые направлена                     деятельност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2200" y="1789200"/>
            <a:ext cx="8497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тивирование и стимулирование познавательной деятель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становку творческих проблем и указание направления поиска в затруднитель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здание интенсивно-структурированного, легко воспринимаемого и интерактивно-удобного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щее управление взаимодействия между учащимся и осваиваемым с помощью НИТ содерж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суждение проблем и ведение дискусс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ощь учащимся в тех случаях, когда недостаточно помощи, оказываемой средствами новых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нализ хода занятий и 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58920" y="260280"/>
            <a:ext cx="67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ы НИТ в образован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258920" y="1125360"/>
            <a:ext cx="68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 flipH="1">
            <a:off x="2196720" y="1125360"/>
            <a:ext cx="1079640" cy="1366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156360" y="1123920"/>
            <a:ext cx="86364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148360" y="2492280"/>
            <a:ext cx="3671640" cy="31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Процед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ятся на основе моделей изучаемых объектов, процессов и явл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митационные модели, предметно-ориентированные среды и разрабатываемые на их основе лабораторные практикумы, тренажеры, игровые программы)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39640" y="2492280"/>
            <a:ext cx="3672000" cy="31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Деклар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аны на последова-тельное предъявление учащимся порций учебной информации и контроль ее усвоен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компьютерные учебники, обучающие и контролирующие программы, справочные системы, учебные видеофильм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619280" y="189000"/>
            <a:ext cx="61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вни образовательных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пьютерных сред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195640" y="15429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ченически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332000" y="21193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еподавательски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32000" y="28386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дминистратив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4000" y="39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д образовательной компьютерной средой понимают программный комплекс, создающий максимально комфортные условия учащимся и педагогам, обеспечивающий высокую результативность учебных занятий и контроля уровня учебных достижений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340000" y="189000"/>
            <a:ext cx="460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ие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28760" y="2071800"/>
            <a:ext cx="410364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ребуется индивидуализировать обучение, особенно в связи с большими различиями в уровне подготовленности уча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Цифровые образовательные ресурсы содержат материал, который нельзя показать традиционными способами (модели и анимационные иллюстрации, видеофрагменты, отражающие динамику описываемых процессов, и т.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3.    Требуется быстрый поиск информации в большом её масси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4.    Научно устоявшееся и хорошо формализуемое содержание подтверждается множеством фактов и иллюстраций, но трудно осваив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859280" y="1989000"/>
            <a:ext cx="4033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Необходимо выводить на экран текстовый фрагмент значительного объем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Необходимо высокоэмоциональное восприятие материала, обеспечиваемое только «живым» общением с учите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чебный материал плохо структурируется, и в нем сложно выделить логические взаимо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4.    Требуется представить объекты, механизмы, схемы, процессы, которые не могут целиком разместиться на экране монитора, а их дробление ведет к ухудшению восприятия осваиваемого раздел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4643280" y="206064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42920" y="1052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целесообразн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867280" y="1052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нежел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40360" y="1413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55:00Z</dcterms:created>
  <dc:creator>кабинет 34</dc:creator>
  <dc:description/>
  <dc:language>en-US</dc:language>
  <cp:lastModifiedBy>Ольга</cp:lastModifiedBy>
  <dcterms:modified xsi:type="dcterms:W3CDTF">2012-11-12T20:09:54Z</dcterms:modified>
  <cp:revision>44</cp:revision>
  <dc:subject/>
  <dc:title>Слайд 1</dc:title>
</cp:coreProperties>
</file>