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386-7232-4227-891C-B472BFAD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DF2-548D-4A66-92FF-568DBD8B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4D8-8D23-462E-95B9-88CD31CC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7EA-F067-40D1-8C79-176A01FA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642-0820-456F-908F-B4C8B97B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4D8-F6DA-4575-B6F3-DBF27CB4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432-5F77-46EA-8375-7D1819DC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DF3-6808-4BE6-9C7E-38A33B9C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F64-1EBB-4043-88D1-CBFCBD9C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927-1C8B-47B4-8886-BB6EEF56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14D-3A26-439B-B72C-91381752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67F-DC10-4903-AC1C-E951DF62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6AC9-1751-4612-86CF-40C5E1EE3A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928880" y="8703360"/>
            <a:ext cx="42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знецова Виктор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286000" y="4411800"/>
            <a:ext cx="25002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9600" y="285840"/>
            <a:ext cx="7980480" cy="18669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286000" y="3322800"/>
            <a:ext cx="549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ямоугольник 5" descr=""/>
          <p:cNvPicPr/>
          <p:nvPr/>
        </p:nvPicPr>
        <p:blipFill>
          <a:blip r:embed="rId1"/>
          <a:stretch/>
        </p:blipFill>
        <p:spPr>
          <a:xfrm>
            <a:off x="-1504800" y="103320"/>
            <a:ext cx="10314000" cy="20858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94320" cy="5922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57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58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3" descr=""/>
          <p:cNvPicPr/>
          <p:nvPr/>
        </p:nvPicPr>
        <p:blipFill>
          <a:blip r:embed="rId1"/>
          <a:stretch/>
        </p:blipFill>
        <p:spPr>
          <a:xfrm>
            <a:off x="-1579680" y="201600"/>
            <a:ext cx="10315800" cy="2486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Прямоугольник 6" descr=""/>
          <p:cNvPicPr/>
          <p:nvPr/>
        </p:nvPicPr>
        <p:blipFill>
          <a:blip r:embed="rId1"/>
          <a:stretch/>
        </p:blipFill>
        <p:spPr>
          <a:xfrm>
            <a:off x="401760" y="-244440"/>
            <a:ext cx="5962680" cy="1103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78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-208080"/>
            <a:ext cx="6096240" cy="15922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Прямоугольник 4" descr=""/>
          <p:cNvPicPr/>
          <p:nvPr/>
        </p:nvPicPr>
        <p:blipFill>
          <a:blip r:embed="rId1"/>
          <a:stretch/>
        </p:blipFill>
        <p:spPr>
          <a:xfrm>
            <a:off x="-291960" y="-19080"/>
            <a:ext cx="7583400" cy="684360"/>
          </a:xfrm>
          <a:prstGeom prst="rect">
            <a:avLst/>
          </a:prstGeom>
          <a:ln w="0">
            <a:noFill/>
          </a:ln>
        </p:spPr>
      </p:pic>
      <p:pic>
        <p:nvPicPr>
          <p:cNvPr id="19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Прямоугольник 4" descr=""/>
          <p:cNvPicPr/>
          <p:nvPr/>
        </p:nvPicPr>
        <p:blipFill>
          <a:blip r:embed="rId1"/>
          <a:stretch/>
        </p:blipFill>
        <p:spPr>
          <a:xfrm>
            <a:off x="23760" y="-146160"/>
            <a:ext cx="7072200" cy="15969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Прямоугольник 4" descr=""/>
          <p:cNvPicPr/>
          <p:nvPr/>
        </p:nvPicPr>
        <p:blipFill>
          <a:blip r:embed="rId1"/>
          <a:stretch/>
        </p:blipFill>
        <p:spPr>
          <a:xfrm>
            <a:off x="2157480" y="-171360"/>
            <a:ext cx="4938480" cy="174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 6" descr=""/>
          <p:cNvPicPr/>
          <p:nvPr/>
        </p:nvPicPr>
        <p:blipFill>
          <a:blip r:embed="rId3"/>
          <a:stretch/>
        </p:blipFill>
        <p:spPr>
          <a:xfrm>
            <a:off x="133200" y="1609560"/>
            <a:ext cx="6877080" cy="35420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4" descr=""/>
          <p:cNvPicPr/>
          <p:nvPr/>
        </p:nvPicPr>
        <p:blipFill>
          <a:blip r:embed="rId1"/>
          <a:stretch/>
        </p:blipFill>
        <p:spPr>
          <a:xfrm>
            <a:off x="-324000" y="201600"/>
            <a:ext cx="7974000" cy="18032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1"/>
          <a:stretch/>
        </p:blipFill>
        <p:spPr>
          <a:xfrm>
            <a:off x="-60480" y="-208080"/>
            <a:ext cx="6918480" cy="1457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57480" cy="64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8520"/>
            <a:ext cx="6919920" cy="84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4" descr=""/>
          <p:cNvPicPr/>
          <p:nvPr/>
        </p:nvPicPr>
        <p:blipFill>
          <a:blip r:embed="rId1"/>
          <a:stretch/>
        </p:blipFill>
        <p:spPr>
          <a:xfrm>
            <a:off x="706320" y="-165240"/>
            <a:ext cx="4945320" cy="1397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401760" y="-115920"/>
            <a:ext cx="588960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500120" y="5610240"/>
            <a:ext cx="3786120" cy="2890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0" y="2428920"/>
            <a:ext cx="68580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1"/>
          <a:stretch/>
        </p:blipFill>
        <p:spPr>
          <a:xfrm>
            <a:off x="-60480" y="-42840"/>
            <a:ext cx="6931080" cy="774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-579600" y="152280"/>
            <a:ext cx="7980480" cy="1279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3" descr=""/>
          <p:cNvPicPr/>
          <p:nvPr/>
        </p:nvPicPr>
        <p:blipFill>
          <a:blip r:embed="rId1"/>
          <a:stretch/>
        </p:blipFill>
        <p:spPr>
          <a:xfrm>
            <a:off x="-579600" y="-579600"/>
            <a:ext cx="8047080" cy="19018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-542880" y="182520"/>
            <a:ext cx="7980480" cy="1322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Кузнецова Виктория</dc:creator>
  <dc:description/>
  <dc:language>en-US</dc:language>
  <cp:lastModifiedBy>XTreme</cp:lastModifiedBy>
  <dcterms:modified xsi:type="dcterms:W3CDTF">2010-07-13T13:09:32Z</dcterms:modified>
  <cp:revision>203</cp:revision>
  <dc:subject/>
  <dc:title>Слайд 1</dc:title>
</cp:coreProperties>
</file>