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B91-B238-45E1-97E3-88F88962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E18-0CF1-43AC-88DE-4740DF37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B66-26AF-4803-AF7D-C2EFE79B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F2F-A5E0-4143-A830-9A0166C6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CC6-4E49-4BB7-977A-C87D3A64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477-80C4-4617-B056-F110987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36D-D980-4AC2-812B-E6CF4B9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4F3-DBA4-40BD-B9EF-07FB3F0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7C0-26C3-46E4-84B7-8E3C3153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719-4D89-4885-82DF-151A8D21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FDB-2C04-41F1-9742-E435051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D85-7B50-4BA7-B635-0F73BA2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81BC-44EC-4230-B1E0-763DCB8B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422440"/>
            <a:ext cx="602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День 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189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казка о русской игруш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680" y="255600"/>
            <a:ext cx="34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сня «Малиновый зв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. А.Мороз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л. А.Попере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формировать глубокое понимание гражданского долга, патриотическое сознание, любовь к Родине, к своему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спитать внимательное отношение к ветеранам войны и труда; к прошлому,  настоящему и будущему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" y="2852640"/>
            <a:ext cx="43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сня М. Матусовск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 rot="10800000">
            <a:off x="681120" y="5444640"/>
            <a:ext cx="771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Я рожден в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6600" y="5222880"/>
            <a:ext cx="282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сня «Росс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зыка Д.Тухм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. М Нож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Росс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ссия  - это необозримые просторы, колосящиеся пшеницей поля и тенистые р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река Волга, на берегах которой стоит Саратов, где мы родились и жив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люди – гордые, сильные, смекалистые и умелые, не сдающиеся трудностям и бе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ссия – это раздольная песня, героическая ист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 наши государственные символы: гимн, герб,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2240" y="687240"/>
            <a:ext cx="391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сня «Гляжу в озера си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. Шафе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з. Афанас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кторина по истор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4760" y="758880"/>
            <a:ext cx="300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сня «Русское п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з. Я. Френк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. И. Гоф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1:41:50Z</dcterms:created>
  <dc:creator>Пользователь Windows</dc:creator>
  <dc:description/>
  <dc:language>en-US</dc:language>
  <cp:lastModifiedBy>Пользователь Windows</cp:lastModifiedBy>
  <dcterms:modified xsi:type="dcterms:W3CDTF">2012-10-10T19:34:16Z</dcterms:modified>
  <cp:revision>5</cp:revision>
  <dc:subject/>
  <dc:title>Слайд 1</dc:title>
</cp:coreProperties>
</file>