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95D5-89AF-40D9-8364-076B2E41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9E3-D3CB-402B-9AB4-A5508CD1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377C-505B-4011-BDFE-2ECCAAEA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42F0-E0D6-4070-936E-B986E729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CFFD-065A-4430-879C-D95EED9F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284B-A857-488B-954C-F151D754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917C-06CD-4AFA-9386-1E3E2DF3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8DCE-74C3-4CAB-A10D-6B322237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7ACD-0E7D-4A9C-BA69-A1764B19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9D0E-E31E-4003-A70D-35033596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16B7-A6CD-4BD6-9D0F-E5622399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AA5-A927-44A2-BFFF-208D034A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F79D-36F9-41DA-A135-F8A4219B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C63C-6576-416C-B7A3-7D0C0798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8C47-7E68-4BAF-BEAB-5A418FC1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E925-B60C-49C4-A94A-A001B746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D649-3E98-4737-AE67-888F1DBE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1145-3AD1-4D02-9FF5-1CDC2427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20DA-4390-467B-A19F-35F38648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44F1-8735-4506-AC24-F2B50805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AD96-1DD2-48D9-BAB6-C63C5104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9FCF-9B58-4847-824A-CBF40118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A0A-5781-4403-90FD-6507C2CE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9F9-9A60-4B1C-B96C-1003338D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F250-67B0-412C-B538-AAC071568EEA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D111-45C6-4B39-BBFE-6F6BB5A02B98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nachalka.com/test_shablon" TargetMode="External"/><Relationship Id="rId3" Type="http://schemas.openxmlformats.org/officeDocument/2006/relationships/hyperlink" Target="http://www.nachalka.com/test_shablon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5292720" y="2781360"/>
            <a:ext cx="3495600" cy="2760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25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a6717"/>
                </a:solidFill>
                <a:latin typeface="Arial"/>
                <a:ea typeface="Arial"/>
              </a:rPr>
              <a:t>Русский язык</a:t>
            </a:r>
            <a:br>
              <a:rPr sz="3200"/>
            </a:br>
            <a:r>
              <a:rPr b="1" i="1" lang="ru-RU" sz="3200" spc="-1" strike="noStrike">
                <a:solidFill>
                  <a:srgbClr val="4a6717"/>
                </a:solidFill>
                <a:latin typeface="Arial"/>
                <a:ea typeface="Arial"/>
              </a:rPr>
              <a:t>3 класс</a:t>
            </a:r>
            <a:br>
              <a:rPr sz="4000"/>
            </a:br>
            <a:r>
              <a:rPr b="1" i="1" lang="ru-RU" sz="4000" spc="-1" strike="noStrike">
                <a:solidFill>
                  <a:srgbClr val="2f5897"/>
                </a:solidFill>
                <a:latin typeface="Arial"/>
                <a:ea typeface="Arial"/>
              </a:rPr>
              <a:t>Слова с удвоенными согласными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47880" y="3357360"/>
            <a:ext cx="4248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f5897"/>
                </a:solidFill>
                <a:latin typeface="Arial"/>
                <a:ea typeface="Arial"/>
              </a:rPr>
              <a:t>Автор  учительница  начальных классов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f5897"/>
                </a:solidFill>
                <a:latin typeface="Arial"/>
                <a:ea typeface="Arial"/>
              </a:rPr>
              <a:t>ГБОУ СОШ № 1245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f5897"/>
                </a:solidFill>
                <a:latin typeface="Arial"/>
                <a:ea typeface="Arial"/>
              </a:rPr>
              <a:t>Еськова Наталья Васильевна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3071880" y="50133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6076b4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дзаголовок 2"/>
          <p:cNvSpPr/>
          <p:nvPr/>
        </p:nvSpPr>
        <p:spPr>
          <a:xfrm>
            <a:off x="755640" y="6524640"/>
            <a:ext cx="8067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3399ff"/>
                </a:solidFill>
                <a:uFillTx/>
                <a:latin typeface="Arial"/>
                <a:ea typeface="Arial"/>
                <a:hlinkClick r:id="rId2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3399ff"/>
                </a:solidFill>
                <a:uFillTx/>
                <a:latin typeface="Arial"/>
                <a:ea typeface="Arial"/>
                <a:hlinkClick r:id="rId3"/>
              </a:rPr>
              <a:t>PowerPoint</a:t>
            </a:r>
            <a:r>
              <a:rPr b="1" lang="ru-RU" sz="10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  <a:ea typeface="Arial"/>
              </a:rPr>
              <a:t>http://www.nachalka.com/test_shabl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Скругленный прямоугольник 3"/>
          <p:cNvSpPr/>
          <p:nvPr/>
        </p:nvSpPr>
        <p:spPr>
          <a:xfrm>
            <a:off x="611280" y="3071880"/>
            <a:ext cx="5305320" cy="93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огор…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4"/>
          <p:cNvSpPr/>
          <p:nvPr/>
        </p:nvSpPr>
        <p:spPr>
          <a:xfrm>
            <a:off x="615960" y="1989000"/>
            <a:ext cx="530064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килом…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5"/>
          <p:cNvSpPr/>
          <p:nvPr/>
        </p:nvSpPr>
        <p:spPr>
          <a:xfrm>
            <a:off x="685800" y="5216400"/>
            <a:ext cx="523080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мил…и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6"/>
          <p:cNvSpPr/>
          <p:nvPr/>
        </p:nvSpPr>
        <p:spPr>
          <a:xfrm>
            <a:off x="630360" y="4149720"/>
            <a:ext cx="5286240" cy="87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р…су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55640" y="691920"/>
            <a:ext cx="6696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  <a:ea typeface="Arial"/>
              </a:rPr>
              <a:t>Найдите слова с удвоенной согласной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Скругленный прямоугольник 3"/>
          <p:cNvSpPr/>
          <p:nvPr/>
        </p:nvSpPr>
        <p:spPr>
          <a:xfrm>
            <a:off x="611280" y="3071880"/>
            <a:ext cx="5305320" cy="93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медлен…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4"/>
          <p:cNvSpPr/>
          <p:nvPr/>
        </p:nvSpPr>
        <p:spPr>
          <a:xfrm>
            <a:off x="615960" y="1989000"/>
            <a:ext cx="530064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мес…я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5"/>
          <p:cNvSpPr/>
          <p:nvPr/>
        </p:nvSpPr>
        <p:spPr>
          <a:xfrm>
            <a:off x="685800" y="5216400"/>
            <a:ext cx="523080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профес…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6"/>
          <p:cNvSpPr/>
          <p:nvPr/>
        </p:nvSpPr>
        <p:spPr>
          <a:xfrm>
            <a:off x="630360" y="4149720"/>
            <a:ext cx="5286240" cy="87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програм…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55640" y="691920"/>
            <a:ext cx="6696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a6717"/>
                </a:solidFill>
                <a:latin typeface="Arial"/>
                <a:ea typeface="Arial"/>
              </a:rPr>
              <a:t>Найдите слово, в котором  нет удвоенной согласной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Скругленный прямоугольник 3"/>
          <p:cNvSpPr/>
          <p:nvPr/>
        </p:nvSpPr>
        <p:spPr>
          <a:xfrm>
            <a:off x="611280" y="3071880"/>
            <a:ext cx="5305320" cy="93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р…а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4"/>
          <p:cNvSpPr/>
          <p:nvPr/>
        </p:nvSpPr>
        <p:spPr>
          <a:xfrm>
            <a:off x="615960" y="1989000"/>
            <a:ext cx="530064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леграм…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5"/>
          <p:cNvSpPr/>
          <p:nvPr/>
        </p:nvSpPr>
        <p:spPr>
          <a:xfrm>
            <a:off x="685800" y="5216400"/>
            <a:ext cx="523080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рол…ей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6"/>
          <p:cNvSpPr/>
          <p:nvPr/>
        </p:nvSpPr>
        <p:spPr>
          <a:xfrm>
            <a:off x="630360" y="4149720"/>
            <a:ext cx="5286240" cy="87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хар…ак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5640" y="765000"/>
            <a:ext cx="66960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a6717"/>
                </a:solidFill>
                <a:latin typeface="Arial"/>
                <a:ea typeface="Arial"/>
              </a:rPr>
              <a:t>Найдите слово, в котором  нет удвоенной согласной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Скругленный прямоугольник 3"/>
          <p:cNvSpPr/>
          <p:nvPr/>
        </p:nvSpPr>
        <p:spPr>
          <a:xfrm>
            <a:off x="611280" y="3071880"/>
            <a:ext cx="5305320" cy="93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шос…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4"/>
          <p:cNvSpPr/>
          <p:nvPr/>
        </p:nvSpPr>
        <p:spPr>
          <a:xfrm>
            <a:off x="615960" y="1989000"/>
            <a:ext cx="530064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ер…ём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5"/>
          <p:cNvSpPr/>
          <p:nvPr/>
        </p:nvSpPr>
        <p:spPr>
          <a:xfrm>
            <a:off x="685800" y="5216400"/>
            <a:ext cx="523080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сум…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6"/>
          <p:cNvSpPr/>
          <p:nvPr/>
        </p:nvSpPr>
        <p:spPr>
          <a:xfrm>
            <a:off x="630360" y="4149720"/>
            <a:ext cx="5286240" cy="87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хок…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55640" y="691920"/>
            <a:ext cx="6696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a6717"/>
                </a:solidFill>
                <a:latin typeface="Arial"/>
                <a:ea typeface="Arial"/>
              </a:rPr>
              <a:t>Найдите слово, в котором  нет удвоенной согласной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Скругленный прямоугольник 3"/>
          <p:cNvSpPr/>
          <p:nvPr/>
        </p:nvSpPr>
        <p:spPr>
          <a:xfrm>
            <a:off x="611280" y="3071880"/>
            <a:ext cx="5305320" cy="93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суб…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4"/>
          <p:cNvSpPr/>
          <p:nvPr/>
        </p:nvSpPr>
        <p:spPr>
          <a:xfrm>
            <a:off x="615960" y="1989000"/>
            <a:ext cx="530064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овар…и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5"/>
          <p:cNvSpPr/>
          <p:nvPr/>
        </p:nvSpPr>
        <p:spPr>
          <a:xfrm>
            <a:off x="685800" y="5216400"/>
            <a:ext cx="523080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…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ску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рос…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6"/>
          <p:cNvSpPr/>
          <p:nvPr/>
        </p:nvSpPr>
        <p:spPr>
          <a:xfrm>
            <a:off x="630360" y="4149720"/>
            <a:ext cx="5286240" cy="87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пер…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55640" y="691920"/>
            <a:ext cx="6696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a6717"/>
                </a:solidFill>
                <a:latin typeface="Arial"/>
                <a:ea typeface="Arial"/>
              </a:rPr>
              <a:t>Найдите слово, в котором  нет удвоенной согласной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Скругленный прямоугольник 3"/>
          <p:cNvSpPr/>
          <p:nvPr/>
        </p:nvSpPr>
        <p:spPr>
          <a:xfrm>
            <a:off x="611280" y="3071880"/>
            <a:ext cx="5305320" cy="93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искус…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4"/>
          <p:cNvSpPr/>
          <p:nvPr/>
        </p:nvSpPr>
        <p:spPr>
          <a:xfrm>
            <a:off x="611280" y="4149720"/>
            <a:ext cx="530064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ил…юстр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5"/>
          <p:cNvSpPr/>
          <p:nvPr/>
        </p:nvSpPr>
        <p:spPr>
          <a:xfrm>
            <a:off x="685800" y="5216400"/>
            <a:ext cx="523080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дрож…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6"/>
          <p:cNvSpPr/>
          <p:nvPr/>
        </p:nvSpPr>
        <p:spPr>
          <a:xfrm>
            <a:off x="611280" y="1989000"/>
            <a:ext cx="5286240" cy="87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ос…тю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4360" y="620640"/>
            <a:ext cx="66960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a6717"/>
                </a:solidFill>
                <a:latin typeface="Arial"/>
                <a:ea typeface="Arial"/>
              </a:rPr>
              <a:t>Найдите слово, в котором  нет удвоенной согласной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Скругленный прямоугольник 3"/>
          <p:cNvSpPr/>
          <p:nvPr/>
        </p:nvSpPr>
        <p:spPr>
          <a:xfrm>
            <a:off x="611280" y="3071880"/>
            <a:ext cx="5305320" cy="93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ин…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4"/>
          <p:cNvSpPr/>
          <p:nvPr/>
        </p:nvSpPr>
        <p:spPr>
          <a:xfrm>
            <a:off x="611280" y="5229360"/>
            <a:ext cx="5300640" cy="93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грам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5"/>
          <p:cNvSpPr/>
          <p:nvPr/>
        </p:nvSpPr>
        <p:spPr>
          <a:xfrm>
            <a:off x="611280" y="2060640"/>
            <a:ext cx="52308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лас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6"/>
          <p:cNvSpPr/>
          <p:nvPr/>
        </p:nvSpPr>
        <p:spPr>
          <a:xfrm>
            <a:off x="630360" y="4149720"/>
            <a:ext cx="5286240" cy="87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груп…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55640" y="691920"/>
            <a:ext cx="6696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a6717"/>
                </a:solidFill>
                <a:latin typeface="Arial"/>
                <a:ea typeface="Arial"/>
              </a:rPr>
              <a:t>Найдите слово, в котором  нет удвоенной согласной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Скругленный прямоугольник 3"/>
          <p:cNvSpPr/>
          <p:nvPr/>
        </p:nvSpPr>
        <p:spPr>
          <a:xfrm>
            <a:off x="611280" y="3071880"/>
            <a:ext cx="5305320" cy="93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ж…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4"/>
          <p:cNvSpPr/>
          <p:nvPr/>
        </p:nvSpPr>
        <p:spPr>
          <a:xfrm>
            <a:off x="615960" y="1989000"/>
            <a:ext cx="530064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жуж…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5"/>
          <p:cNvSpPr/>
          <p:nvPr/>
        </p:nvSpPr>
        <p:spPr>
          <a:xfrm>
            <a:off x="685800" y="5216400"/>
            <a:ext cx="523080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багаж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6"/>
          <p:cNvSpPr/>
          <p:nvPr/>
        </p:nvSpPr>
        <p:spPr>
          <a:xfrm>
            <a:off x="630360" y="4149720"/>
            <a:ext cx="5286240" cy="87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мас…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6194520" y="-243000"/>
            <a:ext cx="3494160" cy="2005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6948360" y="409680"/>
            <a:ext cx="1540080" cy="3019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755640" y="691920"/>
            <a:ext cx="6696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a6717"/>
                </a:solidFill>
                <a:latin typeface="Arial"/>
                <a:ea typeface="Arial"/>
              </a:rPr>
              <a:t>Найдите слово, в котором  нет удвоенной согласной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Arial"/>
                <a:ea typeface="Arial"/>
              </a:rPr>
              <a:t>Результат тест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f7f7f"/>
                </a:solidFill>
                <a:latin typeface="Arial"/>
                <a:ea typeface="Arial"/>
              </a:rPr>
              <a:t>Верно: 15</a:t>
            </a:r>
            <a:endParaRPr b="0" lang="en-US" sz="4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f7f7f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f7f7f"/>
                </a:solidFill>
                <a:latin typeface="Arial"/>
                <a:ea typeface="Arial"/>
              </a:rPr>
              <a:t>Отметка: 5</a:t>
            </a:r>
            <a:endParaRPr b="0" lang="en-US" sz="4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41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6076b4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55640" y="691920"/>
            <a:ext cx="6696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  <a:ea typeface="Arial"/>
              </a:rPr>
              <a:t>Найдите слова с удвоенной согласной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" name="Скругленный прямоугольник 3"/>
          <p:cNvSpPr/>
          <p:nvPr/>
        </p:nvSpPr>
        <p:spPr>
          <a:xfrm>
            <a:off x="611280" y="3071880"/>
            <a:ext cx="4744800" cy="93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ап…ельс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4"/>
          <p:cNvSpPr/>
          <p:nvPr/>
        </p:nvSpPr>
        <p:spPr>
          <a:xfrm>
            <a:off x="615960" y="1989000"/>
            <a:ext cx="47401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грам…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5"/>
          <p:cNvSpPr/>
          <p:nvPr/>
        </p:nvSpPr>
        <p:spPr>
          <a:xfrm>
            <a:off x="685800" y="5216400"/>
            <a:ext cx="475776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ал…м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6"/>
          <p:cNvSpPr/>
          <p:nvPr/>
        </p:nvSpPr>
        <p:spPr>
          <a:xfrm>
            <a:off x="630360" y="4149720"/>
            <a:ext cx="4727520" cy="87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дли…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Скругленный прямоугольник 3"/>
          <p:cNvSpPr/>
          <p:nvPr/>
        </p:nvSpPr>
        <p:spPr>
          <a:xfrm>
            <a:off x="611280" y="3071880"/>
            <a:ext cx="5305320" cy="93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баз…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4"/>
          <p:cNvSpPr/>
          <p:nvPr/>
        </p:nvSpPr>
        <p:spPr>
          <a:xfrm>
            <a:off x="615960" y="1989000"/>
            <a:ext cx="530064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ар…о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5"/>
          <p:cNvSpPr/>
          <p:nvPr/>
        </p:nvSpPr>
        <p:spPr>
          <a:xfrm>
            <a:off x="685800" y="5216400"/>
            <a:ext cx="523080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бар…аб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6"/>
          <p:cNvSpPr/>
          <p:nvPr/>
        </p:nvSpPr>
        <p:spPr>
          <a:xfrm>
            <a:off x="630360" y="4149720"/>
            <a:ext cx="5286240" cy="87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ап…е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691920"/>
            <a:ext cx="71294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  <a:ea typeface="Arial"/>
              </a:rPr>
              <a:t>Найдите слова с удвоенной согласной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Содержимое 2"/>
          <p:cNvSpPr/>
          <p:nvPr/>
        </p:nvSpPr>
        <p:spPr>
          <a:xfrm>
            <a:off x="611280" y="692280"/>
            <a:ext cx="7129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  <a:ea typeface="Arial"/>
              </a:rPr>
              <a:t>Найдите слова с удвоенной согласно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Скругленный прямоугольник 3"/>
          <p:cNvSpPr/>
          <p:nvPr/>
        </p:nvSpPr>
        <p:spPr>
          <a:xfrm>
            <a:off x="611280" y="3071880"/>
            <a:ext cx="5305320" cy="93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вок…з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4"/>
          <p:cNvSpPr/>
          <p:nvPr/>
        </p:nvSpPr>
        <p:spPr>
          <a:xfrm>
            <a:off x="615960" y="1989000"/>
            <a:ext cx="530064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бар…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5"/>
          <p:cNvSpPr/>
          <p:nvPr/>
        </p:nvSpPr>
        <p:spPr>
          <a:xfrm>
            <a:off x="684360" y="4221000"/>
            <a:ext cx="52308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гал…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6"/>
          <p:cNvSpPr/>
          <p:nvPr/>
        </p:nvSpPr>
        <p:spPr>
          <a:xfrm>
            <a:off x="684360" y="5229360"/>
            <a:ext cx="5286240" cy="87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ап…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одержимое 2"/>
          <p:cNvSpPr/>
          <p:nvPr/>
        </p:nvSpPr>
        <p:spPr>
          <a:xfrm>
            <a:off x="755640" y="1484280"/>
            <a:ext cx="6696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55640" y="691920"/>
            <a:ext cx="6696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  <a:ea typeface="Arial"/>
              </a:rPr>
              <a:t>Найдите слова с удвоенной согласной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Скругленный прямоугольник 3"/>
          <p:cNvSpPr/>
          <p:nvPr/>
        </p:nvSpPr>
        <p:spPr>
          <a:xfrm>
            <a:off x="611280" y="3071880"/>
            <a:ext cx="5305320" cy="93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ак…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4"/>
          <p:cNvSpPr/>
          <p:nvPr/>
        </p:nvSpPr>
        <p:spPr>
          <a:xfrm>
            <a:off x="615960" y="1989000"/>
            <a:ext cx="530064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вор…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5"/>
          <p:cNvSpPr/>
          <p:nvPr/>
        </p:nvSpPr>
        <p:spPr>
          <a:xfrm>
            <a:off x="685800" y="5216400"/>
            <a:ext cx="523080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буд…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6"/>
          <p:cNvSpPr/>
          <p:nvPr/>
        </p:nvSpPr>
        <p:spPr>
          <a:xfrm>
            <a:off x="630360" y="4149720"/>
            <a:ext cx="5286240" cy="87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гор…изо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одержимое 2"/>
          <p:cNvSpPr/>
          <p:nvPr/>
        </p:nvSpPr>
        <p:spPr>
          <a:xfrm>
            <a:off x="755640" y="476280"/>
            <a:ext cx="6696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  <a:ea typeface="Arial"/>
              </a:rPr>
              <a:t>Найдите слова с удвоенной согласно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3"/>
          <p:cNvSpPr/>
          <p:nvPr/>
        </p:nvSpPr>
        <p:spPr>
          <a:xfrm>
            <a:off x="611280" y="3071880"/>
            <a:ext cx="5305320" cy="93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вин…егр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4"/>
          <p:cNvSpPr/>
          <p:nvPr/>
        </p:nvSpPr>
        <p:spPr>
          <a:xfrm>
            <a:off x="615960" y="1989000"/>
            <a:ext cx="530064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бас…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5"/>
          <p:cNvSpPr/>
          <p:nvPr/>
        </p:nvSpPr>
        <p:spPr>
          <a:xfrm>
            <a:off x="685800" y="5216400"/>
            <a:ext cx="523080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гор…о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6"/>
          <p:cNvSpPr/>
          <p:nvPr/>
        </p:nvSpPr>
        <p:spPr>
          <a:xfrm>
            <a:off x="630360" y="4149720"/>
            <a:ext cx="5286240" cy="87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газ…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55640" y="691920"/>
            <a:ext cx="6696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  <a:ea typeface="Arial"/>
              </a:rPr>
              <a:t>Найдите слова с удвоенной согласной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Скругленный прямоугольник 3"/>
          <p:cNvSpPr/>
          <p:nvPr/>
        </p:nvSpPr>
        <p:spPr>
          <a:xfrm>
            <a:off x="611280" y="3071880"/>
            <a:ext cx="5305320" cy="93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длин…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4"/>
          <p:cNvSpPr/>
          <p:nvPr/>
        </p:nvSpPr>
        <p:spPr>
          <a:xfrm>
            <a:off x="615960" y="1989000"/>
            <a:ext cx="530064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долин…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5"/>
          <p:cNvSpPr/>
          <p:nvPr/>
        </p:nvSpPr>
        <p:spPr>
          <a:xfrm>
            <a:off x="685800" y="5216400"/>
            <a:ext cx="523080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груп…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6"/>
          <p:cNvSpPr/>
          <p:nvPr/>
        </p:nvSpPr>
        <p:spPr>
          <a:xfrm>
            <a:off x="630360" y="4149720"/>
            <a:ext cx="5286240" cy="87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кал…енд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55640" y="691920"/>
            <a:ext cx="6696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  <a:ea typeface="Arial"/>
              </a:rPr>
              <a:t>Найдите слова с удвоенной согласной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3"/>
          <p:cNvSpPr/>
          <p:nvPr/>
        </p:nvSpPr>
        <p:spPr>
          <a:xfrm>
            <a:off x="611280" y="3071880"/>
            <a:ext cx="5305320" cy="93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ван…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4"/>
          <p:cNvSpPr/>
          <p:nvPr/>
        </p:nvSpPr>
        <p:spPr>
          <a:xfrm>
            <a:off x="615960" y="1989000"/>
            <a:ext cx="530064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кор…ичне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5"/>
          <p:cNvSpPr/>
          <p:nvPr/>
        </p:nvSpPr>
        <p:spPr>
          <a:xfrm>
            <a:off x="685800" y="5216400"/>
            <a:ext cx="523080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мандар…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6"/>
          <p:cNvSpPr/>
          <p:nvPr/>
        </p:nvSpPr>
        <p:spPr>
          <a:xfrm>
            <a:off x="630360" y="4149720"/>
            <a:ext cx="5286240" cy="87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Arial"/>
                <a:ea typeface="Arial"/>
              </a:rPr>
              <a:t>кар..т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640" y="691920"/>
            <a:ext cx="6696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  <a:ea typeface="Arial"/>
              </a:rPr>
              <a:t>Найдите слова с удвоенной согласной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ЕськоваНВ</cp:lastModifiedBy>
  <dcterms:modified xsi:type="dcterms:W3CDTF">2012-11-13T07:57:05Z</dcterms:modified>
  <cp:revision>744</cp:revision>
  <dc:subject/>
  <dc:title>Слайд 1</dc:title>
</cp:coreProperties>
</file>