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EA6-765A-4716-8924-35EBE859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43D-2915-43E4-A9EE-A7A0EE30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DD7-CCCE-4830-BE81-67DCF93E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F18-DEC6-4599-BA95-E742AC82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AD5F8-9C3B-4B6D-A2FC-8D404201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B745E-678D-4323-9E42-7E51682E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23821-E067-4D08-A28C-DC4B58FC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0BF57-05EB-4EB5-83E0-003861DB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748A2-3F84-4EEB-B56D-6EB4B993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E5F82-E6A2-428F-977C-A735F481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DB024-5758-4BB7-A9EE-2711775C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5A4-FDA7-41DF-95DE-D5C322CD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64557-94E6-47F3-999F-BB7C74D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A6A72-FC54-4C6D-82B4-E3C62458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4FBC5-DCF9-4B91-9AAC-00F659EA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3C99B-771A-49C2-A50B-D8A32D37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27D28-DB26-43CB-992F-07016E6C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40DE-1452-4E95-B4E5-0A2C3C72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B858-A7ED-4BAB-8628-0C312A6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3F16-72CF-4622-80D5-FD5894D8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B9AB-48A9-4E45-93F1-39984577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A159-CE69-4845-BBDB-909D7A2B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51D-A1B7-48EB-938A-CD1AB331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D4BF-E096-44FE-A702-9821AADD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FDFF-83C9-4E9E-95C8-8C37B55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5139-1011-4C5D-BDD6-D812BD4A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C60F-9143-41AA-A6C0-9EB5236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4DFF-06CA-445F-8491-36CC46F1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B5AB-C686-4804-8527-2C756C8C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2161-4F31-4AA2-8396-361A585B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76B-E558-4BF4-B49E-B1435BE3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00F-AA8B-4E8D-8A06-0F51FEA5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269-B1FC-477C-8929-6778BDF8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5CD-3C2C-461B-BF02-B24AD338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465-DB2F-45B3-88FA-BDD7C0C3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CC6-5DB5-4623-AB4C-B7A62DE8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0750-F4AA-404C-B572-E58D9E3AC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D724-D813-46F5-8A30-977CBBF02215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4E6-3262-48FE-A639-B75CB17DDD63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Теорема синусов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Геометрия 9 класс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847960" cy="2228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Вычислить площадь фигуры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2562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Найти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-1103" t="13464" r="0" b="15623"/>
          <a:stretch/>
        </p:blipFill>
        <p:spPr>
          <a:xfrm>
            <a:off x="1403280" y="1700280"/>
            <a:ext cx="3168720" cy="151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13138" r="8543" b="8164"/>
          <a:stretch/>
        </p:blipFill>
        <p:spPr>
          <a:xfrm>
            <a:off x="1496880" y="3933720"/>
            <a:ext cx="3075120" cy="2159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7800" y="1341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ы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6320" y="342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у А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Формулировка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роны треугольника пропорциональны синусам противолежащи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6760" y="433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69480" y="470844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47991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49520" y="4352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5224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424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46600" y="43527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4932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2096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44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980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4038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а, СА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В =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0920" y="2908440"/>
                <a:ext cx="2197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75120" y="160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7840" y="19731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49480" y="20131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57880" y="161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6060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20289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4240" y="1617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5768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9320" y="202896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872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708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907920"/>
            <a:ext cx="1944720" cy="151308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220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11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241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57800" y="13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3440" y="40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53640" y="229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34160" y="885960"/>
            <a:ext cx="533520" cy="1536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3336600">
            <a:off x="6406920" y="2239920"/>
            <a:ext cx="28908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2419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29600" y="122544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4960" y="1297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27640" y="905040"/>
            <a:ext cx="1413000" cy="1514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38920" y="2058840"/>
            <a:ext cx="28764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50160" y="2155680"/>
            <a:ext cx="214200" cy="2574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71240" y="24922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56000" y="2887560"/>
                <a:ext cx="22320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72360" y="2889360"/>
                <a:ext cx="2232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3789360"/>
                <a:ext cx="34131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003640" y="3716280"/>
                <a:ext cx="34578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332000" y="4653000"/>
                <a:ext cx="24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653000"/>
                <a:ext cx="2528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47640" y="5084640"/>
                <a:ext cx="1800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5084640"/>
                <a:ext cx="172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19640" y="5950080"/>
                <a:ext cx="2692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835280" y="3645000"/>
            <a:ext cx="50472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720" y="3573360"/>
            <a:ext cx="50328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3573360"/>
            <a:ext cx="50328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96000" y="3573360"/>
            <a:ext cx="36036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5589720"/>
            <a:ext cx="71928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280" y="5589720"/>
            <a:ext cx="647640" cy="503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076640"/>
            <a:ext cx="0" cy="1800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6240" y="1973160"/>
            <a:ext cx="360360" cy="4320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= 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8800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В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356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1880" y="313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71840" y="27669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6056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34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936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920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677960"/>
            <a:ext cx="53316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3336600">
            <a:off x="2382480" y="303192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356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0516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0880" y="2089080"/>
            <a:ext cx="50292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03560" y="1696680"/>
            <a:ext cx="141264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8200" y="21319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3244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388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13800" y="21337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321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62960" y="213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5824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75844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38960" y="167796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3336600">
            <a:off x="7012080" y="3031920"/>
            <a:ext cx="28872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3244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3440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89760" y="2089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32440" y="169668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105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83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101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272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440" y="4149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72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65880" y="37940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68240" y="4165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420516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6320" y="39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1440" y="551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4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744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8720" y="5300640"/>
            <a:ext cx="11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472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3080" y="57340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4520" y="47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980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78520" y="4508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9440" y="450864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5080" y="4941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93800" y="4941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2160" y="5465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98520" y="530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2580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4520" y="573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3440" y="61149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44200" y="3762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6560" y="41338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8200" y="417348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8700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88280" y="414972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6100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5744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653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7240" y="486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05600" y="491976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58160" y="4508640"/>
            <a:ext cx="14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2580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02320" y="538956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865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24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7080" y="5229360"/>
            <a:ext cx="15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3880" y="538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801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3920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91400" y="5229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74160" y="53802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6021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85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1125360"/>
            <a:ext cx="0" cy="57326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77080" y="60213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≈ 5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шение стороны треугольника к синусу противолежащего угла равно диаметру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7680" y="448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0760" y="4853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00" y="49435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60440" y="449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352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516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57880" y="4497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6024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3224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6108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40520" y="469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27880" y="4697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99040" y="40338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24320" y="51577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54920" y="5132520"/>
            <a:ext cx="7128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9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22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4038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1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= 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9640" y="2944800"/>
                <a:ext cx="1871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156360" y="26719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7800" y="396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89800" y="295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2180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86160" y="31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2160" y="2166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82000" y="405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2880" y="2649600"/>
            <a:ext cx="533520" cy="153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4183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57960" y="2989440"/>
            <a:ext cx="432000" cy="7272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13680" y="30607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56360" y="266832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9040" y="25560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124320" y="36799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54920" y="3654360"/>
            <a:ext cx="7128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9800" y="34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95280" y="3933720"/>
                <a:ext cx="36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95280" y="5084640"/>
                <a:ext cx="2851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9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0:08:23Z</dcterms:created>
  <dc:creator>123</dc:creator>
  <dc:description/>
  <dc:language>en-US</dc:language>
  <cp:lastModifiedBy>123</cp:lastModifiedBy>
  <dcterms:modified xsi:type="dcterms:W3CDTF">2010-02-07T13:39:44Z</dcterms:modified>
  <cp:revision>5</cp:revision>
  <dc:subject/>
  <dc:title>Слайд 1</dc:title>
</cp:coreProperties>
</file>