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CB0-A2DF-46BC-994C-61F9F798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144-A74F-4999-A7B3-62FD1161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48A-6E43-4619-8BEC-E2EE2888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424-190A-4AD4-A6CF-5AB52CB5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7E0-5DC7-4E43-8BBB-05B41EAB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B15-238D-4CA4-81A2-FDE287B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F36-F21C-414C-A72C-93E21569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DFE-4896-404E-80B9-A84953F8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808-F7A5-4C7E-813B-562E3974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1B7-ABD7-4ED2-88B7-DE85817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F13-14CA-4A4A-9E59-59739F9C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859-7A25-47B1-AA6C-87DA0F3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057F-5C4A-495A-BBF9-CF949F1D2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 по повести А.С.Пушкина «Капитанская д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14440" y="888840"/>
            <a:ext cx="45151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Назовите художественные приемы, которые Пушкин НЕ использовал для создания образа Пугаче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авторская 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тношение других персонаж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ечевая х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эпигра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вставные эле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655560"/>
            <a:ext cx="457200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В чем заключается смысл названия повест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ша Миронов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единственный женский персонаж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идейный художественный центр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озлюбленная Петра Грин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дочь погибшего русского офиц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31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5651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отнесите элементы композиции и  развитие сюже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экспозиция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сцена дуэли со   Швабриным, письмо от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завязка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освобождение Петра Гринёва, женитьба на Ма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кульминация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детство Петруши       в родовом им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развязка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знакомство   Гринёва с главной героине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С какой целью вводится в повесть сон Петруши Гринё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характеризует Грин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едвещает развитие отношений двух персонаж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характеризует персонаж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одчёркивает кровожадность Пугач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   Кому принадлежит высказывание « Не приведи Бог увидеть русский бунт, бессмысленный и беспощадный...»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ав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Екатери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етруше Гринё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етру Андреевичу Гринёву – автору мему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тизация и закрепление знаний по изученному произведению: художественные особенности, элементы композиции, художественные средства, способы создания обра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монологической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на примере героев «Капитанской дочки» понятий долга, чести,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90680" y="571680"/>
            <a:ext cx="4562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 Соотнесите пары героев, характеристика которых построена по принципу антитезы (противопоставл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гачёв; Швабрин; Савельич;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ринёв; оренбургские генер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10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гачёв –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гачёв – оренбургские герер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нёв – Шваб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гачёв – Савель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64000" y="2708280"/>
            <a:ext cx="5580000" cy="432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ие фольклорные жанры использует А.С. Пушкин для создания образа Пугачё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овицы, п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Какую главу предваряет собой эпиграф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В ту пору лев был сыт, хоть с роду он  свиреп. «Зачем пожаловать изволил в мой вертеп?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осил он лас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Сумароков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«Су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«Арест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«Присту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«Мятежная слоб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ы работы: групповая, фронтальная, индивидуа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Какова основная проблематика повести «Капитанская дочк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блем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блема чести, долга, милосер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роблема роли народа в развити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роблема сопоставления родового и служивого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. Каким показан в повести Савельич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забитым безгласным крепост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ослушным, рабски преданным госп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глубоким, наделённым чувством собственного достои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любящим, заботливым помощником и советч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889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Что такое литературный характ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браз конкретного человека, в котором через индивидуальные качества выражаются типические черты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художественное изображен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ерсональные черты, присущие ге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Какие символические образы используются Пушкиным в повести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ть, 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ел, в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г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н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ря, бу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се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463680"/>
            <a:ext cx="7315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14680" y="1333440"/>
            <a:ext cx="5715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450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916360" y="3213000"/>
            <a:ext cx="6227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ие черты русского национального характера показаны Пушкиным в образе Пугачё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, смет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льство, широта н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мять на добро, благо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нь, без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лонность к пьянст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90800" y="260280"/>
            <a:ext cx="51624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 Чей это портр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Она была в белом утреннем платье, в ночном чепце и душегрейке. Ей казалось лет сорок. Лицо ее, полное и румяное, выражало важность и спокойствие, а голубые глаза и лёгкая улыбка имели прелесть неизъяснимую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01840" y="507960"/>
            <a:ext cx="45403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0421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Определите жанр 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о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историческая по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семейно-бытовая хро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мему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От чьего лица ведется повествование в «Капитанской дочке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овеств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Маши Миро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етра Гри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При помощи чего раскрывается авторская пози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эпигра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ставных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рямой авторской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выбора ге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Какие исторические личности упоминаются в повест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уга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граф Ми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Григорий Ор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1814400"/>
            <a:ext cx="51130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9:05:58Z</dcterms:created>
  <dc:creator>Юлия</dc:creator>
  <dc:description/>
  <dc:language>en-US</dc:language>
  <cp:lastModifiedBy>Юлия</cp:lastModifiedBy>
  <dcterms:modified xsi:type="dcterms:W3CDTF">2012-11-12T16:39:00Z</dcterms:modified>
  <cp:revision>6</cp:revision>
  <dc:subject/>
  <dc:title>Тест по повести А.С.Пушкина «Капитанская дочка»</dc:title>
</cp:coreProperties>
</file>