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2.png" ContentType="image/png"/>
  <Override PartName="/ppt/media/image9.jpeg" ContentType="image/jpeg"/>
  <Override PartName="/ppt/media/image11.jpeg" ContentType="image/jpeg"/>
  <Override PartName="/ppt/media/image17.gif" ContentType="image/gif"/>
  <Override PartName="/ppt/media/image2.jpeg" ContentType="image/jpeg"/>
  <Override PartName="/ppt/media/image16.gif" ContentType="image/gif"/>
  <Override PartName="/ppt/media/image14.png" ContentType="image/png"/>
  <Override PartName="/ppt/media/image1.jpeg" ContentType="image/jpeg"/>
  <Override PartName="/ppt/media/image3.jpeg" ContentType="image/jpeg"/>
  <Override PartName="/ppt/media/image4.jpeg" ContentType="image/jpeg"/>
  <Override PartName="/ppt/media/image13.gif" ContentType="image/gif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15.gif" ContentType="image/gif"/>
  <Override PartName="/ppt/media/image7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5749B-FE16-4CFA-AE98-5E2BD04F0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443EE-8B80-4734-BF69-ED0E8DCAD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E0B74-904A-49AD-AB65-432D83099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EB76C-109E-49EE-B484-2CDB625D6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2C011-BC74-47E7-AF72-77EC3C222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8955F-9F53-45C4-AEDB-156B8DEFE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8A3B4-D7B9-4968-B3D2-B7E737FA9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B4288-77DF-4102-96CB-0E366C9C3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D9D6D-A8C0-4792-9B24-11B024AEE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D150A-D4F3-413E-9A37-7D469491C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EA85A-493F-4C12-BBC5-AE75B1AF2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A8688-C122-4D7D-A4B1-D34BB90FA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9E36E-2764-4C0F-8B60-009720263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97A03-0ACF-4527-B357-6D853089C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9F167-8A83-413A-BC7C-5DDA6C688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1CC80-6FA3-4AF2-95EE-944CA25E1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718AD-C1BE-4C10-8A99-55EBF92B9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C14FBF-8A28-4987-A8AE-85739B20D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8572E0-6E8B-48E7-809F-D78208226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7FE298-86B1-4AF7-A767-F0A25DC11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735A3C-780B-4C0D-B17B-A407B60E4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A3682A-DA23-4F96-90AC-19E322473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FCA0C-B1C2-4A03-B5E7-A19649688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F6EDEE-C6DF-4FC3-8C1A-9DB73E705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799304-8285-49B1-A61B-CAC4E9E05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C783C3-FCB1-461B-AA72-F23826BA2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A2DCA2-3164-42CA-A174-5DF0C8142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EC8840-2A37-4139-9824-0F053D93B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2F4A52-D203-419A-A5D7-F88E49F7C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6FFACB-6741-40C7-B35E-21A89CA07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0ACF4C1-64E1-438C-B093-729FC3FB3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CA2297A-CAE1-42F4-A0D2-78680B351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27AD645-230D-46F9-B5D9-71357F211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7DFE3-A922-4314-863D-30B7A5847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DB3655A-F3CD-47F4-BEBD-8C892420F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88C4612-293A-4400-A64E-B75DBDF28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700CD3D-7449-49AA-92D3-6E44231DE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91AACCA-7605-474D-9DC5-439B6BFF6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718B817-57E8-4CA5-9DA6-268DD057E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CE97D47-716D-4B43-98C6-2EFCE3248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457DAF4-F332-4487-ADD5-C6BDD3EF3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8BE947C-A4CA-4E3A-AC37-F1B957441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53351A9-A48A-430C-AA99-BA0DC52A6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CF70C3-2DF3-4F0C-AE5E-8A8051B26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26D56-DBBA-4448-A12F-61421A458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C1A1F3-15BB-4CFB-8941-AC10DDAA4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95DFBF-7828-49D2-AF2C-CCC74B90A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13B0FF-CE82-442D-8F5B-72862B972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7AE5C7-6B76-4A0D-AD8F-B955A03EB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388BA7-1C57-4B9C-80CC-1E416DB82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020ADE-9624-45C7-8052-CF3A33D7B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888262-A783-4774-830C-AF5090FF4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4BF77B-103F-4849-A2B1-33057666F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999775-2D4C-46E4-BDAE-89BBB861A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67CC0E-7073-4700-A175-1FB327ACE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B81A1-190F-4EE8-8DBE-29FD36E05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5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610729-9FB6-40AE-BFDB-661DAF1B1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662A939-9461-4A64-AE7A-29A41C847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8715F8A-E2D8-4928-98ED-3B967C750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290BB10-1C2C-4E1A-8628-877920380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25A50EE-A49F-4CDD-A7B3-B3F161123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BB84D75-ADFF-4F10-9040-1447B2FED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B5798A9-D7AB-430E-BF8F-F8BA1FFA9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84ECC48-2F3C-4F21-BEF6-E278CDDC1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633041D-C6BD-408C-A403-A5C9E3379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132227F-B1DF-488D-8B81-62669EF7D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F3A6A-51DF-4A48-95C3-3CA352DD5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516B1CE-6D52-4314-AED8-6CCE30FC8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327FC90-5653-4E68-9704-3196F49C1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9BE2030-6236-44D2-98C0-09AB97CF2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CDF64-B8B6-4BD2-BEDE-777997CF5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E8768-7E82-407C-B0EF-5D0C87563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74577-DF55-4562-980B-8C1B9713E65E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ftr" idx="5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sldNum" idx="6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6589B-EDC6-41A0-AC9F-B9E4AF83C178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96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97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98" name="Freeform 5"/>
              <p:cNvSpPr/>
              <p:nvPr/>
            </p:nvSpPr>
            <p:spPr>
              <a:xfrm>
                <a:off x="0" y="1843200"/>
                <a:ext cx="885960" cy="501480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9" name="Freeform 6"/>
            <p:cNvSpPr/>
            <p:nvPr/>
          </p:nvSpPr>
          <p:spPr>
            <a:xfrm>
              <a:off x="876240" y="1509840"/>
              <a:ext cx="19080" cy="666720"/>
            </a:xfrm>
            <a:prstGeom prst="pie">
              <a:avLst/>
            </a:pr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0" name="Freeform 7"/>
            <p:cNvSpPr/>
            <p:nvPr/>
          </p:nvSpPr>
          <p:spPr>
            <a:xfrm>
              <a:off x="1217520" y="1833480"/>
              <a:ext cx="400320" cy="19080"/>
            </a:xfrm>
            <a:prstGeom prst="pie">
              <a:avLst/>
            </a:pr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1" name="Freeform 8"/>
            <p:cNvSpPr/>
            <p:nvPr/>
          </p:nvSpPr>
          <p:spPr>
            <a:xfrm>
              <a:off x="0" y="1833480"/>
              <a:ext cx="557280" cy="190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grpSp>
          <p:nvGrpSpPr>
            <p:cNvPr id="102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103" name="Freeform 10"/>
              <p:cNvSpPr/>
              <p:nvPr/>
            </p:nvSpPr>
            <p:spPr>
              <a:xfrm>
                <a:off x="876240" y="6480"/>
                <a:ext cx="19080" cy="110304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04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05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06" name="Freeform 13"/>
              <p:cNvSpPr/>
              <p:nvPr/>
            </p:nvSpPr>
            <p:spPr>
              <a:xfrm>
                <a:off x="876240" y="2176560"/>
                <a:ext cx="19080" cy="39996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07" name="Freeform 14"/>
              <p:cNvSpPr/>
              <p:nvPr/>
            </p:nvSpPr>
            <p:spPr>
              <a:xfrm>
                <a:off x="876240" y="1109520"/>
                <a:ext cx="19080" cy="40032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08" name="Freeform 15"/>
              <p:cNvSpPr/>
              <p:nvPr/>
            </p:nvSpPr>
            <p:spPr>
              <a:xfrm>
                <a:off x="552600" y="1833480"/>
                <a:ext cx="664920" cy="1908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163B5-35B2-49ED-A249-BA0850E8484C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ая соединительная линия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1" name="Прямая соединительная линия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2" name="Овал 8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dt" idx="10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sldNum" idx="11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A8FD3-859C-40A3-982E-3EC91A7DB908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ftr" idx="1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 type="dt" idx="13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 type="ftr" idx="14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 type="sldNum" idx="1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934D9-17F6-4C8B-9A80-F74A1F7AA697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Прямая соединительная линия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7" name="Прямая соединительная линия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sldNum" idx="16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34B22-8CD8-4A65-958C-671BDA904934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dt" idx="18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image" Target="../media/image13.gif"/><Relationship Id="rId5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gif"/><Relationship Id="rId3" Type="http://schemas.openxmlformats.org/officeDocument/2006/relationships/image" Target="../media/image16.gif"/><Relationship Id="rId4" Type="http://schemas.openxmlformats.org/officeDocument/2006/relationships/image" Target="../media/image17.gif"/><Relationship Id="rId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Picture 2" descr="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0" name="WordArt 3"/>
          <p:cNvSpPr txBox="1"/>
          <p:nvPr/>
        </p:nvSpPr>
        <p:spPr>
          <a:xfrm>
            <a:off x="684360" y="260280"/>
            <a:ext cx="7991280" cy="583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ТРИО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ГИТАРИСТОВ УРАЛА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p:transition spd="med">
    <p:wheel spokes="3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66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Picture 2" descr="2099_big"/>
          <p:cNvPicPr/>
          <p:nvPr/>
        </p:nvPicPr>
        <p:blipFill>
          <a:blip r:embed="rId1"/>
          <a:stretch/>
        </p:blipFill>
        <p:spPr>
          <a:xfrm>
            <a:off x="1187280" y="44280"/>
            <a:ext cx="6769440" cy="676944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3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9900">
            <a:alpha val="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Picture 2" descr="kozlov_cd"/>
          <p:cNvPicPr/>
          <p:nvPr/>
        </p:nvPicPr>
        <p:blipFill>
          <a:blip r:embed="rId1"/>
          <a:stretch/>
        </p:blipFill>
        <p:spPr>
          <a:xfrm>
            <a:off x="1332000" y="0"/>
            <a:ext cx="655308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3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Рисунок 1" descr="к6.jpg"/>
          <p:cNvPicPr/>
          <p:nvPr/>
        </p:nvPicPr>
        <p:blipFill>
          <a:blip r:embed="rId1"/>
          <a:stretch/>
        </p:blipFill>
        <p:spPr>
          <a:xfrm>
            <a:off x="214200" y="285840"/>
            <a:ext cx="6218280" cy="4664160"/>
          </a:xfrm>
          <a:prstGeom prst="rect">
            <a:avLst/>
          </a:prstGeom>
          <a:ln w="0">
            <a:noFill/>
          </a:ln>
        </p:spPr>
      </p:pic>
      <p:pic>
        <p:nvPicPr>
          <p:cNvPr id="299" name="Рисунок 2" descr="к5.jpg"/>
          <p:cNvPicPr/>
          <p:nvPr/>
        </p:nvPicPr>
        <p:blipFill>
          <a:blip r:embed="rId2"/>
          <a:srcRect l="21161" t="37595" r="29435" b="0"/>
          <a:stretch/>
        </p:blipFill>
        <p:spPr>
          <a:xfrm>
            <a:off x="6072120" y="3714840"/>
            <a:ext cx="3071880" cy="2909880"/>
          </a:xfrm>
          <a:prstGeom prst="rect">
            <a:avLst/>
          </a:prstGeom>
          <a:ln w="0">
            <a:noFill/>
          </a:ln>
        </p:spPr>
      </p:pic>
      <p:pic>
        <p:nvPicPr>
          <p:cNvPr id="300" name="Прямоугольник 3" descr=""/>
          <p:cNvPicPr/>
          <p:nvPr/>
        </p:nvPicPr>
        <p:blipFill>
          <a:blip r:embed="rId3"/>
          <a:stretch/>
        </p:blipFill>
        <p:spPr>
          <a:xfrm>
            <a:off x="463680" y="5102280"/>
            <a:ext cx="5406840" cy="1116000"/>
          </a:xfrm>
          <a:prstGeom prst="rect">
            <a:avLst/>
          </a:prstGeom>
          <a:ln w="0">
            <a:noFill/>
          </a:ln>
        </p:spPr>
      </p:pic>
      <p:pic>
        <p:nvPicPr>
          <p:cNvPr id="301" name="Рисунок 5" descr="people3[1].gif"/>
          <p:cNvPicPr/>
          <p:nvPr/>
        </p:nvPicPr>
        <p:blipFill>
          <a:blip r:embed="rId4"/>
          <a:stretch/>
        </p:blipFill>
        <p:spPr>
          <a:xfrm>
            <a:off x="7000920" y="1741320"/>
            <a:ext cx="1714320" cy="162576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3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Прямоугольник 1" descr=""/>
          <p:cNvPicPr/>
          <p:nvPr/>
        </p:nvPicPr>
        <p:blipFill>
          <a:blip r:embed="rId1"/>
          <a:stretch/>
        </p:blipFill>
        <p:spPr>
          <a:xfrm>
            <a:off x="3376440" y="2975040"/>
            <a:ext cx="5943600" cy="2554200"/>
          </a:xfrm>
          <a:prstGeom prst="rect">
            <a:avLst/>
          </a:prstGeom>
          <a:ln w="0">
            <a:noFill/>
          </a:ln>
        </p:spPr>
      </p:pic>
      <p:pic>
        <p:nvPicPr>
          <p:cNvPr id="303" name="Рисунок 2" descr="гитара.gif"/>
          <p:cNvPicPr/>
          <p:nvPr/>
        </p:nvPicPr>
        <p:blipFill>
          <a:blip r:embed="rId2"/>
          <a:stretch/>
        </p:blipFill>
        <p:spPr>
          <a:xfrm>
            <a:off x="714240" y="2286000"/>
            <a:ext cx="1636920" cy="3000240"/>
          </a:xfrm>
          <a:prstGeom prst="rect">
            <a:avLst/>
          </a:prstGeom>
          <a:ln w="0">
            <a:noFill/>
          </a:ln>
        </p:spPr>
      </p:pic>
      <p:pic>
        <p:nvPicPr>
          <p:cNvPr id="304" name="Рисунок 3" descr="ноты.gif"/>
          <p:cNvPicPr/>
          <p:nvPr/>
        </p:nvPicPr>
        <p:blipFill>
          <a:blip r:embed="rId3"/>
          <a:stretch/>
        </p:blipFill>
        <p:spPr>
          <a:xfrm>
            <a:off x="1143000" y="1214280"/>
            <a:ext cx="1500120" cy="1325880"/>
          </a:xfrm>
          <a:prstGeom prst="rect">
            <a:avLst/>
          </a:prstGeom>
          <a:ln w="0">
            <a:noFill/>
          </a:ln>
        </p:spPr>
      </p:pic>
      <p:pic>
        <p:nvPicPr>
          <p:cNvPr id="305" name="Рисунок 4" descr="fdd8c2ecef22941168ea8c2a866fbbeb[1].gif"/>
          <p:cNvPicPr/>
          <p:nvPr/>
        </p:nvPicPr>
        <p:blipFill>
          <a:blip r:embed="rId4"/>
          <a:stretch/>
        </p:blipFill>
        <p:spPr>
          <a:xfrm>
            <a:off x="2928960" y="1071720"/>
            <a:ext cx="5946840" cy="15858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3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Picture 5" descr="1"/>
          <p:cNvPicPr/>
          <p:nvPr/>
        </p:nvPicPr>
        <p:blipFill>
          <a:blip r:embed="rId1"/>
          <a:stretch/>
        </p:blipFill>
        <p:spPr>
          <a:xfrm>
            <a:off x="611280" y="3240"/>
            <a:ext cx="7993080" cy="685476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3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Picture 2" descr="021045y0"/>
          <p:cNvPicPr/>
          <p:nvPr/>
        </p:nvPicPr>
        <p:blipFill>
          <a:blip r:embed="rId1"/>
          <a:stretch/>
        </p:blipFill>
        <p:spPr>
          <a:xfrm>
            <a:off x="324000" y="615960"/>
            <a:ext cx="8569080" cy="56736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3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2" descr="а"/>
          <p:cNvPicPr/>
          <p:nvPr/>
        </p:nvPicPr>
        <p:blipFill>
          <a:blip r:embed="rId1"/>
          <a:stretch/>
        </p:blipFill>
        <p:spPr>
          <a:xfrm>
            <a:off x="1785960" y="0"/>
            <a:ext cx="5418000" cy="66690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3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Виктор Козлов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subTitle"/>
          </p:nvPr>
        </p:nvSpPr>
        <p:spPr>
          <a:xfrm>
            <a:off x="713880" y="2286000"/>
            <a:ext cx="76438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офессор, заслуженный артист РФ. Лауреат международного конкурса композиторов (1989г., г. Эстергом, Венгрия). Дипломант всероссийского конкурса (Н. Новгород – 1990г.). Написал более 100 сочинений гитары и ансамблей с участием гитары. Некоторые опубликованы в издательствах России, Германии, Англии, Италии и др. странах. Родился в 1958 году в г. Челябинск. Председатель  Ассоциации гитаристов музыкального общества Челябинской области. Заведующий кафедрой народных музыкальных инструментов в Челябинской области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heel spokes="3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Picture 2" descr="5"/>
          <p:cNvPicPr/>
          <p:nvPr/>
        </p:nvPicPr>
        <p:blipFill>
          <a:blip r:embed="rId1"/>
          <a:stretch/>
        </p:blipFill>
        <p:spPr>
          <a:xfrm>
            <a:off x="430200" y="404640"/>
            <a:ext cx="8713800" cy="6099480"/>
          </a:xfrm>
          <a:prstGeom prst="rect">
            <a:avLst/>
          </a:prstGeom>
          <a:ln w="0">
            <a:noFill/>
          </a:ln>
        </p:spPr>
      </p:pic>
      <p:sp>
        <p:nvSpPr>
          <p:cNvPr id="287" name="WordArt 3"/>
          <p:cNvSpPr txBox="1"/>
          <p:nvPr/>
        </p:nvSpPr>
        <p:spPr>
          <a:xfrm>
            <a:off x="6732720" y="5013360"/>
            <a:ext cx="1828800" cy="1123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0066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Verdana"/>
              </a:rPr>
              <a:t>Виктор 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0066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Verdana"/>
              <a:ea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0066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Verdana"/>
              </a:rPr>
              <a:t>Козлов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0066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Verdana"/>
              <a:ea typeface="Verdana"/>
            </a:endParaRPr>
          </a:p>
        </p:txBody>
      </p:sp>
      <p:sp>
        <p:nvSpPr>
          <p:cNvPr id="288" name="WordArt 4"/>
          <p:cNvSpPr txBox="1"/>
          <p:nvPr/>
        </p:nvSpPr>
        <p:spPr>
          <a:xfrm>
            <a:off x="4140360" y="5084640"/>
            <a:ext cx="1828800" cy="1123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0066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Verdana"/>
              </a:rPr>
              <a:t>Виктор 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0066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Verdana"/>
              <a:ea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0066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Verdana"/>
              </a:rPr>
              <a:t>Ковба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0066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Verdana"/>
              <a:ea typeface="Verdana"/>
            </a:endParaRPr>
          </a:p>
        </p:txBody>
      </p:sp>
      <p:sp>
        <p:nvSpPr>
          <p:cNvPr id="289" name="WordArt 5"/>
          <p:cNvSpPr txBox="1"/>
          <p:nvPr/>
        </p:nvSpPr>
        <p:spPr>
          <a:xfrm>
            <a:off x="684360" y="5084640"/>
            <a:ext cx="2847960" cy="1123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0066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Verdana"/>
              </a:rPr>
              <a:t>Шариф 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0066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Verdana"/>
              <a:ea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0066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Verdana"/>
              </a:rPr>
              <a:t>Мухатдинов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0066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Verdana"/>
              <a:ea typeface="Verdana"/>
            </a:endParaRPr>
          </a:p>
        </p:txBody>
      </p:sp>
    </p:spTree>
  </p:cSld>
  <p:transition spd="med">
    <p:wheel spokes="3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24000" y="475920"/>
            <a:ext cx="8286480" cy="1095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Шариф Мухатдинов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1258920" y="2205000"/>
            <a:ext cx="647712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Заслуженный артист России. Родился в 1947 году в городе Челябинск. В 1973 году закончил Свердловское музыкальное училище. Концертной деятельностью занимается с 1974 года. Был участником фестивалей гитаристов в городах: Таркае, Донецк, Киев, Полтава, Москва, Воронеж, Эстергом, Тыххи. В 1991 году вместе с Виктором Козловым организовали </a:t>
            </a:r>
            <a:r>
              <a:rPr b="0" lang="ru-RU" sz="2200" spc="-1" strike="noStrike">
                <a:solidFill>
                  <a:srgbClr val="92d050"/>
                </a:solidFill>
                <a:latin typeface="Tahoma"/>
              </a:rPr>
              <a:t>Ассоциацию деятелей классической гитары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. Работает преподавателем в Челябинском Институте Музыки и специальной музыкальной школе при Челябинском Институте Музыки. 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heel spokes="3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15640" y="33336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Виктор Ковба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1428840" y="2999880"/>
            <a:ext cx="640080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Заслуженный артист России. Родился в 1951 году в г. Челябинск. Окончил Челябинский государственный Институт Культуры. С 1972 года работает в Челябинской областной филармонии. С 1994 года работает преподавателем в Челябинской Государственной Академии Культуры и Искусств, и специальной музыкальной школе. С 1996 года является участником Трио Гитаристов Урала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heel spokes="3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Picture 2" descr="гитара"/>
          <p:cNvPicPr/>
          <p:nvPr/>
        </p:nvPicPr>
        <p:blipFill>
          <a:blip r:embed="rId1"/>
          <a:srcRect l="0" t="2754" r="0" b="4859"/>
          <a:stretch/>
        </p:blipFill>
        <p:spPr>
          <a:xfrm>
            <a:off x="0" y="0"/>
            <a:ext cx="4241880" cy="6858000"/>
          </a:xfrm>
          <a:prstGeom prst="rect">
            <a:avLst/>
          </a:prstGeom>
          <a:ln w="0">
            <a:noFill/>
          </a:ln>
        </p:spPr>
      </p:pic>
      <p:sp>
        <p:nvSpPr>
          <p:cNvPr id="295" name="WordArt 5"/>
          <p:cNvSpPr txBox="1"/>
          <p:nvPr/>
        </p:nvSpPr>
        <p:spPr>
          <a:xfrm>
            <a:off x="1019160" y="404640"/>
            <a:ext cx="7585200" cy="590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211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се три гитары,</a:t>
            </a:r>
            <a:endParaRPr b="0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 которых играет</a:t>
            </a:r>
            <a:endParaRPr b="0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рио, сделаны из</a:t>
            </a:r>
            <a:endParaRPr b="0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алисандра.</a:t>
            </a:r>
            <a:endParaRPr b="0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аждая из них </a:t>
            </a:r>
            <a:endParaRPr b="0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зготовлена на заказ</a:t>
            </a:r>
            <a:endParaRPr b="0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амечательным гитарным </a:t>
            </a:r>
            <a:endParaRPr b="0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астером И. Кузнецовым.</a:t>
            </a:r>
            <a:endParaRPr b="0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wheel spokes="3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7T03:31:14Z</dcterms:created>
  <dc:creator>Cultanova</dc:creator>
  <dc:description/>
  <dc:language>en-US</dc:language>
  <cp:lastModifiedBy>Раиса</cp:lastModifiedBy>
  <dcterms:modified xsi:type="dcterms:W3CDTF">2009-01-30T12:48:49Z</dcterms:modified>
  <cp:revision>14</cp:revision>
  <dc:subject/>
  <dc:title>Слайд 1</dc:title>
</cp:coreProperties>
</file>