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6C0-01FB-4579-A4E5-E2F2F8B8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6D7-4D88-4EAA-9827-A385BE57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ACB-41B1-4131-B360-F6E4D33C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A9B-F93A-459B-B73A-B2F0DDF6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3885D-8689-49F9-BDB3-7DCD1598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600DE-6A7D-472E-ACED-A4F00287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17B6A-5151-4067-9AA3-E6FDD4B8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911E8-6E8C-49C2-B36B-8D1749FB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45055-733A-4551-88A3-8C6ACC49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F69EF-1F52-472A-A09D-33F1C136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4EDAF-1D83-4EAD-8B8A-F8AC1AB0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1E4-862D-48B8-88B9-96E4DACA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F6B14-46BF-44BB-BF64-3019E029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D7EBA-050B-4BEF-AE85-6CB6B3F8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7697D-9839-40DE-8D0C-004B0C13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361B8-9171-41A8-8ADC-EC852C87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497C5-91F9-4323-A5A3-E5156C3F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1D9-F5C2-4ED3-9908-16BA9686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478-9F65-44E7-B74D-F58A122E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2A5-57D9-454A-A392-7D3CFB3A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FEF-EC10-4BCB-B1D5-7BDD768D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D40-2466-4B1A-A203-5EB3E2FA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D64-3DC5-4907-8D34-1A438B88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CF7-4507-4844-A8DF-E85D4470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77CE-280C-4ACE-BDE7-F00157A40D6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A4A9-6FC4-44EC-BC58-78B3CE0765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e3e3ff"/>
                </a:solidFill>
                <a:latin typeface="Arial"/>
                <a:ea typeface="Arial"/>
              </a:rPr>
              <a:t>Υ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ени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  <a:ea typeface="Arial"/>
              </a:rPr>
              <a:t>ң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  тайылбыр  домаа.</a:t>
            </a: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Катаптаашкын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чээл-саарыл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ээли ортумак школазынын тыва дыл, чогаал башкызы  Ондар А.Б. эрттирг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уруктар-биле  ажы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8" descr="Изображение 018"/>
          <p:cNvPicPr/>
          <p:nvPr/>
        </p:nvPicPr>
        <p:blipFill>
          <a:blip r:embed="rId1"/>
          <a:stretch/>
        </p:blipFill>
        <p:spPr>
          <a:xfrm>
            <a:off x="457200" y="2343240"/>
            <a:ext cx="4038480" cy="300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Изображение 048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7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Изображение 046"/>
          <p:cNvPicPr/>
          <p:nvPr/>
        </p:nvPicPr>
        <p:blipFill>
          <a:blip r:embed="rId3"/>
          <a:stretch/>
        </p:blipFill>
        <p:spPr>
          <a:xfrm>
            <a:off x="5208480" y="3921120"/>
            <a:ext cx="29163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ктар-биле  ажы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1.Школага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өө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едилге  доостуру  билек,  к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ө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ээ  черни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оолдары  к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ө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түг  чайын  х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ө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естеп  орар  эве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.Хой  кыргылдазы  т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ө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ерге,  дораан-на  сиген  кезилдезинче  кирип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.Ийи-үш  хонук  эрткен  соонда,  Улуг-Шыкка  майгыннардан  бүткен  сууржугаш  турупт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  <a:ea typeface="Arial"/>
              </a:rPr>
              <a:t>ө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  <a:ea typeface="Arial"/>
              </a:rPr>
              <a:t>ү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ел-биле ажы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8" descr="Калчан-Шилги"/>
          <p:cNvPicPr/>
          <p:nvPr/>
        </p:nvPicPr>
        <p:blipFill>
          <a:blip r:embed="rId1"/>
          <a:stretch/>
        </p:blipFill>
        <p:spPr>
          <a:xfrm>
            <a:off x="457200" y="23432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дарард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оюм чара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арап к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өө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де, тейим бед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Υ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дүрерд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оюм чара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Υ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теп сургаа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вам э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  <a:ea typeface="Arial"/>
              </a:rPr>
              <a:t>Ү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ени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  <a:ea typeface="Arial"/>
              </a:rPr>
              <a:t>ң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тайылбыр  домаан  тывы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  <a:ea typeface="Arial"/>
              </a:rPr>
              <a:t>ң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р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ерлер кезип чоруур сен дээш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е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ем, акым аттына бээ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еле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ерде бызаа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р чо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ну дилеп чордум дээр м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дарарда , хоюм чара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арап к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өө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де тейим бед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Υ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дүрерде, хоюм чара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Υ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теп сургаар авам э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  <a:ea typeface="Arial"/>
              </a:rPr>
              <a:t>ө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-биле  ажыл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адып  кээрг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…………………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…………………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…………………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3920760"/>
            <a:ext cx="4038480" cy="21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алдарны  к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өө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г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…………………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…………………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…………………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3920760"/>
            <a:ext cx="4038480" cy="21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үгүрүктү  мунуптарг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…………………………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…………………………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…………………………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8" descr="Чугурук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ажы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  <a:ea typeface="Arial"/>
              </a:rPr>
              <a:t>ң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а  ажы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-ги  б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үк: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тайылбыр  домаа  кирген  5  үлегер  домак бижиир,  холбажыр  аргаларын  айты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-ги  б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үк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тайылбыр  домаа  кирген  5  тывызык  бижиир,  схема  тургуз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643120" y="3857400"/>
            <a:ext cx="385776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-ку  б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үк:  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-ажыл  дугайында  үен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тайылбыр  домаа  кирген  5  домак  чогаады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ичээлди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  <a:ea typeface="Arial"/>
              </a:rPr>
              <a:t>ң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сорулгаз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тайылбыр  домаан,  холбажыр  аргаларын  катапта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Уругларны  мал-маганга  ынак  болурунга,  к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-ажылга  болгаш  садыг-саарылга  кылырынга  кижизид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Чугаа  сайзырадылгазын  чоруд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Изображение 021"/>
          <p:cNvPicPr/>
          <p:nvPr/>
        </p:nvPicPr>
        <p:blipFill>
          <a:blip r:embed="rId1"/>
          <a:stretch/>
        </p:blipFill>
        <p:spPr>
          <a:xfrm>
            <a:off x="324000" y="500040"/>
            <a:ext cx="856908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ичээлди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  <a:ea typeface="Arial"/>
              </a:rPr>
              <a:t>ң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эпиграв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Picture 6" descr="Изображение 047"/>
          <p:cNvPicPr/>
          <p:nvPr/>
        </p:nvPicPr>
        <p:blipFill>
          <a:blip r:embed="rId1"/>
          <a:stretch/>
        </p:blipFill>
        <p:spPr>
          <a:xfrm>
            <a:off x="457200" y="23432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рте  шагдан  ызыгуурлуг  малчын  чонну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гээртинмес  малдар  с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γγ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б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геп  шыпк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рткен  кижи  мактап  ханм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ртинелиг  эки  чуртум…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.Сарыг-о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  <a:ea typeface="Arial"/>
              </a:rPr>
              <a:t>ө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үрер даш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3556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5045040" y="1600200"/>
            <a:ext cx="3245040" cy="2171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5045040" y="4308480"/>
            <a:ext cx="267012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юн  «Даш  к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  <a:ea typeface="Arial"/>
              </a:rPr>
              <a:t>ө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</a:t>
            </a:r>
            <a:r>
              <a:rPr b="0" lang="el-GR" sz="4400" spc="-1" strike="noStrike">
                <a:solidFill>
                  <a:srgbClr val="e3e3ff"/>
                </a:solidFill>
                <a:latin typeface="Arial"/>
                <a:ea typeface="Arial"/>
              </a:rPr>
              <a:t>γ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р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2920" y="1600200"/>
            <a:ext cx="4286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0  килогра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ыва  дылда  </a:t>
            </a:r>
            <a:r>
              <a:rPr b="0" i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тайылбыр  домаанга  хамаарышкан  эртем  ажылын  кым  деп  эртемден кылганы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2920" y="1628280"/>
            <a:ext cx="403884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0  ки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Υ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тайылбыр  домааны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утказы  болгаш  айтыры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2920" y="3933720"/>
            <a:ext cx="4038840" cy="21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0  ки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Υ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тайылбыр  домааны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холбажыр  аргала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хемалар-биле  ажыл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 (          )  соонда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         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(          )  билек-ле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        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 (          )  аразында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        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  <a:ea typeface="Arial"/>
              </a:rPr>
              <a:t>ө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рээн  черим  онзагай  бойдуз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7" descr="Изображение 068"/>
          <p:cNvPicPr/>
          <p:nvPr/>
        </p:nvPicPr>
        <p:blipFill>
          <a:blip r:embed="rId1"/>
          <a:stretch/>
        </p:blipFill>
        <p:spPr>
          <a:xfrm>
            <a:off x="457200" y="2343240"/>
            <a:ext cx="4038480" cy="300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Изображение 020"/>
          <p:cNvPicPr/>
          <p:nvPr/>
        </p:nvPicPr>
        <p:blipFill>
          <a:blip r:embed="rId2"/>
          <a:stretch/>
        </p:blipFill>
        <p:spPr>
          <a:xfrm>
            <a:off x="4648320" y="2343240"/>
            <a:ext cx="40384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аблица-биле  ажы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тайылбыр  дома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 Хой  малды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ө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түрерге,  кижи  тодуг-догаа,  каас-шиник  чоруу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. Имир  дүжерге  чедир,  сиген  кесчип  турган  би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3280" y="1628280"/>
            <a:ext cx="4143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ө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үүн  домакта       ү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ң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байда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Хойларым  айдап  алгаш,  тей  кырынга  үнүп  келд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.Алексей  аъдын  мунгаш, бызааларын  дилеп  чорупк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33:14Z</dcterms:created>
  <dc:creator>User</dc:creator>
  <dc:description/>
  <dc:language>en-US</dc:language>
  <cp:lastModifiedBy>user 0001</cp:lastModifiedBy>
  <dcterms:modified xsi:type="dcterms:W3CDTF">2012-11-12T09:58:33Z</dcterms:modified>
  <cp:revision>16</cp:revision>
  <dc:subject/>
  <dc:title>Уенин  тайылбыр  домаа. Катаптаашкын.</dc:title>
</cp:coreProperties>
</file>