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4E2-DF15-47BE-9D04-A0F99788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FB5-E126-4417-A74F-13080033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996-9FD6-4A7E-8D92-2A80F118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420-406D-4508-8965-E5CF82FB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EAD-8B11-4787-A734-A4D993C8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448-A19B-4D1C-B9A8-957646ED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290-8FE2-4F4F-AC04-ED1C3C6F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A16-5723-4136-B1D1-BCE6786C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5FC-B540-420A-BF27-05438E58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439-4FF7-4AA8-98D7-81BDF257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D80-8CA0-4441-8A52-A0AA3971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AAC-6815-4DB7-AEAB-DC956251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DDB4-F3E9-4563-8D8F-8D5211E830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l_fi" descr="http://pixelbrush.ru/uploads/posts/2010-01/1262702137_gccd6ytvkahmbb2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85920" y="1357200"/>
            <a:ext cx="69292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Математику, друз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Не любить никак нельз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Очень строгая нау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Очень точная нау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Интересная наук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Математика</a:t>
            </a: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l_fi" descr="http://pixelbrush.ru/uploads/posts/2010-02/1267290619_bord_43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85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1428840" y="1071720"/>
          <a:ext cx="6548400" cy="4600440"/>
        </p:xfrm>
        <a:graphic>
          <a:graphicData uri="http://schemas.openxmlformats.org/drawingml/2006/table">
            <a:tbl>
              <a:tblPr/>
              <a:tblGrid>
                <a:gridCol w="3214440"/>
                <a:gridCol w="2214720"/>
                <a:gridCol w="1119240"/>
              </a:tblGrid>
              <a:tr h="657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9 х 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80 - 6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15+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64+2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27 : 9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92 -4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9 х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1500120" y="357120"/>
          <a:ext cx="6096240" cy="12193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f2e05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7" name="Рисунок 5" descr="http://freelance.ru/img/portfolio/pics/00/07/4E/478960.jpg"/>
          <p:cNvPicPr/>
          <p:nvPr/>
        </p:nvPicPr>
        <p:blipFill>
          <a:blip r:embed="rId2"/>
          <a:stretch/>
        </p:blipFill>
        <p:spPr>
          <a:xfrm>
            <a:off x="2286000" y="2143080"/>
            <a:ext cx="428616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428760" y="428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Х=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65400" y="142884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Х =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366120" y="342900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Х = 1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366120" y="242892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Х = 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297720" y="4429080"/>
            <a:ext cx="20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Х = 30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437040" y="542916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Х =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1785960" y="214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f2e05"/>
                </a:solidFill>
                <a:latin typeface="Arial"/>
              </a:rPr>
              <a:t>торт </a:t>
            </a: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0" descr="http://cs10499.userapi.com/u4181755/-14/x_81cd093a.jpg"/>
          <p:cNvPicPr/>
          <p:nvPr/>
        </p:nvPicPr>
        <p:blipFill>
          <a:blip r:embed="rId2"/>
          <a:stretch/>
        </p:blipFill>
        <p:spPr>
          <a:xfrm>
            <a:off x="4071960" y="285840"/>
            <a:ext cx="2500200" cy="17143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1"/>
          <p:cNvSpPr/>
          <p:nvPr/>
        </p:nvSpPr>
        <p:spPr>
          <a:xfrm>
            <a:off x="1928880" y="300024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f2e05"/>
                </a:solidFill>
                <a:latin typeface="Arial"/>
              </a:rPr>
              <a:t>варень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2" descr="http://softoroom.net/images/server6/out.php/i2906_44318861a8a415b.jpg"/>
          <p:cNvPicPr/>
          <p:nvPr/>
        </p:nvPicPr>
        <p:blipFill>
          <a:blip r:embed="rId3"/>
          <a:stretch/>
        </p:blipFill>
        <p:spPr>
          <a:xfrm>
            <a:off x="5929200" y="2286000"/>
            <a:ext cx="2928960" cy="18572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3"/>
          <p:cNvSpPr/>
          <p:nvPr/>
        </p:nvSpPr>
        <p:spPr>
          <a:xfrm>
            <a:off x="1714680" y="507204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f2e05"/>
                </a:solidFill>
                <a:latin typeface="Arial"/>
              </a:rPr>
              <a:t>плюш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4" descr="http://s39.radikal.ru/i083/1006/9b/286b1f157155.jpg"/>
          <p:cNvPicPr/>
          <p:nvPr/>
        </p:nvPicPr>
        <p:blipFill>
          <a:blip r:embed="rId4"/>
          <a:stretch/>
        </p:blipFill>
        <p:spPr>
          <a:xfrm>
            <a:off x="5643720" y="4643280"/>
            <a:ext cx="3214440" cy="2000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1680" y="35712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http://www.ukrmebli.com/goods/photo/big_17375.jpg"/>
          <p:cNvPicPr/>
          <p:nvPr/>
        </p:nvPicPr>
        <p:blipFill>
          <a:blip r:embed="rId2"/>
          <a:srcRect l="0" t="0" r="0" b="7937"/>
          <a:stretch/>
        </p:blipFill>
        <p:spPr>
          <a:xfrm>
            <a:off x="928800" y="357120"/>
            <a:ext cx="7715160" cy="6286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85840" y="428400"/>
            <a:ext cx="88581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f2e05"/>
                </a:solidFill>
                <a:latin typeface="Calibri"/>
              </a:rPr>
              <a:t>1)16:2=8(м²) – площадь 2 комнат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f2e05"/>
                </a:solidFill>
                <a:latin typeface="Calibri"/>
              </a:rPr>
              <a:t>2)8+7=15( м²)) - площадь 3 комнат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f2e05"/>
                </a:solidFill>
                <a:latin typeface="Calibri"/>
              </a:rPr>
              <a:t>3)16+8+15=39(м²)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f2e05"/>
                </a:solidFill>
                <a:latin typeface="Calibri"/>
              </a:rPr>
              <a:t>Ответ: площадь 3 комнат 39 м²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67" name="rg_hi" descr="http://t0.gstatic.com/images?q=tbn:ANd9GcS8Uy99-FcxhvSlzfNGptrA2B-Oux7st0gB-DfHYV1jdEM-8t3o"/>
          <p:cNvPicPr/>
          <p:nvPr/>
        </p:nvPicPr>
        <p:blipFill>
          <a:blip r:embed="rId2"/>
          <a:srcRect l="0" t="0" r="0" b="101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1375200" y="1928880"/>
            <a:ext cx="34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4 х 5 + 18 :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1374840" y="278604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5 х 6 – 35 : 7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1445040" y="3500280"/>
            <a:ext cx="31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8 х 5 + 5 х 5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2232360" y="428616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7 х 5 – 45 : 9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9"/>
          <p:cNvSpPr/>
          <p:nvPr/>
        </p:nvSpPr>
        <p:spPr>
          <a:xfrm>
            <a:off x="4572000" y="192888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26   </a:t>
            </a:r>
            <a:r>
              <a:rPr b="1" lang="ru-RU" sz="3600" spc="-1" strike="noStrike">
                <a:solidFill>
                  <a:srgbClr val="e46c0a"/>
                </a:solidFill>
                <a:latin typeface="Arial"/>
              </a:rPr>
              <a:t>спасибо</a:t>
            </a: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4651920" y="278604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25   </a:t>
            </a:r>
            <a:r>
              <a:rPr b="1" lang="ru-RU" sz="3600" spc="-1" strike="noStrike">
                <a:solidFill>
                  <a:srgbClr val="fac09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e46c0a"/>
                </a:solidFill>
                <a:latin typeface="Arial"/>
              </a:rPr>
              <a:t>в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4434840" y="3500280"/>
            <a:ext cx="155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65 </a:t>
            </a:r>
            <a:r>
              <a:rPr b="1" lang="ru-RU" sz="3600" spc="-1" strike="noStrike">
                <a:solidFill>
                  <a:srgbClr val="e46c0a"/>
                </a:solidFill>
                <a:latin typeface="Arial"/>
              </a:rPr>
              <a:t> 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2"/>
          <p:cNvSpPr/>
          <p:nvPr/>
        </p:nvSpPr>
        <p:spPr>
          <a:xfrm>
            <a:off x="5437800" y="428616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30  </a:t>
            </a:r>
            <a:r>
              <a:rPr b="1" lang="ru-RU" sz="3600" spc="-1" strike="noStrike">
                <a:solidFill>
                  <a:srgbClr val="e46c0a"/>
                </a:solidFill>
                <a:latin typeface="Arial"/>
              </a:rPr>
              <a:t>урок</a:t>
            </a:r>
            <a:r>
              <a:rPr b="1" lang="ru-RU" sz="3600" spc="-1" strike="noStrike">
                <a:solidFill>
                  <a:srgbClr val="5f2e0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http://img-fotki.yandex.ru/get/6001/tatyana2q8-medvedeva.123/0_534b9_50133295_XL.jpg"/>
          <p:cNvPicPr/>
          <p:nvPr/>
        </p:nvPicPr>
        <p:blipFill>
          <a:blip r:embed="rId2"/>
          <a:stretch/>
        </p:blipFill>
        <p:spPr>
          <a:xfrm>
            <a:off x="6000840" y="0"/>
            <a:ext cx="3143160" cy="65721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680" y="357120"/>
            <a:ext cx="82152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2e05"/>
                </a:solidFill>
                <a:latin typeface="Calibri"/>
              </a:rPr>
              <a:t>Домашнее задание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2e05"/>
                </a:solidFill>
                <a:latin typeface="Calibri"/>
              </a:rPr>
              <a:t>Страница 23 № 5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2e05"/>
                </a:solidFill>
                <a:latin typeface="Calibri"/>
              </a:rPr>
              <a:t>№ </a:t>
            </a:r>
            <a:r>
              <a:rPr b="1" lang="ru-RU" sz="5400" spc="-1" strike="noStrike">
                <a:solidFill>
                  <a:srgbClr val="5f2e05"/>
                </a:solidFill>
                <a:latin typeface="Calibri"/>
              </a:rPr>
              <a:t>2 (2 столбик)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10:13:35Z</dcterms:created>
  <dc:creator>Картавых</dc:creator>
  <dc:description/>
  <dc:language>en-US</dc:language>
  <cp:lastModifiedBy>Картавых</cp:lastModifiedBy>
  <dcterms:modified xsi:type="dcterms:W3CDTF">2012-07-18T18:35:56Z</dcterms:modified>
  <cp:revision>12</cp:revision>
  <dc:subject/>
  <dc:title>Урок математики</dc:title>
</cp:coreProperties>
</file>