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C66E-8642-4297-8C40-E3273555A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1191-A25A-4BF0-BF2F-2DEA79111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7568-D3F3-4B05-9C0B-5D7C1D89D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BAB9-3698-42C1-93D7-09ED7A6B8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49EA4-F6E8-410B-848D-004A2F04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C3362-8B55-462F-8607-6D84749F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FDF0E-910E-4AFB-8204-036C4640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85DF6-096D-4EBC-9EE1-4B186EC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F5344-613C-4DA2-92A7-A43121E2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3CAC-8C36-4364-BE46-9EF8FD53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365B-2051-45B7-8A13-2D5C0618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87F7-6AA1-4A4A-8BEE-7B3E9420A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8C93-0124-4A0A-ADEE-A566A573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91ACC-FB3C-4F6E-BA78-48B95F3C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698E4-A25D-4E35-9F61-BFC61502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94582-C514-41AE-8F89-1837E79A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8038C-34B7-4F63-A90E-7E6FF55A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CC83-DD71-48E6-92B6-7D1EF1C18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7565-93A6-4AE8-8732-4E4B325E4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AF49-5131-42AF-8F4B-2680D1F80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B45E-C1B1-4803-A2D3-7A1CF0D13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F6EC-0446-4E11-89A4-FD1B439BB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D9AD-9AD5-46D7-ACEE-23C1E56BD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A009-2891-43FD-A5B7-6089E6FBB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A379-3897-45EC-9805-2BB97A8D8D5C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880B-B223-4470-B461-585D7E7BFEED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28D8-36BC-4B8B-AC54-AD91A679A035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28360" y="576000"/>
            <a:ext cx="7201080" cy="9363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Открытый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90a11"/>
                </a:solidFill>
                <a:latin typeface="Arial"/>
              </a:rPr>
              <a:t>Установление династии Романовых.</a:t>
            </a:r>
            <a:endParaRPr b="1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90a11"/>
                </a:solidFill>
                <a:latin typeface="Arial"/>
              </a:rPr>
              <a:t>Софьина К.С.</a:t>
            </a:r>
            <a:endParaRPr b="1" lang="en-US" sz="5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90a11"/>
                </a:solidFill>
                <a:latin typeface="Times New Roman"/>
              </a:rPr>
              <a:t>4.Соборное уложение 1649 г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30524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9 г. Земский Собор принял Соборное     уложение -общерусский свод зако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нем отменялись             урочные лета-это означало окончательное  закрепощение крестьян. Горожане были прикреплены к посадам, а помещики стали отвечать за преступления своих крестьян. Главными объявлялись    преступления против царя и его имуществ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65720" cy="49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35800" y="5991120"/>
            <a:ext cx="41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оборное уложение 1649 г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аздел о беглых крестьяна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201080" cy="936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Итоги  урока: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Arial"/>
              </a:rPr>
              <a:t>Уже при первых царях династии Романовых произошло значительное укрепление царской власти. При этом уменьшилась роль сословно-представительных органов власт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3280" y="549360"/>
            <a:ext cx="7200720" cy="936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Цель урока: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1.Рассмотреть правление первых Романовых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2.Выявить значимость Земского собора и Боярской Думы  на Рус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3.Проанализировать органы исполнительной власт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4. Обсудить создание Соборного уложения в 1649 г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ный вопрос: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ему  основателем новой царской династии выбрали Михаила Романова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Михаил Федорович стал царем в 16 лет.Он попал в зависимость от свое-го окружения- сначала родственников матери, а затем отца,который в 1619 г.был избран  патриархом. Филарет получил огромную власть и да-же ставил свою подпись на государственных документа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отца Михаил стал править самостоятельн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138320"/>
            <a:ext cx="3855960" cy="538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5 г.на престол  вступил Алексей Михайлович. Его воспитатель Б. Морозов привил ему  любовь к чтению. Царь был набожным человеком, за что получил прозвище- «Тишайший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Алексей был женат дважды. От брака с М.Милославской у него роди-лось 13 детей, а от Н. Нарышкиной- трое, в том числе будущий царь-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127160"/>
            <a:ext cx="3514680" cy="547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1640" y="990360"/>
            <a:ext cx="434340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Земский собор в н.     правления Михаила собирался регулярно. Он должен был отстаивать интересы населения перед царем. Романовы были заинтересованы в поддержке Собора, но с укреплением   государства, особенно после смерти Филарета, они стали собираться   не регулярно, Романовы хотели «забыть   выборность»  Михаил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3751200" cy="5573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2000" y="4508280"/>
            <a:ext cx="8982000" cy="2305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Михаила возникла идея сделать Собор постоянно действующим по образу английского     парламента, но это предложение  мешало становлению самодержав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этому Соборы стали созываться только для    утверждения царских законов. Последний раз Земский Собор был созван в 1653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484360" y="1052640"/>
            <a:ext cx="6480360" cy="3384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1840" y="2565360"/>
            <a:ext cx="22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Земский собор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52840" y="665280"/>
            <a:ext cx="5267160" cy="3527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320" y="4221000"/>
            <a:ext cx="8991360" cy="255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тепенно снижалась роль Боярской Думы количество  ее членов сократилось. Царь стал созывать «ближнюю думу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ума по-прежнему решала вопросы мира и войны,     введения налогов и т.д., но все чаще последнее слово оказывалось за царем, хотя решения оформлялись записью «Царь решил и бояре приговорили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4920" y="4428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36360" y="1484280"/>
            <a:ext cx="339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 Рябушкин. Сидение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царя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хаила Федорович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 боярами в его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осударевой комнате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64000" y="682560"/>
            <a:ext cx="5040360" cy="331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621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3.Органы исполнительной власт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8920" y="4076280"/>
            <a:ext cx="8534160" cy="2700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a11"/>
                </a:solidFill>
                <a:latin typeface="Arial"/>
              </a:rPr>
              <a:t>Исполнительная власть принадлежала приказам.  Крупнейшими были-Посольский ,Большого дворца, Казенный, Разбойный и т.д. Но многие приказы часто имели сходные функции и мешали друг другу. В приказах царили взяточничество и казнокрадство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0a11"/>
                </a:solidFill>
                <a:latin typeface="Arial"/>
              </a:rPr>
              <a:t>На местах власть принадлежала воеводам возглавлявшим уезды, а те делились на станы и волости. Воеводы обладали всей полнотой власти в уезд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0840" y="2060640"/>
            <a:ext cx="31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 Иванов. В Приказ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х времен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Lenovo</cp:lastModifiedBy>
  <cp:lastPrinted>1997-01-19T19:09:28Z</cp:lastPrinted>
  <dcterms:modified xsi:type="dcterms:W3CDTF">2012-02-02T13:30:39Z</dcterms:modified>
  <cp:revision>168</cp:revision>
  <dc:subject/>
  <dc:title>Заголовок слайда отсутствует</dc:title>
</cp:coreProperties>
</file>