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D0E-4EF8-41EC-A9F9-C47086BE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92D-DCF4-459E-A4F1-2EFD0A3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846-E487-4816-9FA4-0C015558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DB5-5ECA-4B7D-B583-D98C1B71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F7B4-C62C-422A-9804-7910DD51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273-F7A4-4C88-AAF4-6BBFB8F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29B-8EE7-43B4-ADCE-295E720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0BD-1621-4A36-9902-2F22CB6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B22-9095-4AD8-AAE3-E3972D3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4A6-9C66-462B-BA14-415EF46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E411-FA1D-4A77-A612-714FF51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4F6-4B03-4E20-B03F-6F73FB1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3B9-E88A-4E2B-BE64-1F20E3C4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5001-4AE3-40E1-AC1B-5C1A752E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0B1C-0C76-4AAB-8B72-E469AA4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F42-7A0B-4B99-A66C-D501C7E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BD3-C203-4CBF-B3F7-3D38E497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D15-2918-4256-940B-2DE38CE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4CE-F324-46A4-834B-0573030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A95-832E-4A98-906F-6663270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894-BFDE-4407-BC72-70890EB1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F69-2803-4677-8BDE-257FFB8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C6-CB37-4F85-8F79-3021C81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20B-9FCD-4D7B-BD59-ED75FC3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9822-08C6-4F56-9745-A3C6F5FFD2C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0F4-5BB8-4363-979B-F3678F57319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Verdana"/>
              </a:rPr>
              <a:t>Чистопис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Прошли дожди, апрель теплее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Всю ночь – туман, а поут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Весенний воздух точно мле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И мягкой дымкою сине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В далеких просеках в бор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                           </a:t>
            </a: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( И. Бунин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Verdana"/>
              </a:rPr>
              <a:t>Выделенные сло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Verdana"/>
              </a:rPr>
              <a:t>Росла яблоня 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Verdana"/>
              </a:rPr>
              <a:t>Упало яблоко 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Verdana"/>
              </a:rPr>
              <a:t>Птицы склевали 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Verdana"/>
              </a:rPr>
              <a:t>Зернышко спряталось и проросло 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Verdana"/>
              </a:rPr>
              <a:t>Синтаксический разбор предлож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Росла в лесу дикая яблон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орфологический разбор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епле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онетический разбор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ре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тог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С какой темой познакомились на урок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На какие вопросы отвечают глаголы в прошедшем врем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Как они изменяются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Какие имеет окончания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пр. 49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cc33"/>
                </a:solidFill>
                <a:latin typeface="Verdana"/>
              </a:rPr>
              <a:t>Весн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2640" y="746748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87920" y="45720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810240" cy="2770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149720" cy="277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Словар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036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36c0"/>
                </a:solidFill>
                <a:latin typeface="Verdana"/>
              </a:rPr>
              <a:t>«млее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036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36c0"/>
                </a:solidFill>
                <a:latin typeface="Verdana"/>
              </a:rPr>
              <a:t>«в просеках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036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36c0"/>
                </a:solidFill>
                <a:latin typeface="Verdana"/>
              </a:rPr>
              <a:t>«в бору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лаг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шли, теплеет, млеет, сине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Verdana"/>
              </a:rPr>
              <a:t>Глаголы в прошедшем времен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Verdana"/>
              </a:rPr>
              <a:t>Красил            красила           красило            краси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Verdana"/>
              </a:rPr>
              <a:t>Читал               читала             читало             чита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Verdana"/>
              </a:rPr>
              <a:t>Играл               играла             играло             игра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Выво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1. Что делал? Что делала? Что делало? Что делал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2. Обозначают действие, которое прошл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3. Имеют суффикс  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4. В ед. ч. – имеет род (м, ж, ср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во мн. ч – рода н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Вопросы Почемуч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Как изменяются глаголы в прошедшем врем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Какие окончания имеет глагол в прошедшем време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Физмину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Одолела нас дремот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Шевельнуться неохо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Ну-ка, делайте со мно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Упражнение тако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Вверх, вниз, потянис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Окончательно просн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Вот мы руки развел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Словно удивилис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И друг другу до зем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В пояс поклонились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Наклонились, выпрямил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Наклонились, выпрямил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Ниже, дети, поклонитес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Verdana"/>
              </a:rPr>
              <a:t>Не ленитесь, улыбнитесь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Verdana"/>
              </a:rPr>
              <a:t>Закрепление те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Verdana"/>
              </a:rPr>
              <a:t>Время (наст., прош., буд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Verdana"/>
              </a:rPr>
              <a:t>Число (ед., мн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Verdana"/>
              </a:rPr>
              <a:t>Род (муж., жен., сред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6T20:4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