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0292-3DEF-4A7C-9F29-34DFE818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F6D9-DBB0-480B-B0A2-D1F3E6C3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9600-868B-4EA6-93FF-A4472EC5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DFF8-D1C2-49B7-A10A-AA145A92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CFB9D-9809-4AEE-90FC-352ED4B5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A9B77-E5B6-43B0-8F31-6815FDD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2094C-2786-47FE-B76F-1997E1B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3DC1C-C1ED-4AC6-82DA-7B0D3570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AA444-A09D-4575-B126-4E424F3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EA8D-62C7-497F-91A9-E196B8A5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040B5-2901-4C0B-BD8F-0AEBF81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EF82-1FA8-4590-AA23-B134DE3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F8545-4C50-4689-BFBA-0B08FB9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6FA39-8A2C-4716-AA7C-41F2070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5CDC7-ACF5-46B6-A93B-55932377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6B5AA-85DC-4ACF-9864-CFB92AF7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A8416-67A8-4FDB-BB43-6ED86EB9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F6FA-1028-4AA5-B22C-5156A7D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2CDD-D9C8-47D8-88B2-0B5DCC9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7079-84DE-4123-A927-BD62658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1B6A-1599-4D29-B425-3D7D6750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BCE2-99BC-487A-876A-849B4AD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43D1-7295-4C5E-B19D-CCF8B1E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31EF-D1C9-479B-B7C2-3CE91BA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44A9-A5FE-4701-89F9-66DF645FDF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73A-6272-4B10-B94A-D6E02AD171E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1400" y="1370160"/>
            <a:ext cx="5484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C92-995B-479E-8EF7-72C54A9D022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986-EED4-411C-81EC-70CAF8636C6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hyperlink" Target="http://book.vsem.ru/photos/48269.gif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341360"/>
            <a:ext cx="81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6f2c"/>
                </a:solidFill>
                <a:latin typeface="Tunga"/>
              </a:rPr>
              <a:t>Воспитательный</a:t>
            </a:r>
            <a:r>
              <a:rPr b="1" lang="ru-RU" sz="6600" spc="-1" strike="noStrike">
                <a:solidFill>
                  <a:srgbClr val="f46f2c"/>
                </a:solidFill>
                <a:latin typeface="Tunga"/>
              </a:rPr>
              <a:t> </a:t>
            </a:r>
            <a:r>
              <a:rPr b="1" lang="ru-RU" sz="7200" spc="-1" strike="noStrike">
                <a:solidFill>
                  <a:srgbClr val="f46f2c"/>
                </a:solidFill>
                <a:latin typeface="Tunga"/>
              </a:rPr>
              <a:t>потенциал</a:t>
            </a:r>
            <a:r>
              <a:rPr b="1" lang="ru-RU" sz="6600" spc="-1" strike="noStrike">
                <a:solidFill>
                  <a:srgbClr val="f46f2c"/>
                </a:solidFill>
                <a:latin typeface="Tung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46f2c"/>
                </a:solidFill>
                <a:latin typeface="Tunga"/>
              </a:rPr>
              <a:t>русского</a:t>
            </a:r>
            <a:r>
              <a:rPr b="1" lang="ru-RU" sz="4800" spc="-1" strike="noStrike">
                <a:solidFill>
                  <a:srgbClr val="f46f2c"/>
                </a:solidFill>
                <a:latin typeface="Tunga"/>
              </a:rPr>
              <a:t> </a:t>
            </a:r>
            <a:r>
              <a:rPr b="1" lang="ru-RU" sz="8800" spc="-1" strike="noStrike">
                <a:solidFill>
                  <a:srgbClr val="f46f2c"/>
                </a:solidFill>
                <a:latin typeface="Tunga"/>
              </a:rPr>
              <a:t>язы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18FE5D-9349-42C1-86D1-0CA2F95F67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17080" y="631980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92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Информационная компетен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214280"/>
            <a:ext cx="3164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70000" y="205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565360"/>
            <a:ext cx="4032360" cy="2138400"/>
          </a:xfrm>
          <a:prstGeom prst="ellipse">
            <a:avLst/>
          </a:prstGeom>
          <a:solidFill>
            <a:srgbClr val="00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unga"/>
              </a:rPr>
              <a:t>информа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987280" y="1989000"/>
            <a:ext cx="793800" cy="64800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84360" y="4437000"/>
            <a:ext cx="719280" cy="50472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3284640"/>
            <a:ext cx="1008000" cy="7128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03640" y="1915920"/>
            <a:ext cx="863640" cy="64908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16720" y="3284640"/>
            <a:ext cx="1079640" cy="28872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4437000"/>
            <a:ext cx="719280" cy="72072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88400">
            <a:off x="2197800" y="1508040"/>
            <a:ext cx="14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Tunga"/>
              </a:rPr>
              <a:t>пои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712600">
            <a:off x="5295600" y="15613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Tunga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492000">
            <a:off x="7206480" y="278172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Tunga"/>
              </a:rPr>
              <a:t>отб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8670200">
            <a:off x="5206680" y="475164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Tunga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99400">
            <a:off x="902520" y="465264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Tunga"/>
              </a:rPr>
              <a:t>сохра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7166600">
            <a:off x="480960" y="26708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Tunga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348000" y="479736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804000" y="4797360"/>
            <a:ext cx="20876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2159280" cy="115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8360" y="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10800"/>
                </a:moveTo>
                <a:lnTo>
                  <a:pt x="20154" y="3794"/>
                </a:lnTo>
                <a:lnTo>
                  <a:pt x="2015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7A4667-D01A-4E9B-8671-C929167E5B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8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385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8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385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385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385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8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38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38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00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38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385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38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8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38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38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38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8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38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38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38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38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38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8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38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38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38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11120" y="247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628640"/>
            <a:ext cx="8136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Способы первичной обработки информации:</a:t>
            </a: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5c2305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Tunga"/>
                <a:hlinkClick r:id="rId2" action="ppaction://hlinksldjump"/>
              </a:rPr>
              <a:t>инсёрт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Tunga"/>
                <a:hlinkClick r:id="rId3" action="ppaction://hlinksldjump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5c2305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Tunga"/>
                <a:hlinkClick r:id="rId4" action="ppaction://hlinksldjump"/>
              </a:rPr>
              <a:t>денотатный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Tunga"/>
                <a:hlinkClick r:id="rId5" action="ppaction://hlinksldjump"/>
              </a:rPr>
              <a:t> граф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Tunga"/>
                <a:hlinkClick r:id="rId6" action="ppaction://hlinksldjump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5c2305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Tunga"/>
                <a:hlinkClick r:id="rId7" action="ppaction://hlinksldjump"/>
              </a:rPr>
              <a:t>кластер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5c2305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лестница сужения и расширения понят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5c2305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коллаж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92280"/>
            <a:ext cx="83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unga"/>
              </a:rPr>
              <a:t>«Учитесь читать и пересказывать</a:t>
            </a:r>
            <a:r>
              <a:rPr b="1" lang="ru-RU" sz="2800" spc="-1" strike="noStrike">
                <a:solidFill>
                  <a:srgbClr val="ff6600"/>
                </a:solidFill>
                <a:latin typeface="Tunga"/>
              </a:rPr>
              <a:t> </a:t>
            </a:r>
            <a:r>
              <a:rPr b="1" lang="ru-RU" sz="3200" spc="-1" strike="noStrike">
                <a:solidFill>
                  <a:srgbClr val="ff6600"/>
                </a:solidFill>
                <a:latin typeface="Tunga"/>
              </a:rPr>
              <a:t>лингвистический текст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5734080"/>
            <a:ext cx="753840" cy="576360"/>
          </a:xfrm>
          <a:custGeom>
            <a:avLst/>
            <a:gdLst>
              <a:gd name="textAreaLeft" fmla="*/ 37080 w 753840"/>
              <a:gd name="textAreaRight" fmla="*/ 716760 w 7538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6847" y="1400"/>
                </a:lnTo>
                <a:lnTo>
                  <a:pt x="1400" y="1400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6847" y="20200"/>
                </a:lnTo>
                <a:lnTo>
                  <a:pt x="26847" y="1400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7" y="20200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7" h="21600">
                <a:moveTo>
                  <a:pt x="7117" y="10800"/>
                </a:moveTo>
                <a:lnTo>
                  <a:pt x="21130" y="3794"/>
                </a:lnTo>
                <a:lnTo>
                  <a:pt x="2113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74E24-FBD5-4C17-B983-D3D731FDBA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956720" y="5805360"/>
            <a:ext cx="825480" cy="538200"/>
          </a:xfrm>
          <a:custGeom>
            <a:avLst/>
            <a:gdLst>
              <a:gd name="textAreaLeft" fmla="*/ 34560 w 825480"/>
              <a:gd name="textAreaRight" fmla="*/ 790920 w 825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3122" h="21600">
                <a:moveTo>
                  <a:pt x="0" y="0"/>
                </a:moveTo>
                <a:lnTo>
                  <a:pt x="33122" y="0"/>
                </a:lnTo>
                <a:lnTo>
                  <a:pt x="33122" y="21600"/>
                </a:lnTo>
                <a:lnTo>
                  <a:pt x="0" y="21600"/>
                </a:lnTo>
                <a:close/>
              </a:path>
              <a:path fill="lightenLess" w="33122" h="21600">
                <a:moveTo>
                  <a:pt x="0" y="0"/>
                </a:moveTo>
                <a:lnTo>
                  <a:pt x="33122" y="0"/>
                </a:lnTo>
                <a:lnTo>
                  <a:pt x="31722" y="1400"/>
                </a:lnTo>
                <a:lnTo>
                  <a:pt x="1400" y="1400"/>
                </a:lnTo>
                <a:close/>
              </a:path>
              <a:path fill="darken" w="33122" h="21600">
                <a:moveTo>
                  <a:pt x="33122" y="0"/>
                </a:moveTo>
                <a:lnTo>
                  <a:pt x="33122" y="21600"/>
                </a:lnTo>
                <a:lnTo>
                  <a:pt x="31722" y="20200"/>
                </a:lnTo>
                <a:lnTo>
                  <a:pt x="31722" y="1400"/>
                </a:lnTo>
                <a:close/>
              </a:path>
              <a:path fill="darkenLess" w="33122" h="21600">
                <a:moveTo>
                  <a:pt x="33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22" y="20200"/>
                </a:lnTo>
                <a:close/>
              </a:path>
              <a:path fill="lighten" w="33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22" h="21600">
                <a:moveTo>
                  <a:pt x="9554" y="10800"/>
                </a:moveTo>
                <a:lnTo>
                  <a:pt x="23567" y="3794"/>
                </a:lnTo>
                <a:lnTo>
                  <a:pt x="2356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836640"/>
            <a:ext cx="7775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unga"/>
              </a:rPr>
              <a:t>Кластер </a:t>
            </a:r>
            <a:r>
              <a:rPr b="1" lang="ru-RU" sz="4800" spc="-1" strike="noStrike">
                <a:solidFill>
                  <a:srgbClr val="993300"/>
                </a:solidFill>
                <a:latin typeface="Tunga"/>
              </a:rPr>
              <a:t>(гроздья) — способ, схожий с составлением опорных схем, даёт возможность упорядочить полученную информацию, привести в систему знани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FA067E-4158-40BE-ACB0-B70570D38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234936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unga"/>
              </a:rPr>
              <a:t>А) из текста выделяется ключевое сло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unga"/>
              </a:rPr>
              <a:t>Б) выбирается несколько глаголов, соотносимых с данным словом (с учётом поставленной тем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unga"/>
              </a:rPr>
              <a:t>В) веточки, направленные от слова к слову, обозначают логическую связь, которую легко установить с помощью вопро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038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907920"/>
            <a:ext cx="6740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unga"/>
              </a:rPr>
              <a:t>Денотатный гра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unga"/>
              </a:rPr>
              <a:t>(план работ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101080" y="5805360"/>
            <a:ext cx="682560" cy="50328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89" h="21600">
                <a:moveTo>
                  <a:pt x="0" y="0"/>
                </a:moveTo>
                <a:lnTo>
                  <a:pt x="29289" y="0"/>
                </a:lnTo>
                <a:lnTo>
                  <a:pt x="29289" y="21600"/>
                </a:lnTo>
                <a:lnTo>
                  <a:pt x="0" y="21600"/>
                </a:lnTo>
                <a:close/>
              </a:path>
              <a:path fill="lightenLess" w="29289" h="21600">
                <a:moveTo>
                  <a:pt x="0" y="0"/>
                </a:moveTo>
                <a:lnTo>
                  <a:pt x="29289" y="0"/>
                </a:lnTo>
                <a:lnTo>
                  <a:pt x="27889" y="1400"/>
                </a:lnTo>
                <a:lnTo>
                  <a:pt x="1400" y="1400"/>
                </a:lnTo>
                <a:close/>
              </a:path>
              <a:path fill="darken" w="29289" h="21600">
                <a:moveTo>
                  <a:pt x="29289" y="0"/>
                </a:moveTo>
                <a:lnTo>
                  <a:pt x="29289" y="21600"/>
                </a:lnTo>
                <a:lnTo>
                  <a:pt x="27889" y="20200"/>
                </a:lnTo>
                <a:lnTo>
                  <a:pt x="27889" y="1400"/>
                </a:lnTo>
                <a:close/>
              </a:path>
              <a:path fill="darkenLess" w="29289" h="21600">
                <a:moveTo>
                  <a:pt x="2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89" y="20200"/>
                </a:lnTo>
                <a:close/>
              </a:path>
              <a:path fill="lighten" w="2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89" h="21600">
                <a:moveTo>
                  <a:pt x="7638" y="10800"/>
                </a:moveTo>
                <a:lnTo>
                  <a:pt x="21651" y="3794"/>
                </a:lnTo>
                <a:lnTo>
                  <a:pt x="21651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38DEA2-2CF5-4507-9D44-50E19178AD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765000"/>
            <a:ext cx="7848720" cy="57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unga"/>
              </a:rPr>
              <a:t>Информационный лист</a:t>
            </a:r>
            <a:r>
              <a:rPr b="1" lang="ru-RU" sz="3200" spc="-1" strike="noStrike">
                <a:solidFill>
                  <a:srgbClr val="5c2305"/>
                </a:solidFill>
                <a:latin typeface="Tu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unga"/>
              </a:rPr>
              <a:t>З</a:t>
            </a:r>
            <a:r>
              <a:rPr b="1" lang="ru-RU" sz="3200" spc="-1" strike="noStrike">
                <a:solidFill>
                  <a:srgbClr val="5c2305"/>
                </a:solidFill>
                <a:latin typeface="Tunga"/>
              </a:rPr>
              <a:t> — известная информация (то, что дети знают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Н</a:t>
            </a:r>
            <a:r>
              <a:rPr b="1" lang="ru-RU" sz="3200" spc="-1" strike="noStrike">
                <a:solidFill>
                  <a:srgbClr val="5c2305"/>
                </a:solidFill>
                <a:latin typeface="Tunga"/>
              </a:rPr>
              <a:t> — новая информация (то, что не знал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П</a:t>
            </a:r>
            <a:r>
              <a:rPr b="1" lang="ru-RU" sz="3200" spc="-1" strike="noStrike">
                <a:solidFill>
                  <a:srgbClr val="5c2305"/>
                </a:solidFill>
                <a:latin typeface="Tunga"/>
              </a:rPr>
              <a:t> — информация, противоречащая представлениям де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Х</a:t>
            </a:r>
            <a:r>
              <a:rPr b="1" lang="ru-RU" sz="3200" spc="-1" strike="noStrike">
                <a:solidFill>
                  <a:srgbClr val="5c2305"/>
                </a:solidFill>
                <a:latin typeface="Tunga"/>
              </a:rPr>
              <a:t> — информация, которую ребёнок хочет получи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956720" y="5805360"/>
            <a:ext cx="825480" cy="538200"/>
          </a:xfrm>
          <a:custGeom>
            <a:avLst/>
            <a:gdLst>
              <a:gd name="textAreaLeft" fmla="*/ 34560 w 825480"/>
              <a:gd name="textAreaRight" fmla="*/ 790920 w 825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3122" h="21600">
                <a:moveTo>
                  <a:pt x="0" y="0"/>
                </a:moveTo>
                <a:lnTo>
                  <a:pt x="33122" y="0"/>
                </a:lnTo>
                <a:lnTo>
                  <a:pt x="33122" y="21600"/>
                </a:lnTo>
                <a:lnTo>
                  <a:pt x="0" y="21600"/>
                </a:lnTo>
                <a:close/>
              </a:path>
              <a:path fill="lightenLess" w="33122" h="21600">
                <a:moveTo>
                  <a:pt x="0" y="0"/>
                </a:moveTo>
                <a:lnTo>
                  <a:pt x="33122" y="0"/>
                </a:lnTo>
                <a:lnTo>
                  <a:pt x="31722" y="1400"/>
                </a:lnTo>
                <a:lnTo>
                  <a:pt x="1400" y="1400"/>
                </a:lnTo>
                <a:close/>
              </a:path>
              <a:path fill="darken" w="33122" h="21600">
                <a:moveTo>
                  <a:pt x="33122" y="0"/>
                </a:moveTo>
                <a:lnTo>
                  <a:pt x="33122" y="21600"/>
                </a:lnTo>
                <a:lnTo>
                  <a:pt x="31722" y="20200"/>
                </a:lnTo>
                <a:lnTo>
                  <a:pt x="31722" y="1400"/>
                </a:lnTo>
                <a:close/>
              </a:path>
              <a:path fill="darkenLess" w="33122" h="21600">
                <a:moveTo>
                  <a:pt x="33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22" y="20200"/>
                </a:lnTo>
                <a:close/>
              </a:path>
              <a:path fill="lighten" w="33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22" h="21600">
                <a:moveTo>
                  <a:pt x="9554" y="10800"/>
                </a:moveTo>
                <a:lnTo>
                  <a:pt x="23567" y="3794"/>
                </a:lnTo>
                <a:lnTo>
                  <a:pt x="2356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90C29B-D9E8-4BAE-B03B-43D35E4C7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904000"/>
          </a:xfrm>
          <a:prstGeom prst="rect">
            <a:avLst/>
          </a:prstGeom>
          <a:ln w="114480">
            <a:solidFill>
              <a:srgbClr val="009900"/>
            </a:solidFill>
            <a:miter/>
          </a:ln>
        </p:spPr>
      </p:pic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8028000" y="5734080"/>
            <a:ext cx="826920" cy="538200"/>
          </a:xfrm>
          <a:custGeom>
            <a:avLst/>
            <a:gdLst>
              <a:gd name="textAreaLeft" fmla="*/ 34560 w 826920"/>
              <a:gd name="textAreaRight" fmla="*/ 792360 w 826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3180" h="21600">
                <a:moveTo>
                  <a:pt x="0" y="0"/>
                </a:moveTo>
                <a:lnTo>
                  <a:pt x="33180" y="0"/>
                </a:lnTo>
                <a:lnTo>
                  <a:pt x="33180" y="21600"/>
                </a:lnTo>
                <a:lnTo>
                  <a:pt x="0" y="21600"/>
                </a:lnTo>
                <a:close/>
              </a:path>
              <a:path fill="lightenLess" w="33180" h="21600">
                <a:moveTo>
                  <a:pt x="0" y="0"/>
                </a:moveTo>
                <a:lnTo>
                  <a:pt x="33180" y="0"/>
                </a:lnTo>
                <a:lnTo>
                  <a:pt x="31780" y="1400"/>
                </a:lnTo>
                <a:lnTo>
                  <a:pt x="1400" y="1400"/>
                </a:lnTo>
                <a:close/>
              </a:path>
              <a:path fill="darken" w="33180" h="21600">
                <a:moveTo>
                  <a:pt x="33180" y="0"/>
                </a:moveTo>
                <a:lnTo>
                  <a:pt x="33180" y="21600"/>
                </a:lnTo>
                <a:lnTo>
                  <a:pt x="31780" y="20200"/>
                </a:lnTo>
                <a:lnTo>
                  <a:pt x="31780" y="1400"/>
                </a:lnTo>
                <a:close/>
              </a:path>
              <a:path fill="darkenLess" w="33180" h="21600">
                <a:moveTo>
                  <a:pt x="3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80" y="20200"/>
                </a:lnTo>
                <a:close/>
              </a:path>
              <a:path fill="lighten" w="3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80" h="21600">
                <a:moveTo>
                  <a:pt x="9583" y="10800"/>
                </a:moveTo>
                <a:lnTo>
                  <a:pt x="23596" y="3794"/>
                </a:lnTo>
                <a:lnTo>
                  <a:pt x="2359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D71C0-289E-4AE2-A671-A3E7D2D4E6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836640"/>
            <a:ext cx="77774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Факультативный кур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 Black"/>
                <a:hlinkClick r:id="rId2" action="ppaction://hlinksldjump"/>
              </a:rPr>
              <a:t>«История русского языка: от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 Black"/>
                <a:hlinkClick r:id="rId3" action="ppaction://hlinksldjump"/>
              </a:rPr>
              <a:t>Рюрика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 Black"/>
                <a:hlinkClick r:id="rId4" action="ppaction://hlinksldjump"/>
              </a:rPr>
              <a:t> до наших дне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 Black"/>
              </a:rPr>
              <a:t>«Исторический комментар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 Black"/>
              </a:rPr>
              <a:t>к школьному курсу русского язы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Предметные круж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 Black"/>
              </a:rPr>
              <a:t>«Лингвистические парадокс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 Black"/>
                <a:hlinkClick r:id="rId5" action="ppaction://hlinksldjump"/>
              </a:rPr>
              <a:t>«Тайны родного язы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 Black"/>
                <a:hlinkClick r:id="rId6" action="ppaction://hlinksldjump"/>
              </a:rPr>
              <a:t>Школьные олимпиа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8684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Arial Black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7956720" y="573408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10800"/>
                </a:moveTo>
                <a:lnTo>
                  <a:pt x="21891" y="3794"/>
                </a:lnTo>
                <a:lnTo>
                  <a:pt x="2189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28000" y="549360"/>
            <a:ext cx="754200" cy="576000"/>
          </a:xfrm>
          <a:custGeom>
            <a:avLst/>
            <a:gdLst>
              <a:gd name="textAreaLeft" fmla="*/ 37080 w 754200"/>
              <a:gd name="textAreaRight" fmla="*/ 717120 w 7542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40A731-6CA8-41F9-9530-D86BE230ED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9640" y="692280"/>
            <a:ext cx="82090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c2305"/>
                </a:solidFill>
                <a:latin typeface="Tunga"/>
              </a:rPr>
              <a:t>   </a:t>
            </a:r>
            <a:r>
              <a:rPr b="1" lang="ru-RU" sz="2400" spc="-1" strike="noStrike">
                <a:solidFill>
                  <a:srgbClr val="ff6600"/>
                </a:solidFill>
                <a:latin typeface="Tunga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c2305"/>
                </a:solidFill>
                <a:latin typeface="Tunga"/>
              </a:rPr>
              <a:t>Левый приток Днепра предположительно получил название Десна в </a:t>
            </a:r>
            <a:r>
              <a:rPr b="1" lang="ru-RU" sz="1600" spc="-1" strike="noStrike">
                <a:solidFill>
                  <a:srgbClr val="5c2305"/>
                </a:solidFill>
                <a:latin typeface="Times New Roman"/>
                <a:ea typeface="Times New Roman"/>
              </a:rPr>
              <a:t>ІІ - ІІІ </a:t>
            </a:r>
            <a:r>
              <a:rPr b="1" lang="ru-RU" sz="1600" spc="-1" strike="noStrike">
                <a:solidFill>
                  <a:srgbClr val="5c2305"/>
                </a:solidFill>
                <a:latin typeface="Tunga"/>
              </a:rPr>
              <a:t>вв., когда славянские племена переселялись по Днепру на север. По мнению учёных, это название связано с тем, что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c2305"/>
                </a:solidFill>
                <a:latin typeface="Tunga"/>
              </a:rPr>
              <a:t>(А) Десна находится слева от Днепра, если стоять лицом к северу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c2305"/>
                </a:solidFill>
                <a:latin typeface="Tunga"/>
              </a:rPr>
              <a:t>(Б) Десна находится справа от Днепра, если стоять лицом к северу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c2305"/>
                </a:solidFill>
                <a:latin typeface="Tunga"/>
              </a:rPr>
              <a:t>(В) место слияния Десны и Днепра напоминает очертаниями зуб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c2305"/>
                </a:solidFill>
                <a:latin typeface="Tunga"/>
              </a:rPr>
              <a:t>(Г) Десна была десятой по счету рекой, которая встретилась переселенцам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c2305"/>
                </a:solidFill>
                <a:latin typeface="Tunga"/>
              </a:rPr>
              <a:t>(Д) это сокращение фразы: Днепр есть с нами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Tunga"/>
              </a:rPr>
              <a:t>	</a:t>
            </a:r>
            <a:r>
              <a:rPr b="1" i="1" lang="ru-RU" sz="2800" spc="-1" strike="noStrike">
                <a:solidFill>
                  <a:srgbClr val="5c2305"/>
                </a:solidFill>
                <a:latin typeface="Tunga"/>
              </a:rPr>
              <a:t>        </a:t>
            </a:r>
            <a:r>
              <a:rPr b="1" i="1" lang="ru-RU" sz="2800" spc="-1" strike="noStrike">
                <a:solidFill>
                  <a:srgbClr val="5c2305"/>
                </a:solidFill>
                <a:latin typeface="Tunga"/>
              </a:rPr>
              <a:t>Обоснуйте свой отв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3645000"/>
            <a:ext cx="756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unga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Tunga"/>
              </a:rPr>
              <a:t>Только одно из этих слов</a:t>
            </a:r>
            <a:r>
              <a:rPr b="1" i="1" lang="ru-RU" sz="2000" spc="-1" strike="noStrike">
                <a:solidFill>
                  <a:srgbClr val="5c2305"/>
                </a:solidFill>
                <a:latin typeface="Tunga"/>
              </a:rPr>
              <a:t> образовано от славянского слова око, имеющее значение «глаз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unga"/>
              </a:rPr>
              <a:t>окно, околица, окинуть, океан, окул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Tunga"/>
              </a:rPr>
              <a:t>Какое? Свой ответ аргументиру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028000" y="5734080"/>
            <a:ext cx="754200" cy="539640"/>
          </a:xfrm>
          <a:custGeom>
            <a:avLst/>
            <a:gdLst>
              <a:gd name="textAreaLeft" fmla="*/ 34920 w 754200"/>
              <a:gd name="textAreaRight" fmla="*/ 719280 w 7542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0182" h="21600">
                <a:moveTo>
                  <a:pt x="0" y="0"/>
                </a:moveTo>
                <a:lnTo>
                  <a:pt x="30182" y="0"/>
                </a:lnTo>
                <a:lnTo>
                  <a:pt x="30182" y="21600"/>
                </a:lnTo>
                <a:lnTo>
                  <a:pt x="0" y="21600"/>
                </a:lnTo>
                <a:close/>
              </a:path>
              <a:path fill="lightenLess" w="30182" h="21600">
                <a:moveTo>
                  <a:pt x="0" y="0"/>
                </a:moveTo>
                <a:lnTo>
                  <a:pt x="30182" y="0"/>
                </a:lnTo>
                <a:lnTo>
                  <a:pt x="28782" y="1400"/>
                </a:lnTo>
                <a:lnTo>
                  <a:pt x="1400" y="1400"/>
                </a:lnTo>
                <a:close/>
              </a:path>
              <a:path fill="darken" w="30182" h="21600">
                <a:moveTo>
                  <a:pt x="30182" y="0"/>
                </a:moveTo>
                <a:lnTo>
                  <a:pt x="30182" y="21600"/>
                </a:lnTo>
                <a:lnTo>
                  <a:pt x="28782" y="20200"/>
                </a:lnTo>
                <a:lnTo>
                  <a:pt x="28782" y="1400"/>
                </a:lnTo>
                <a:close/>
              </a:path>
              <a:path fill="darkenLess" w="30182" h="21600">
                <a:moveTo>
                  <a:pt x="30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2" y="20200"/>
                </a:lnTo>
                <a:close/>
              </a:path>
              <a:path fill="lighten" w="30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2" h="21600">
                <a:moveTo>
                  <a:pt x="8085" y="10800"/>
                </a:moveTo>
                <a:lnTo>
                  <a:pt x="22098" y="3794"/>
                </a:lnTo>
                <a:lnTo>
                  <a:pt x="22098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1A2B69-E351-49E9-ABFF-CFD148E76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19640" y="2276640"/>
            <a:ext cx="2663640" cy="22320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64000" y="2924280"/>
            <a:ext cx="223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читаем </a:t>
            </a:r>
            <a:endParaRPr b="1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асти речи?</a:t>
            </a:r>
            <a:endParaRPr b="1" lang="en-US" sz="1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 rot="19887000">
            <a:off x="5076720" y="1125000"/>
            <a:ext cx="3024360" cy="1800360"/>
          </a:xfrm>
          <a:prstGeom prst="ellipse">
            <a:avLst/>
          </a:prstGeom>
          <a:gradFill rotWithShape="0">
            <a:gsLst>
              <a:gs pos="0">
                <a:srgbClr val="6edbe0"/>
              </a:gs>
              <a:gs pos="100000">
                <a:srgbClr val="0099cc"/>
              </a:gs>
            </a:gsLst>
            <a:lin ang="15216000"/>
          </a:gra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cc"/>
                </a:solidFill>
                <a:latin typeface="Arial"/>
              </a:rPr>
              <a:t>Седьмой паде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454800">
            <a:off x="5795640" y="2637000"/>
            <a:ext cx="3024000" cy="1800000"/>
          </a:xfrm>
          <a:prstGeom prst="ellipse">
            <a:avLst/>
          </a:prstGeom>
          <a:gradFill rotWithShape="0">
            <a:gsLst>
              <a:gs pos="0">
                <a:srgbClr val="f0c906"/>
              </a:gs>
              <a:gs pos="50000">
                <a:srgbClr val="0099cc"/>
              </a:gs>
              <a:gs pos="100000">
                <a:srgbClr val="f0c906"/>
              </a:gs>
            </a:gsLst>
            <a:lin ang="8244000"/>
          </a:gradFill>
          <a:ln w="114480">
            <a:solidFill>
              <a:srgbClr val="f0c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9696"/>
                </a:solidFill>
                <a:latin typeface="Arial"/>
              </a:rPr>
              <a:t>О глаголе б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69696"/>
                </a:solidFill>
                <a:latin typeface="Arial"/>
              </a:rPr>
              <a:t>и его потом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38400">
            <a:off x="5076360" y="4076640"/>
            <a:ext cx="3024360" cy="1800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0099cc"/>
              </a:gs>
              <a:gs pos="100000">
                <a:srgbClr val="ff9900"/>
              </a:gs>
            </a:gsLst>
            <a:lin ang="6264000"/>
          </a:gradFill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еопредел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Формы глаг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8624600">
            <a:off x="3960000" y="368640"/>
            <a:ext cx="3024360" cy="180036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0099cc"/>
              </a:gs>
            </a:gsLst>
            <a:lin ang="11076000"/>
          </a:gradFill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ывае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красное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чернило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3674400">
            <a:off x="3888720" y="4617000"/>
            <a:ext cx="3024000" cy="1800000"/>
          </a:xfrm>
          <a:prstGeom prst="ellipse">
            <a:avLst/>
          </a:prstGeom>
          <a:gradFill rotWithShape="0">
            <a:gsLst>
              <a:gs pos="0">
                <a:srgbClr val="5d55f9"/>
              </a:gs>
              <a:gs pos="100000">
                <a:srgbClr val="0099cc"/>
              </a:gs>
            </a:gsLst>
            <a:lin ang="4428000"/>
          </a:gradFill>
          <a:ln w="114480">
            <a:solidFill>
              <a:srgbClr val="5d5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</a:rPr>
              <a:t>Родственники 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</a:rPr>
              <a:t>местоимение себя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</a:rPr>
              <a:t>суффикс _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8717000">
            <a:off x="1799280" y="4185000"/>
            <a:ext cx="3024360" cy="1800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ff00"/>
              </a:gs>
            </a:gsLst>
            <a:lin ang="16386000"/>
          </a:gradFill>
          <a:ln w="114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Странное сло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сор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887000">
            <a:off x="611280" y="3499920"/>
            <a:ext cx="3024000" cy="1800360"/>
          </a:xfrm>
          <a:prstGeom prst="ellipse">
            <a:avLst/>
          </a:prstGeom>
          <a:gradFill rotWithShape="0">
            <a:gsLst>
              <a:gs pos="0">
                <a:srgbClr val="d876c5"/>
              </a:gs>
              <a:gs pos="50000">
                <a:srgbClr val="0099cc"/>
              </a:gs>
              <a:gs pos="100000">
                <a:srgbClr val="d876c5"/>
              </a:gs>
            </a:gsLst>
            <a:lin ang="15216000"/>
          </a:gradFill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99"/>
                </a:solidFill>
                <a:latin typeface="Arial"/>
              </a:rPr>
              <a:t>Полтораста = пол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99"/>
                </a:solidFill>
                <a:latin typeface="Arial"/>
              </a:rPr>
              <a:t>втор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989000"/>
            <a:ext cx="3024000" cy="1800360"/>
          </a:xfrm>
          <a:prstGeom prst="ellipse">
            <a:avLst/>
          </a:prstGeom>
          <a:gradFill rotWithShape="0">
            <a:gsLst>
              <a:gs pos="0">
                <a:srgbClr val="990099"/>
              </a:gs>
              <a:gs pos="50000">
                <a:srgbClr val="0099cc"/>
              </a:gs>
              <a:gs pos="100000">
                <a:srgbClr val="990099"/>
              </a:gs>
            </a:gsLst>
            <a:lin ang="13500000"/>
          </a:gradFill>
          <a:ln w="1144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Из прошл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крат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прилага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3043800">
            <a:off x="1727640" y="612000"/>
            <a:ext cx="3024360" cy="18003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50000">
                <a:srgbClr val="0099cc"/>
              </a:gs>
              <a:gs pos="100000">
                <a:srgbClr val="ccff33"/>
              </a:gs>
            </a:gsLst>
            <a:lin ang="5058000"/>
          </a:gradFill>
          <a:ln w="11448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Тай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грамматического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0EAF9-0B30-444B-A621-BA0A1A5CE9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38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385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38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38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38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385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38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38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000"/>
                            </p:stCondLst>
                            <p:childTnLst>
                              <p:par>
                                <p:cTn id="5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000"/>
                            </p:stCondLst>
                            <p:childTnLst>
                              <p:par>
                                <p:cTn id="5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9000"/>
                            </p:stCondLst>
                            <p:childTnLst>
                              <p:par>
                                <p:cTn id="5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836640"/>
            <a:ext cx="77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Компетентностный подхо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в образов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unga"/>
              </a:rPr>
              <a:t>способствует созданию психолого-педагогических условий для личностных достижений учащих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653000"/>
            <a:ext cx="496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«Концепция модернизации российского образования на период до 2010 г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C16A15-12C2-46CE-96AE-58D6EBE65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1557360"/>
            <a:ext cx="79930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unga"/>
              </a:rPr>
              <a:t>лич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способная к анализу существующей ситу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активно участвующая в социокультурной дея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2800" spc="-1" strike="noStrike">
                <a:solidFill>
                  <a:srgbClr val="5c2305"/>
                </a:solidFill>
                <a:latin typeface="Tunga"/>
              </a:rPr>
              <a:t>самостоятельно и ответственно принимающая решение в постоянно меняющихся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71604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unga"/>
              </a:rPr>
              <a:t>Социально-личностный заказ общ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unga"/>
              </a:rPr>
              <a:t>на выпускника средней школы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1D997F-B032-4F02-869F-1A03DE6CF41F}" type="datetime1">
              <a:rPr lang="en-US"/>
              <a:t>07/30/26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549360"/>
            <a:ext cx="7921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2305"/>
                </a:solidFill>
                <a:latin typeface="Tunga"/>
              </a:rPr>
              <a:t> </a:t>
            </a:r>
            <a:r>
              <a:rPr b="1" lang="ru-RU" sz="4000" spc="-1" strike="noStrike">
                <a:solidFill>
                  <a:srgbClr val="cc6600"/>
                </a:solidFill>
                <a:latin typeface="Tunga"/>
              </a:rPr>
              <a:t>Развитие личности через язык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2112" t="0" r="0" b="29269"/>
          <a:stretch/>
        </p:blipFill>
        <p:spPr>
          <a:xfrm>
            <a:off x="1403280" y="1557360"/>
            <a:ext cx="6696000" cy="374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Tunga"/>
              </a:rPr>
              <a:t>  </a:t>
            </a:r>
            <a:r>
              <a:rPr b="1" lang="ru-RU" sz="2400" spc="-1" strike="noStrike">
                <a:solidFill>
                  <a:srgbClr val="cc6600"/>
                </a:solidFill>
                <a:latin typeface="Tunga"/>
              </a:rPr>
              <a:t>актуальная проблема в преподавании русского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D14483-A09E-44AA-B905-6897E8DC50E2}" type="datetime1">
              <a:rPr lang="en-US"/>
              <a:t>07/30/26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3213000"/>
            <a:ext cx="8351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46f2c"/>
                </a:solidFill>
                <a:latin typeface="Tunga"/>
              </a:rPr>
              <a:t>«Предмет предметов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2305"/>
                </a:solidFill>
                <a:latin typeface="Tung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360" y="1413000"/>
            <a:ext cx="1655640" cy="1079280"/>
          </a:xfrm>
          <a:prstGeom prst="line">
            <a:avLst/>
          </a:prstGeom>
          <a:ln cap="sq" w="76320">
            <a:solidFill>
              <a:srgbClr val="f46f2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1413000"/>
            <a:ext cx="1584360" cy="1008000"/>
          </a:xfrm>
          <a:prstGeom prst="line">
            <a:avLst/>
          </a:prstGeom>
          <a:ln cap="sq" w="76320">
            <a:solidFill>
              <a:srgbClr val="f46f2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637000"/>
            <a:ext cx="21589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unga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unga"/>
              </a:rPr>
              <a:t>Объект</a:t>
            </a:r>
            <a:r>
              <a:rPr b="1" lang="ru-RU" sz="4400" spc="-1" strike="noStrike">
                <a:solidFill>
                  <a:srgbClr val="993300"/>
                </a:solidFill>
                <a:latin typeface="Tung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unga"/>
              </a:rPr>
              <a:t>из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2232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unga"/>
              </a:rPr>
              <a:t>Сред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unga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Tunga"/>
              </a:rPr>
              <a:t>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024000" cy="35276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11280" y="458136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unga"/>
              </a:rPr>
              <a:t>Ф.И.Бусла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765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Tunga"/>
              </a:rPr>
              <a:t>Русский язы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45501-8B3C-4A1D-9ECA-E7C726A27F94}" type="datetime1">
              <a:rPr lang="en-US"/>
              <a:t>07/30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8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38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2421000"/>
            <a:ext cx="79218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Tunga"/>
                <a:hlinkClick r:id="rId2" action="ppaction://hlinksldjump"/>
              </a:rPr>
              <a:t>лингвист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Tunga"/>
                <a:hlinkClick r:id="rId3" action="ppaction://hlinksldjump"/>
              </a:rPr>
              <a:t>языков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Tunga"/>
                <a:hlinkClick r:id="rId4" action="ppaction://hlinksldjump"/>
              </a:rPr>
              <a:t>коммуникативн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Tunga"/>
                <a:hlinkClick r:id="rId5" action="ppaction://hlinksldjump"/>
              </a:rPr>
              <a:t>культуролог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Tunga"/>
                <a:hlinkClick r:id="rId6" action="ppaction://hlinksldjump"/>
              </a:rPr>
              <a:t>информацион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67644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unga"/>
              </a:rPr>
              <a:t>Компетенции предмет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unga"/>
              </a:rPr>
              <a:t>«русский язык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lastslide"/>
          </p:cNvPr>
          <p:cNvSpPr/>
          <p:nvPr/>
        </p:nvSpPr>
        <p:spPr>
          <a:xfrm>
            <a:off x="7956720" y="573408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CB21A9-3032-4A68-A328-862CCAFE5DEC}" type="datetime1">
              <a:rPr lang="en-US"/>
              <a:t>07/30/26</a:t>
            </a:fld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659040" y="1754280"/>
            <a:ext cx="548496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13000"/>
            <a:ext cx="799128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unga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сведения о лингвисти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как на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сведения  о выдающих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уче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u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unga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unga"/>
              </a:rPr>
              <a:t>сравнение системного устройства русского языка с другими язы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765000"/>
            <a:ext cx="79484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Tunga"/>
                <a:hlinkClick r:id="rId2" action="ppaction://hlinksldjump"/>
              </a:rPr>
              <a:t>Лингвистическая</a:t>
            </a:r>
            <a:r>
              <a:rPr b="1" lang="ru-RU" sz="4000" spc="-1" strike="noStrike">
                <a:solidFill>
                  <a:srgbClr val="cc6600"/>
                </a:solidFill>
                <a:latin typeface="Tunga"/>
              </a:rPr>
              <a:t> компетен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028000" y="5734080"/>
            <a:ext cx="754200" cy="609480"/>
          </a:xfrm>
          <a:custGeom>
            <a:avLst/>
            <a:gdLst>
              <a:gd name="textAreaLeft" fmla="*/ 39240 w 754200"/>
              <a:gd name="textAreaRight" fmla="*/ 714960 w 754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726" h="21600">
                <a:moveTo>
                  <a:pt x="0" y="0"/>
                </a:moveTo>
                <a:lnTo>
                  <a:pt x="26726" y="0"/>
                </a:lnTo>
                <a:lnTo>
                  <a:pt x="26726" y="21600"/>
                </a:lnTo>
                <a:lnTo>
                  <a:pt x="0" y="21600"/>
                </a:lnTo>
                <a:close/>
              </a:path>
              <a:path fill="lightenLess" w="26726" h="21600">
                <a:moveTo>
                  <a:pt x="0" y="0"/>
                </a:moveTo>
                <a:lnTo>
                  <a:pt x="26726" y="0"/>
                </a:lnTo>
                <a:lnTo>
                  <a:pt x="25326" y="1400"/>
                </a:lnTo>
                <a:lnTo>
                  <a:pt x="1400" y="1400"/>
                </a:lnTo>
                <a:close/>
              </a:path>
              <a:path fill="darken" w="26726" h="21600">
                <a:moveTo>
                  <a:pt x="26726" y="0"/>
                </a:moveTo>
                <a:lnTo>
                  <a:pt x="26726" y="21600"/>
                </a:lnTo>
                <a:lnTo>
                  <a:pt x="25326" y="20200"/>
                </a:lnTo>
                <a:lnTo>
                  <a:pt x="25326" y="1400"/>
                </a:lnTo>
                <a:close/>
              </a:path>
              <a:path fill="darkenLess" w="26726" h="21600">
                <a:moveTo>
                  <a:pt x="26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26" y="20200"/>
                </a:lnTo>
                <a:close/>
              </a:path>
              <a:path fill="lighten" w="26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26" h="21600">
                <a:moveTo>
                  <a:pt x="6356" y="10800"/>
                </a:moveTo>
                <a:lnTo>
                  <a:pt x="20369" y="3794"/>
                </a:lnTo>
                <a:lnTo>
                  <a:pt x="2036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6655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11638" t="0" r="7708" b="13755"/>
          <a:stretch/>
        </p:blipFill>
        <p:spPr>
          <a:xfrm>
            <a:off x="1835280" y="3213000"/>
            <a:ext cx="984240" cy="107172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543480" y="3521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059280" y="3213000"/>
            <a:ext cx="936360" cy="107964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211640" y="3213000"/>
            <a:ext cx="1046160" cy="107784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11280" y="3213000"/>
            <a:ext cx="1008000" cy="108108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788000" y="501336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88 из 176">
            <a:hlinkClick r:id="rId8"/>
          </p:cNvPr>
          <p:cNvPicPr/>
          <p:nvPr/>
        </p:nvPicPr>
        <p:blipFill>
          <a:blip r:embed="rId9"/>
          <a:srcRect l="0" t="0" r="0" b="57145"/>
          <a:stretch/>
        </p:blipFill>
        <p:spPr>
          <a:xfrm>
            <a:off x="5508720" y="1484280"/>
            <a:ext cx="2881080" cy="280836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826920" y="5300640"/>
            <a:ext cx="3745080" cy="704880"/>
          </a:xfrm>
          <a:prstGeom prst="rect">
            <a:avLst/>
          </a:prstGeom>
          <a:ln w="76320">
            <a:solidFill>
              <a:srgbClr val="3399ff"/>
            </a:solidFill>
            <a:miter/>
          </a:ln>
        </p:spPr>
      </p:pic>
      <p:sp>
        <p:nvSpPr>
          <p:cNvPr id="115" name="">
            <a:hlinkClick r:id="rId11" action="ppaction://hlinksldjump"/>
          </p:cNvPr>
          <p:cNvSpPr/>
          <p:nvPr/>
        </p:nvSpPr>
        <p:spPr>
          <a:xfrm>
            <a:off x="8101080" y="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3794"/>
                </a:moveTo>
                <a:lnTo>
                  <a:pt x="27503" y="10800"/>
                </a:lnTo>
                <a:lnTo>
                  <a:pt x="13490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D30439-9D93-4226-99E0-E38CB8A3BB18}" type="datetime1">
              <a:rPr lang="en-US"/>
              <a:t>07/30/26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4365720"/>
            <a:ext cx="813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unga"/>
              </a:rPr>
              <a:t>Знание устройства языка, его единиц и их функционирования в устной и письменной речи, их роль в построении высказывания для разнообразных коммуникативных ситу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unga"/>
              </a:rPr>
              <a:t>Языковая компетен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01080" y="580536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0400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DAA0B-64A2-4DDB-B34A-C6FB04EF84F5}" type="datetime1">
              <a:rPr lang="en-US"/>
              <a:t>07/30/26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134136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unga"/>
              </a:rPr>
              <a:t>овладение всеми видами речевой деятельности, учение осмыслить составляющие речевой ситуации, овладение особенностями стилей и типов речи, освоение принципов создания текстов различных  жан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820800"/>
            <a:ext cx="802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unga"/>
              </a:rPr>
              <a:t>Коммуникативная компетен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028000" y="566100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10800"/>
                </a:moveTo>
                <a:lnTo>
                  <a:pt x="18962" y="3794"/>
                </a:lnTo>
                <a:lnTo>
                  <a:pt x="189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rcRect l="0" t="15003" r="20867" b="31070"/>
          <a:stretch/>
        </p:blipFill>
        <p:spPr>
          <a:xfrm>
            <a:off x="2411280" y="4292640"/>
            <a:ext cx="417672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54F0E4-E991-4048-AF80-21F857FDF4D5}" type="datetime1">
              <a:rPr lang="en-US"/>
              <a:t>07/30/26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268280"/>
            <a:ext cx="47516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unga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Tunga"/>
              </a:rPr>
              <a:t>Формирование представлений о языке как о культурно-национальном феномене, отражающем  духовно-нравственный опыт народа, эстетической функции родной речи, познание языковой культуры через диалог куль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41520"/>
            <a:ext cx="78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unga"/>
              </a:rPr>
              <a:t>Культурологическая компетен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097080" cy="4896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101080" y="5877000"/>
            <a:ext cx="684000" cy="476280"/>
          </a:xfrm>
          <a:custGeom>
            <a:avLst/>
            <a:gdLst>
              <a:gd name="textAreaLeft" fmla="*/ 30600 w 684000"/>
              <a:gd name="textAreaRight" fmla="*/ 653400 w 684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13" h="21600">
                <a:moveTo>
                  <a:pt x="0" y="0"/>
                </a:moveTo>
                <a:lnTo>
                  <a:pt x="31013" y="0"/>
                </a:lnTo>
                <a:lnTo>
                  <a:pt x="31013" y="21600"/>
                </a:lnTo>
                <a:lnTo>
                  <a:pt x="0" y="21600"/>
                </a:lnTo>
                <a:close/>
              </a:path>
              <a:path fill="lightenLess" w="31013" h="21600">
                <a:moveTo>
                  <a:pt x="0" y="0"/>
                </a:moveTo>
                <a:lnTo>
                  <a:pt x="31013" y="0"/>
                </a:lnTo>
                <a:lnTo>
                  <a:pt x="29613" y="1400"/>
                </a:lnTo>
                <a:lnTo>
                  <a:pt x="1400" y="1400"/>
                </a:lnTo>
                <a:close/>
              </a:path>
              <a:path fill="darken" w="31013" h="21600">
                <a:moveTo>
                  <a:pt x="31013" y="0"/>
                </a:moveTo>
                <a:lnTo>
                  <a:pt x="31013" y="21600"/>
                </a:lnTo>
                <a:lnTo>
                  <a:pt x="29613" y="20200"/>
                </a:lnTo>
                <a:lnTo>
                  <a:pt x="29613" y="1400"/>
                </a:lnTo>
                <a:close/>
              </a:path>
              <a:path fill="darkenLess" w="31013" h="21600">
                <a:moveTo>
                  <a:pt x="31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13" y="20200"/>
                </a:lnTo>
                <a:close/>
              </a:path>
              <a:path fill="lighten" w="31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13" h="21600">
                <a:moveTo>
                  <a:pt x="8500" y="10800"/>
                </a:moveTo>
                <a:lnTo>
                  <a:pt x="22513" y="3794"/>
                </a:lnTo>
                <a:lnTo>
                  <a:pt x="2251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508640"/>
            <a:ext cx="47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2305"/>
                </a:solidFill>
                <a:latin typeface="Tunga"/>
              </a:rPr>
              <a:t>( </a:t>
            </a:r>
            <a:r>
              <a:rPr b="1" lang="ru-RU" sz="2400" spc="-1" strike="noStrike">
                <a:solidFill>
                  <a:srgbClr val="ff6600"/>
                </a:solidFill>
                <a:latin typeface="Tunga"/>
              </a:rPr>
              <a:t>Модульная программа – ориенти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unga"/>
              </a:rPr>
              <a:t>для 5-11-х класс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unga"/>
              </a:rPr>
              <a:t>составленная в ВИПК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781C11-C57B-46C9-978D-20CB2568787D}" type="datetime1">
              <a:rPr lang="en-US"/>
              <a:t>07/30/26</a:t>
            </a:fld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5:19:16Z</dcterms:created>
  <dc:creator>Пользователь</dc:creator>
  <dc:description/>
  <cp:keywords/>
  <dc:language>en-US</dc:language>
  <cp:lastModifiedBy>Валентина Николаевна</cp:lastModifiedBy>
  <cp:lastPrinted>1996-03-19T21:02:48Z</cp:lastPrinted>
  <dcterms:modified xsi:type="dcterms:W3CDTF">2012-11-13T18:07:55Z</dcterms:modified>
  <cp:revision>39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