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622-85C0-4E88-ABFA-F2B7C9E6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C78-EC8E-4C96-8D1F-4D52B50F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246-C39F-4378-AF2D-D4A0B2B6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D2E-E344-4B90-B476-C44A27CD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3B13-2C6B-434F-AEAD-12948C13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9B62-3CBD-4537-A5C6-2BDE39EA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69B-8E7B-4B04-8F22-1B37B32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BE93-BDCC-4FBA-B2BF-A062D6D7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CE3-E1BB-48D1-B57D-3A70870C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F678-4DAC-45D1-9381-2F3F281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CBA-25DC-41E1-B6D2-D2C2632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2D4-27F5-4AF8-A4C3-18444BC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D75-9E7E-4623-B92D-0ADE050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997-7AE4-4A58-8868-E9CF4DF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9E90-6EFF-4BEF-A41F-584254A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C6C1-C0C6-4B6C-B7A5-DD1373F6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E103-14F0-4F4D-84C6-F595281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D58-8A36-4905-B8EE-591A851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D04-9432-457F-B48C-062F4DF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ADD-C545-4F8F-859A-71B9603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84A-5F04-421A-9DBE-43B36824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060-1E81-41E0-8CF3-2063AA9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581-29B4-4310-9E32-046494B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A57-5D84-4694-ADCD-5ED03B4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720"/>
                  <a:gd name="textAreaBottom" fmla="*/ 1179720 h 11797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5400"/>
                  <a:gd name="textAreaBottom" fmla="*/ 126540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188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480"/>
                  <a:gd name="textAreaBottom" fmla="*/ 1023840 h 10234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564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79360"/>
                  <a:gd name="textAreaBottom" fmla="*/ 1179360 h 11793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8520"/>
                  <a:gd name="textAreaBottom" fmla="*/ 1028880 h 102852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4120"/>
                <a:ext cx="1016280" cy="126504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2160"/>
                  <a:gd name="textAreaBottom" fmla="*/ 1262520 h 1262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2960"/>
                <a:ext cx="1015920" cy="126504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3520"/>
                <a:ext cx="1015920" cy="12646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-360 h 1264680"/>
                  <a:gd name="textAreaBottom" fmla="*/ 1264680 h 12646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1152360"/>
                  <a:gd name="textAreaBottom" fmla="*/ 1152720 h 11523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661680"/>
                  <a:gd name="textAreaBottom" fmla="*/ 662040 h 6616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B16-5F9F-4F3F-BB06-E9248B0318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720" y="-293400"/>
            <a:ext cx="9765360" cy="7676280"/>
            <a:chOff x="-468720" y="-293400"/>
            <a:chExt cx="976536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720" y="-293400"/>
              <a:ext cx="9765360" cy="7676280"/>
              <a:chOff x="-468720" y="-293400"/>
              <a:chExt cx="976536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3720"/>
                <a:ext cx="1090440" cy="96768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1840"/>
                <a:ext cx="1567080" cy="11804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4080"/>
                <a:ext cx="1032120" cy="1029960"/>
              </a:xfrm>
              <a:custGeom>
                <a:avLst/>
                <a:gdLst>
                  <a:gd name="textAreaLeft" fmla="*/ 0 w 1032120"/>
                  <a:gd name="textAreaRight" fmla="*/ 1032480 w 103212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6600"/>
                <a:ext cx="1015920" cy="12661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0160"/>
                <a:ext cx="849240" cy="10249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0600"/>
                <a:ext cx="1090440" cy="96768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600" y="3004920"/>
                <a:ext cx="1017000" cy="126540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1880" y="5366880"/>
                <a:ext cx="849240" cy="102492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59560"/>
                <a:ext cx="1374840" cy="126324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320" y="5953320"/>
                <a:ext cx="850320" cy="1023840"/>
              </a:xfrm>
              <a:custGeom>
                <a:avLst/>
                <a:gdLst>
                  <a:gd name="textAreaLeft" fmla="*/ 360 w 850320"/>
                  <a:gd name="textAreaRight" fmla="*/ 851040 w 85032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19760" y="5673960"/>
                <a:ext cx="1274400" cy="112068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040" y="486612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89200"/>
                <a:ext cx="1015920" cy="12661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0840" y="3739320"/>
                <a:ext cx="849240" cy="102456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0800"/>
                <a:ext cx="1090440" cy="96732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88880"/>
                <a:ext cx="1567080" cy="118080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4240"/>
                <a:ext cx="1031760" cy="1029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38560"/>
                <a:ext cx="1016280" cy="12664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097440"/>
                <a:ext cx="849240" cy="10249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57640"/>
                <a:ext cx="1090440" cy="96768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312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9520" y="5353920"/>
                <a:ext cx="849240" cy="10252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89720"/>
                <a:ext cx="1374840" cy="126324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520" y="5915520"/>
                <a:ext cx="849960" cy="1023840"/>
              </a:xfrm>
              <a:custGeom>
                <a:avLst/>
                <a:gdLst>
                  <a:gd name="textAreaLeft" fmla="*/ -360 w 849960"/>
                  <a:gd name="textAreaRight" fmla="*/ 849960 w 84996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960" y="5586120"/>
                <a:ext cx="1274040" cy="1121040"/>
              </a:xfrm>
              <a:custGeom>
                <a:avLst/>
                <a:gdLst>
                  <a:gd name="textAreaLeft" fmla="*/ 0 w 1274040"/>
                  <a:gd name="textAreaRight" fmla="*/ 1274400 w 127404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360" y="460692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3160"/>
                <a:ext cx="1015920" cy="12661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4880" y="3516840"/>
                <a:ext cx="849240" cy="102456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74480"/>
                <a:ext cx="1090440" cy="96768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2600"/>
                <a:ext cx="1567080" cy="11804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0120"/>
                <a:ext cx="1031760" cy="1029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2280"/>
                <a:ext cx="1016280" cy="126612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10800"/>
                <a:ext cx="849240" cy="10249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49400"/>
                <a:ext cx="1090440" cy="96732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89440" y="-14760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1800" y="1997640"/>
                <a:ext cx="849240" cy="102492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04800"/>
                <a:ext cx="1374840" cy="126324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440" y="2317320"/>
                <a:ext cx="849960" cy="1023840"/>
              </a:xfrm>
              <a:custGeom>
                <a:avLst/>
                <a:gdLst>
                  <a:gd name="textAreaLeft" fmla="*/ -360 w 849960"/>
                  <a:gd name="textAreaRight" fmla="*/ 849960 w 84996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67960"/>
                <a:ext cx="1272960" cy="112176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1760"/>
                  <a:gd name="textAreaBottom" fmla="*/ 1121760 h 11217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5960" y="1498320"/>
                <a:ext cx="1017360" cy="126504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24920"/>
                <a:ext cx="1015920" cy="12664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360 h 1266480"/>
                  <a:gd name="textAreaBottom" fmla="*/ 1267200 h 12664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680" y="370440"/>
                <a:ext cx="849240" cy="102456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74480"/>
                <a:ext cx="1090800" cy="96768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2600"/>
                <a:ext cx="1566720" cy="1180440"/>
              </a:xfrm>
              <a:custGeom>
                <a:avLst/>
                <a:gdLst>
                  <a:gd name="textAreaLeft" fmla="*/ 0 w 1566720"/>
                  <a:gd name="textAreaRight" fmla="*/ 1567080 w 156672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0120"/>
                <a:ext cx="1031760" cy="1029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2280"/>
                <a:ext cx="1015920" cy="12661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10800"/>
                <a:ext cx="849240" cy="10249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49400"/>
                <a:ext cx="1090440" cy="96732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320" y="80640"/>
                <a:ext cx="1017000" cy="126540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1997640"/>
                <a:ext cx="849600" cy="102528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695600"/>
                <a:ext cx="1374840" cy="126324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120" y="2317320"/>
                <a:ext cx="849960" cy="1023840"/>
              </a:xfrm>
              <a:custGeom>
                <a:avLst/>
                <a:gdLst>
                  <a:gd name="textAreaLeft" fmla="*/ -360 w 849960"/>
                  <a:gd name="textAreaRight" fmla="*/ 849960 w 84996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68320"/>
                <a:ext cx="1273320" cy="112176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121760"/>
                  <a:gd name="textAreaBottom" fmla="*/ 1121760 h 11217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1280" y="1498320"/>
                <a:ext cx="1017360" cy="126540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24920"/>
                <a:ext cx="1015920" cy="126648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360 h 1266480"/>
                  <a:gd name="textAreaBottom" fmla="*/ 1267200 h 12664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1840" y="370440"/>
                <a:ext cx="849240" cy="102456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69800"/>
                <a:ext cx="1090800" cy="96768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7680"/>
                  <a:gd name="textAreaBottom" fmla="*/ 968040 h 9676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47000"/>
                <a:ext cx="1567080" cy="11804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84520"/>
                <a:ext cx="1031760" cy="102996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1280"/>
                <a:ext cx="1016280" cy="126648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0240"/>
                <a:ext cx="1090800" cy="967320"/>
              </a:xfrm>
              <a:custGeom>
                <a:avLst/>
                <a:gdLst>
                  <a:gd name="textAreaLeft" fmla="*/ 0 w 1090800"/>
                  <a:gd name="textAreaRight" fmla="*/ 1090800 w 109080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5680" y="-76320"/>
                <a:ext cx="1017360" cy="126504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4960" y="2012040"/>
                <a:ext cx="849240" cy="102492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0120"/>
                <a:ext cx="1374840" cy="126324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440" y="5096880"/>
                <a:ext cx="849960" cy="1023840"/>
              </a:xfrm>
              <a:custGeom>
                <a:avLst/>
                <a:gdLst>
                  <a:gd name="textAreaLeft" fmla="*/ -360 w 849960"/>
                  <a:gd name="textAreaRight" fmla="*/ 849960 w 849960"/>
                  <a:gd name="textAreaTop" fmla="*/ 0 h 1023840"/>
                  <a:gd name="textAreaBottom" fmla="*/ 1024200 h 1023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280" y="2548440"/>
                <a:ext cx="1272960" cy="112212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22120"/>
                  <a:gd name="textAreaBottom" fmla="*/ 1122480 h 112212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5640" y="122508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6120"/>
                <a:ext cx="1015920" cy="1266120"/>
              </a:xfrm>
              <a:custGeom>
                <a:avLst/>
                <a:gdLst>
                  <a:gd name="textAreaLeft" fmla="*/ 0 w 1015920"/>
                  <a:gd name="textAreaRight" fmla="*/ 1016280 w 1015920"/>
                  <a:gd name="textAreaTop" fmla="*/ 0 h 1266120"/>
                  <a:gd name="textAreaBottom" fmla="*/ 1266120 h 1266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520" y="727920"/>
                <a:ext cx="849600" cy="1024560"/>
              </a:xfrm>
              <a:custGeom>
                <a:avLst/>
                <a:gdLst>
                  <a:gd name="textAreaLeft" fmla="*/ 360 w 849600"/>
                  <a:gd name="textAreaRight" fmla="*/ 850320 w 84960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000" y="4688280"/>
                <a:ext cx="1091520" cy="966960"/>
              </a:xfrm>
              <a:custGeom>
                <a:avLst/>
                <a:gdLst>
                  <a:gd name="textAreaLeft" fmla="*/ 0 w 1091520"/>
                  <a:gd name="textAreaRight" fmla="*/ 1091880 w 1091520"/>
                  <a:gd name="textAreaTop" fmla="*/ 0 h 966960"/>
                  <a:gd name="textAreaBottom" fmla="*/ 966960 h 9669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3280"/>
                <a:ext cx="1567080" cy="11804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1160"/>
                <a:ext cx="1031760" cy="10296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29600"/>
                  <a:gd name="textAreaBottom" fmla="*/ 1029960 h 102960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320" y="5730120"/>
                <a:ext cx="1017360" cy="126540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3880"/>
                <a:ext cx="1090440" cy="967320"/>
              </a:xfrm>
              <a:custGeom>
                <a:avLst/>
                <a:gdLst>
                  <a:gd name="textAreaLeft" fmla="*/ 0 w 1090440"/>
                  <a:gd name="textAreaRight" fmla="*/ 1090800 w 109044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5720"/>
                <a:ext cx="1017000" cy="126504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5240" y="5846400"/>
                <a:ext cx="849240" cy="102528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6280"/>
                <a:ext cx="1374480" cy="126324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4920" y="5772240"/>
                <a:ext cx="1274400" cy="112068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1120680"/>
                  <a:gd name="textAreaBottom" fmla="*/ 1121040 h 11206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79920" y="4085280"/>
                <a:ext cx="1017360" cy="126540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19800" y="3345120"/>
                <a:ext cx="1017360" cy="1265040"/>
              </a:xfrm>
              <a:custGeom>
                <a:avLst/>
                <a:gdLst>
                  <a:gd name="textAreaLeft" fmla="*/ 0 w 1017360"/>
                  <a:gd name="textAreaRight" fmla="*/ 1017720 w 1017360"/>
                  <a:gd name="textAreaTop" fmla="*/ 0 h 1265040"/>
                  <a:gd name="textAreaBottom" fmla="*/ 1265040 h 12650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200" y="3836160"/>
                <a:ext cx="849240" cy="1024560"/>
              </a:xfrm>
              <a:custGeom>
                <a:avLst/>
                <a:gdLst>
                  <a:gd name="textAreaLeft" fmla="*/ -360 w 849240"/>
                  <a:gd name="textAreaRight" fmla="*/ 849240 w 8492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1640"/>
              <a:ext cx="8876160" cy="2532240"/>
              <a:chOff x="97560" y="2771640"/>
              <a:chExt cx="8876160" cy="253224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>
                  <a:gd name="textAreaLeft" fmla="*/ 0 w 1782720"/>
                  <a:gd name="textAreaRight" fmla="*/ 1783080 w 1782720"/>
                  <a:gd name="textAreaTop" fmla="*/ 0 h 1636560"/>
                  <a:gd name="textAreaBottom" fmla="*/ 1636920 h 1636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080" y="2771640"/>
                <a:ext cx="2102760" cy="2152800"/>
                <a:chOff x="154080" y="2771640"/>
                <a:chExt cx="2102760" cy="215280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1680" y="3099960"/>
                  <a:ext cx="1627200" cy="1495440"/>
                </a:xfrm>
                <a:custGeom>
                  <a:avLst/>
                  <a:gdLst>
                    <a:gd name="textAreaLeft" fmla="*/ 0 w 1627200"/>
                    <a:gd name="textAreaRight" fmla="*/ 1627560 w 1627200"/>
                    <a:gd name="textAreaTop" fmla="*/ 0 h 1495440"/>
                    <a:gd name="textAreaBottom" fmla="*/ 1495800 h 149544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2680" y="3727800"/>
                  <a:ext cx="366480" cy="1098000"/>
                </a:xfrm>
                <a:custGeom>
                  <a:avLst/>
                  <a:gdLst>
                    <a:gd name="textAreaLeft" fmla="*/ 0 w 366480"/>
                    <a:gd name="textAreaRight" fmla="*/ 366840 w 366480"/>
                    <a:gd name="textAreaTop" fmla="*/ 0 h 1098000"/>
                    <a:gd name="textAreaBottom" fmla="*/ 1098360 h 109800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880" y="3399120"/>
                  <a:ext cx="1379520" cy="359280"/>
                </a:xfrm>
                <a:custGeom>
                  <a:avLst/>
                  <a:gdLst>
                    <a:gd name="textAreaLeft" fmla="*/ 0 w 1379520"/>
                    <a:gd name="textAreaRight" fmla="*/ 1379880 w 1379520"/>
                    <a:gd name="textAreaTop" fmla="*/ 0 h 359280"/>
                    <a:gd name="textAreaBottom" fmla="*/ 359640 h 35928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840" y="3367080"/>
                  <a:ext cx="885600" cy="860040"/>
                </a:xfrm>
                <a:custGeom>
                  <a:avLst/>
                  <a:gdLst>
                    <a:gd name="textAreaLeft" fmla="*/ 0 w 885600"/>
                    <a:gd name="textAreaRight" fmla="*/ 885960 w 885600"/>
                    <a:gd name="textAreaTop" fmla="*/ 0 h 860040"/>
                    <a:gd name="textAreaBottom" fmla="*/ 860400 h 86004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3480" y="3663000"/>
                  <a:ext cx="527040" cy="52128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4A3D-519A-43B1-83CC-F79A42D2B2AB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Явление тяготения.</a:t>
            </a:r>
            <a:br>
              <a:rPr sz="4400"/>
            </a:b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Сила тяжести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203280" y="388620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b88"/>
                </a:solidFill>
                <a:latin typeface="Arial Narrow"/>
              </a:rPr>
              <a:t>7 класс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097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Если мяч бросить в горизонтальном направлении, то он не летит прямолинейно. Его траектория кривая линия. ПОЧЕМУ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Picture 6" descr="62"/>
          <p:cNvPicPr/>
          <p:nvPr/>
        </p:nvPicPr>
        <p:blipFill>
          <a:blip r:embed="rId1"/>
          <a:stretch/>
        </p:blipFill>
        <p:spPr>
          <a:xfrm>
            <a:off x="152280" y="2666880"/>
            <a:ext cx="5334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Искусственный спутник, запущенный с Земли, так же летит не по прямой, а движется вокруг Земли. ПОЧЕМУ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1" name="Picture 6" descr="63"/>
          <p:cNvPicPr/>
          <p:nvPr/>
        </p:nvPicPr>
        <p:blipFill>
          <a:blip r:embed="rId1"/>
          <a:stretch/>
        </p:blipFill>
        <p:spPr>
          <a:xfrm>
            <a:off x="4114800" y="1776240"/>
            <a:ext cx="4343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066320"/>
            <a:ext cx="2160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4" name="Picture 6" descr="водопад"/>
          <p:cNvPicPr/>
          <p:nvPr/>
        </p:nvPicPr>
        <p:blipFill>
          <a:blip r:embed="rId1"/>
          <a:stretch/>
        </p:blipFill>
        <p:spPr>
          <a:xfrm>
            <a:off x="395280" y="1700280"/>
            <a:ext cx="4032360" cy="2971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Метеорный дождь"/>
          <p:cNvPicPr/>
          <p:nvPr/>
        </p:nvPicPr>
        <p:blipFill>
          <a:blip r:embed="rId2"/>
          <a:stretch/>
        </p:blipFill>
        <p:spPr>
          <a:xfrm>
            <a:off x="4473720" y="3573360"/>
            <a:ext cx="45241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66880" y="1066680"/>
            <a:ext cx="3810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риливы и отлив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8" name="Picture 6" descr="Прилив и отлив"/>
          <p:cNvPicPr/>
          <p:nvPr/>
        </p:nvPicPr>
        <p:blipFill>
          <a:blip r:embed="rId1"/>
          <a:stretch/>
        </p:blipFill>
        <p:spPr>
          <a:xfrm>
            <a:off x="2743200" y="160020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отлив"/>
          <p:cNvPicPr/>
          <p:nvPr/>
        </p:nvPicPr>
        <p:blipFill>
          <a:blip r:embed="rId2"/>
          <a:stretch/>
        </p:blipFill>
        <p:spPr>
          <a:xfrm>
            <a:off x="4800600" y="396252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прилив 2"/>
          <p:cNvPicPr/>
          <p:nvPr/>
        </p:nvPicPr>
        <p:blipFill>
          <a:blip r:embed="rId3"/>
          <a:stretch/>
        </p:blipFill>
        <p:spPr>
          <a:xfrm>
            <a:off x="228600" y="3962520"/>
            <a:ext cx="41911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Земля и другие планеты движутся вокруг Солнца, притягиваясь к нему и друг к другу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3" name="Picture 6" descr="Солнечная система"/>
          <p:cNvPicPr/>
          <p:nvPr/>
        </p:nvPicPr>
        <p:blipFill>
          <a:blip r:embed="rId1"/>
          <a:stretch/>
        </p:blipFill>
        <p:spPr>
          <a:xfrm>
            <a:off x="1219320" y="2133720"/>
            <a:ext cx="6858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В чём причина наблюдаемых явлений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66880" y="106632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олёт комет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6" name="Picture 7" descr="комета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одведём итоги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Земля притягивает к себе все тела: дома, людей, Луну, Солнце, воду в морях и океанах и т.д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В свою очередь, и Земля притягивается к этим телам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ритяжение существует не только между Землёй и телами, находящимися на ней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 Narrow"/>
              </a:rPr>
              <a:t>Все тела притягиваются друг к другу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Arial Narrow"/>
              </a:rPr>
              <a:t>Силы тяготения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5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Исаак Ньютон</a:t>
            </a:r>
            <a:r>
              <a:rPr b="1" lang="ru-RU" sz="2800" spc="-1" strike="noStrike">
                <a:solidFill>
                  <a:srgbClr val="333333"/>
                </a:solidFill>
                <a:latin typeface="Arial Narrow"/>
              </a:rPr>
              <a:t> (Англия) 1667 г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572"/>
                </a:solidFill>
                <a:uFillTx/>
                <a:latin typeface="Arial Narrow"/>
              </a:rPr>
              <a:t>Почему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Падение тел на землю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Луна вокруг  Земли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Планеты вокруг Солнц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Приливы и отливы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4211640" y="2349360"/>
            <a:ext cx="503280" cy="2880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3" name="Picture 9" descr="1202"/>
          <p:cNvPicPr/>
          <p:nvPr/>
        </p:nvPicPr>
        <p:blipFill>
          <a:blip r:embed="rId1"/>
          <a:stretch/>
        </p:blipFill>
        <p:spPr>
          <a:xfrm>
            <a:off x="755640" y="2997360"/>
            <a:ext cx="324000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Закон всемирного тяготения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огласно этому закону,</a:t>
            </a:r>
            <a:r>
              <a:rPr b="0" i="1" lang="ru-RU" sz="2800" spc="-1" strike="noStrike">
                <a:solidFill>
                  <a:srgbClr val="333333"/>
                </a:solidFill>
                <a:latin typeface="Arial Narrow"/>
              </a:rPr>
              <a:t> силы притяжения между телами тем больше, чем больше массы этих тел. Силы притяжения между телами уменьшаются, если увеличивается расстояние между ними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Picture 6" descr="Закон всемирного тяготения"/>
          <p:cNvPicPr/>
          <p:nvPr/>
        </p:nvPicPr>
        <p:blipFill>
          <a:blip r:embed="rId1"/>
          <a:stretch/>
        </p:blipFill>
        <p:spPr>
          <a:xfrm>
            <a:off x="4211640" y="2133720"/>
            <a:ext cx="4572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Сила притяжения к Земле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33"/>
                </a:solidFill>
                <a:latin typeface="Arial Narrow"/>
              </a:rPr>
              <a:t>Сила, с которой Земля притягивает к себе тело, называется силой тяжести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9" name="Picture 6" descr="Парашутист"/>
          <p:cNvPicPr/>
          <p:nvPr/>
        </p:nvPicPr>
        <p:blipFill>
          <a:blip r:embed="rId1"/>
          <a:stretch/>
        </p:blipFill>
        <p:spPr>
          <a:xfrm>
            <a:off x="4267080" y="1676520"/>
            <a:ext cx="46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18b88"/>
                </a:solidFill>
                <a:latin typeface="Arial Narrow"/>
              </a:rPr>
              <a:t>Цель урока:</a:t>
            </a:r>
            <a:endParaRPr b="0" lang="en-US" sz="6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333333"/>
                </a:solidFill>
                <a:latin typeface="Arial Narrow"/>
              </a:rPr>
              <a:t>усвоить, что такое явление тяготения и сила тяжести на уровне применения знаний в знакомой ситуации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Сила тяжести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6" name="Клип 4" descr="слайд 2.jpg"/>
          <p:cNvPicPr/>
          <p:nvPr/>
        </p:nvPicPr>
        <p:blipFill>
          <a:blip r:embed="rId1"/>
          <a:stretch/>
        </p:blipFill>
        <p:spPr>
          <a:xfrm>
            <a:off x="468360" y="1916280"/>
            <a:ext cx="8388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572"/>
                </a:solidFill>
                <a:latin typeface="Arial Narrow"/>
              </a:rPr>
              <a:t>Сила тяжести на земной поверхности разная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43240" y="1981080"/>
            <a:ext cx="2514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ила тяжести на полюсе немного больше, чем на экватор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39" name="Picture 6" descr="Радиусы Земли"/>
          <p:cNvPicPr/>
          <p:nvPr/>
        </p:nvPicPr>
        <p:blipFill>
          <a:blip r:embed="rId1"/>
          <a:stretch/>
        </p:blipFill>
        <p:spPr>
          <a:xfrm>
            <a:off x="304920" y="1676520"/>
            <a:ext cx="571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572"/>
                </a:solidFill>
                <a:latin typeface="Arial Narrow"/>
              </a:rPr>
              <a:t>Где сила тяжести больше: на вершине горы или у её подножия?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Сила тяжести на вершине горы несколько меньше, чем у её подножия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42" name="Picture 6" descr="Гора"/>
          <p:cNvPicPr/>
          <p:nvPr/>
        </p:nvPicPr>
        <p:blipFill>
          <a:blip r:embed="rId1"/>
          <a:stretch/>
        </p:blipFill>
        <p:spPr>
          <a:xfrm>
            <a:off x="3733920" y="1752480"/>
            <a:ext cx="4952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Тест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9185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Что нужно сделать, чтобы увеличить силу тяготения между телами? Выберите верное утверждение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близить оба тела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Удалить оба тела друг от друга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Уменьшить массы этих тел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Выбери верные утверждения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увеличивается с увеличением массы тел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действует на любое тело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всегда направлена вниз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на Земле везде одинаков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уменьшается при удалении от Земли в космос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измеряется в килограмма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тела увеличивается, если его сжать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не действует на воздушный шарик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0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6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7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3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одумайте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5640" y="30686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На какой из двух одинаковых по размерам брусков действует большая сила тяжести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арафиновый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Алюминиевый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>
              <a:spcBef>
                <a:spcPts val="799"/>
              </a:spcBef>
              <a:buClr>
                <a:srgbClr val="333333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На оба бруска действует одинаковая сила тяжест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51" name="Рисунок 4" descr="бруски.jpg"/>
          <p:cNvPicPr/>
          <p:nvPr/>
        </p:nvPicPr>
        <p:blipFill>
          <a:blip r:embed="rId1"/>
          <a:stretch/>
        </p:blipFill>
        <p:spPr>
          <a:xfrm>
            <a:off x="3780000" y="907920"/>
            <a:ext cx="3279600" cy="22338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5" descr="слайд 6.jpg"/>
          <p:cNvPicPr/>
          <p:nvPr/>
        </p:nvPicPr>
        <p:blipFill>
          <a:blip r:embed="rId2"/>
          <a:stretch/>
        </p:blipFill>
        <p:spPr>
          <a:xfrm>
            <a:off x="3851280" y="907920"/>
            <a:ext cx="31845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4" dur="indefinite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одумайте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Барон Мюнхаузен, герой известной повести Р. Э. Распе, привязав конец верёвки к Луне, спускался по ней на Землю. 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В чём главная физическая несуразность такого передвижения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Подумайте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 Narrow"/>
              </a:rPr>
              <a:t>Почему подниматься по лестнице значительно тяжелее, чем спускаться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Итоги урока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Между всеми телами Вселенной существует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всемирное тяготение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притяжения к Земле называется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силой тяжести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обозначается </a:t>
            </a: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F</a:t>
            </a:r>
            <a:r>
              <a:rPr b="1" lang="ru-RU" sz="2800" spc="-1" strike="noStrike" baseline="-25000">
                <a:solidFill>
                  <a:srgbClr val="333333"/>
                </a:solidFill>
                <a:latin typeface="Arial Narrow"/>
              </a:rPr>
              <a:t>тяж</a:t>
            </a:r>
            <a:r>
              <a:rPr b="1" lang="ru-RU" sz="28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всегда приложена к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центру 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тела и направлена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вертикально вниз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</a:t>
            </a:r>
            <a:r>
              <a:rPr b="1" lang="ru-RU" sz="2800" spc="-1" strike="noStrike">
                <a:solidFill>
                  <a:srgbClr val="333333"/>
                </a:solidFill>
                <a:latin typeface="Arial Narrow"/>
              </a:rPr>
              <a:t>на полюсах 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Земли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несколько больше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 силы тяжести на экваторе и других широтах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Сила тяжести </a:t>
            </a:r>
            <a:r>
              <a:rPr b="1" i="1" lang="ru-RU" sz="2800" spc="-1" strike="noStrike">
                <a:solidFill>
                  <a:srgbClr val="333333"/>
                </a:solidFill>
                <a:latin typeface="Arial Narrow"/>
              </a:rPr>
              <a:t>пропорциональна </a:t>
            </a:r>
            <a:r>
              <a:rPr b="1" lang="ru-RU" sz="2800" spc="-1" strike="noStrike">
                <a:solidFill>
                  <a:srgbClr val="333333"/>
                </a:solidFill>
                <a:latin typeface="Arial Narrow"/>
              </a:rPr>
              <a:t>массе 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тела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8b88"/>
                </a:solidFill>
                <a:latin typeface="Arial Narrow"/>
              </a:rPr>
              <a:t>Задачи урока: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b88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318b88"/>
                </a:solidFill>
                <a:latin typeface="Arial Narrow"/>
              </a:rPr>
              <a:t>Повторим и вспомним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- что такое сила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- единицы измерения сил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b88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318b88"/>
                </a:solidFill>
                <a:latin typeface="Arial Narrow"/>
              </a:rPr>
              <a:t>Мы узнаем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- закон всемирного тяготения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- что такое сила тяжест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- как рассчитать силу тяжест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Домашнее задание: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63528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 Narrow"/>
              </a:rPr>
              <a:t>§ 24, вопросы; № 291-293 (Л.), приготовить историческую справку  об Исааке Ньютоне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348000" y="1125360"/>
            <a:ext cx="52545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 Narrow"/>
              </a:rPr>
              <a:t>В каких случаях говорят, что на тело действует сила?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 Narrow"/>
              </a:rPr>
              <a:t>В результате чего меняется скорость вагонетки?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5" name="Picture 6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765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В результате чего изменяется направление движения летящего мячика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Что является причиной изменения формы (деформации) ракетки?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8" name="Picture 6" descr="Деформация тела при воздействии силы"/>
          <p:cNvPicPr/>
          <p:nvPr/>
        </p:nvPicPr>
        <p:blipFill>
          <a:blip r:embed="rId1"/>
          <a:stretch/>
        </p:blipFill>
        <p:spPr>
          <a:xfrm>
            <a:off x="152280" y="152388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Что такое сила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33"/>
                </a:solidFill>
                <a:latin typeface="Arial Narrow"/>
              </a:rPr>
              <a:t>Сила является мерой взаимодействия тел.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От чего зависит результат действия силы на тело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33"/>
                </a:solidFill>
                <a:latin typeface="Arial Narrow"/>
              </a:rPr>
              <a:t>Результат действия силы на тело зависит от её модуля, направления и точки приложения.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Как изображают силу на чертеже?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4120" y="243828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Чему равна сила, действующая на тележку?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Picture 6" descr="61"/>
          <p:cNvPicPr/>
          <p:nvPr/>
        </p:nvPicPr>
        <p:blipFill>
          <a:blip r:embed="rId1"/>
          <a:stretch/>
        </p:blipFill>
        <p:spPr>
          <a:xfrm>
            <a:off x="228600" y="2209680"/>
            <a:ext cx="5105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38:26Z</dcterms:created>
  <dc:creator>Alex.M</dc:creator>
  <dc:description/>
  <dc:language>en-US</dc:language>
  <cp:lastModifiedBy>Юрий</cp:lastModifiedBy>
  <dcterms:modified xsi:type="dcterms:W3CDTF">2012-11-13T15:43:51Z</dcterms:modified>
  <cp:revision>30</cp:revision>
  <dc:subject/>
  <dc:title>Явление тяготения. Сила тяжести</dc:title>
</cp:coreProperties>
</file>