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DD1-9364-4D1C-B57A-2946F6F3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D3D-E4BC-4B69-874C-C6C70DD7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D81-5903-4954-A7E4-7A5D604C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275-00CC-4EF1-AAB4-BC5521AA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99AA-85BF-43E1-990D-EEA67322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538D-F049-4D62-8557-182C5CF1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C08D-D75A-4C91-A00B-83DCA808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029D-AA0B-490E-A0F6-A8345BD5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CA00-06E6-4A7D-8642-8710FA6A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2487-F774-478B-9701-6FD0F25F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C683-DF9C-4680-B0B1-80C5146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E0F-3C06-49A3-BB2A-08DD9B62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342F-1B10-47E4-A9FA-010693C5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C67A-D1A6-43DD-8DB3-D192EBA0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B1CE-2637-4CF2-AA51-9227A313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1094-7478-4FF3-9F2F-18C7A040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7E4F-D283-4F15-A05F-9CD2E5C2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F4D-10D4-4DD1-8316-527A3412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14D-F784-4016-8EA6-95278FEC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591-7899-49E4-9F0A-6651DB04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6A9-B303-4E94-825E-5186EA6C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F2E-BA04-4FA9-9824-644F0230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C17-6DB3-4B71-91BA-61950E58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849-E4AE-4817-A7CE-7498F7A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fbedd5"/>
            </a:gs>
            <a:gs pos="100000">
              <a:srgbClr val="cc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2DBD-2AAA-49AA-8131-4968929DAE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fbedd5"/>
            </a:gs>
            <a:gs pos="100000">
              <a:srgbClr val="cc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CE65-CC82-418F-9097-1EEDA64EA0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oethics.ru/rus/whatbio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" descr="28V1L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990720" y="2057400"/>
            <a:ext cx="761976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33"/>
                </a:solidFill>
                <a:latin typeface="Garamond"/>
              </a:rPr>
              <a:t>Биоэтические проблемы</a:t>
            </a:r>
            <a:endParaRPr b="0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grpSp>
        <p:nvGrpSpPr>
          <p:cNvPr id="88" name="TextBox 7"/>
          <p:cNvGrpSpPr/>
          <p:nvPr/>
        </p:nvGrpSpPr>
        <p:grpSpPr>
          <a:xfrm>
            <a:off x="5400720" y="5200560"/>
            <a:ext cx="2994120" cy="1584360"/>
            <a:chOff x="5400720" y="5200560"/>
            <a:chExt cx="2994120" cy="1584360"/>
          </a:xfrm>
        </p:grpSpPr>
        <p:pic>
          <p:nvPicPr>
            <p:cNvPr id="89" name="TextBox 7" descr=""/>
            <p:cNvPicPr/>
            <p:nvPr/>
          </p:nvPicPr>
          <p:blipFill>
            <a:blip r:embed="rId2"/>
            <a:stretch/>
          </p:blipFill>
          <p:spPr>
            <a:xfrm>
              <a:off x="5400720" y="5200560"/>
              <a:ext cx="29941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486400" y="5257800"/>
              <a:ext cx="28195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Автор: Моисеева Александра,</a:t>
              </a: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ученица 11 класса</a:t>
              </a: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МОУ «Медновская СОШ»</a:t>
              </a: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Тверская область</a:t>
              </a: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26e28"/>
                  </a:solidFill>
                  <a:latin typeface="Times New Roman"/>
                  <a:ea typeface="Times New Roman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ndy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писок литературы и Интернет-ресурсов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Garamond"/>
                <a:ea typeface="Times New Roman"/>
                <a:hlinkClick r:id="rId1"/>
              </a:rPr>
              <a:t>http://www.bioethics.ru/rus/whatbio/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- Биоэтический фор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www.bioethics.ru/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- Биоэтический фор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ru.wikipedia.org/wiki/%C1%E8%EE%FD%F2%E8%EA%E0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– Википед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siteprovse.com/index/bioehtika/0-231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- Биоэ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www.intechopen.com/books/bioethics-in-the-21st-century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- Биоэ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21-м В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i.current.com/images/asset/905/282/60/28V1L9.jpg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- Производители стволовых клеток сказали новое слово в биоэ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ttp://cs992.vkontakte.ru/u146501770/142563225/x_e401d5b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Garamond"/>
              </a:rPr>
              <a:t>Что такое БИОЭТИКА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это сложный культурный феномен, возникший как ответ на угрозы моральному и физическому благополучию человека, порождаемые бурным прогрессом биомедицинской науки и прак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girl_book"/>
          <p:cNvPicPr/>
          <p:nvPr/>
        </p:nvPicPr>
        <p:blipFill>
          <a:blip r:embed="rId1"/>
          <a:stretch/>
        </p:blipFill>
        <p:spPr>
          <a:xfrm>
            <a:off x="7315200" y="4114800"/>
            <a:ext cx="140796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Истоки понятия «биоэтика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Впервые термин «биоэтика» предложил использовать американский онколог Ван Ренсселер Поттер в 1971 году. В книге «Биоэтика: мост в будущее» он писал: «Наука выживания должна быть не просто наукой, а новой мудростью, которая объединила бы два наиболее важных и крайне необходимых элемента – биологическое знание и общечеловеческие ценности. Исходя из этого, я предлагаю для ее обозначения термин – </a:t>
            </a: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Биоэтика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1424.jpg"/>
          <p:cNvPicPr/>
          <p:nvPr/>
        </p:nvPicPr>
        <p:blipFill>
          <a:blip r:embed="rId1"/>
          <a:srcRect l="0" t="32357" r="0" b="12505"/>
          <a:stretch/>
        </p:blipFill>
        <p:spPr>
          <a:xfrm>
            <a:off x="6248520" y="480060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Garamond"/>
              </a:rPr>
              <a:t>Формы деятельности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Современная биоэтика включает ряд тесно связанных форм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aramond"/>
              </a:rPr>
              <a:t>Во-первых,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 - это </a:t>
            </a: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мультидисциплинарная область исследования условий и последствий научно-технического прогресса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 в биомедицине. Встающие перед человечеством проблемы изучаются врачами, биологами, философами, богословами, юристами, психологами, политологами и представителями других дисципли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aramond"/>
              </a:rPr>
              <a:t>Во-вторых,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 - это </a:t>
            </a: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сфера академической, образовательной деятельности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. Различные курсы биоэтики преподаются в детских садах, школах и лицеях, университетах (на медицинских, биологических, философских, богословских и других факультетах). С 2000 года биоэтика введена как предмет обязательного преподавания в медицинских вузах Росс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aramond"/>
              </a:rPr>
              <a:t>В-третьих,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 - это бурно развивающийся </a:t>
            </a: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социальный институт</a:t>
            </a: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. Он включает сложную систему международных (на уровне ООН, ЮНЕСКО, ВОЗ, Совета Европы и т.д.), национальных (в системе государственных и профессиональных организаций), региональных и локальных (в структурах исследовательских и практических организаций) этических комитетов. Биоэтика в определенном аспекте является частью правозащитного движения в области здравоохран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Основные проблемы биоэтики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щиты прав пациентов (в том числе ВИЧ инфицированных, психиатрических больных, детей и др. больных с ограниченной компетентностью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праведливости в здравоохран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заимоотношения с живой природой (экологические аспекты развития биомедицинских технологи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аборта, контрацепции и новых репродуктивных технологий (искусственное оплодотворение, оплодотворение «в пробирке» с последующей имплантацией эмбриона в матку, суррогатное материнство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оведения экспериментов на человеке и жив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ыработки критериев диагностики смер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трансплантолог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овременной генетики (генодиагностики, генной терапии и инженери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манипуляций со стволовыми клетк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лонирования (терапевтического и репродуктивного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казания помощи умирающим пациентам (хосписы и организации паллиативной помощ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амоубийства и эвтаназии (пассивной или активной, добровольной или насильственн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От Гиппократа к современной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одержание классической медицинской этики восходит к «отцу медицины» Гиппократу (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вв до н.э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сновные положения этики Гиппократа тако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езусловное </a:t>
            </a:r>
            <a:r>
              <a:rPr b="0" lang="ru-RU" sz="1800" spc="-1" strike="noStrike">
                <a:solidFill>
                  <a:srgbClr val="326e28"/>
                </a:solidFill>
                <a:latin typeface="Garamond"/>
              </a:rPr>
              <a:t>уважение</a:t>
            </a:r>
            <a:r>
              <a:rPr b="1" lang="ru-RU" sz="1800" spc="-1" strike="noStrike">
                <a:solidFill>
                  <a:srgbClr val="326e28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326e28"/>
                </a:solidFill>
                <a:latin typeface="Garamond"/>
              </a:rPr>
              <a:t>к жизни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ациента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"Я не дам никому просимого у меня смертельного средства и не покажу пути для подобного замысла, точно так же я не вручу никакой женщине абортивного пессария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Garamond"/>
              </a:rPr>
              <a:t>цель медицины - благо больного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 "В какой бы дом я ни вошел, я войду туда только для пользы больного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Garamond"/>
              </a:rPr>
              <a:t>не навреди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 "Я направлю режим больных к их выгоде..., воздерживаясь от причинения всякого вреда и несправедливост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6e28"/>
                </a:solidFill>
                <a:latin typeface="Garamond"/>
              </a:rPr>
              <a:t>медицинская тайна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 "Что бы при лечении, а также и без лечения я ни увидел или ни услышал касательно жизни людской, из того, что не следует разглашать, я умолчу о том, считая подобные вещи тайной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правдание </a:t>
            </a:r>
            <a:r>
              <a:rPr b="0" lang="ru-RU" sz="1800" spc="-1" strike="noStrike">
                <a:solidFill>
                  <a:srgbClr val="326e28"/>
                </a:solidFill>
                <a:latin typeface="Garamond"/>
              </a:rPr>
              <a:t>"святой лжи" в медицине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"Все... должно делать спокойно и умело, скрывая от больного многое в своих распоряжениях...  сами больные по  причине   своего плачевного положения, отчаявшись, заменяют жизнь смертью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арадоксальное, с современной точки зрения, </a:t>
            </a:r>
            <a:r>
              <a:rPr b="0" lang="ru-RU" sz="1800" spc="-1" strike="noStrike">
                <a:solidFill>
                  <a:srgbClr val="326e28"/>
                </a:solidFill>
                <a:latin typeface="Garamond"/>
              </a:rPr>
              <a:t>отношение к неизлечимым и умирающим больным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: "...К тем, которые уже побеждены болезнью, она (медицина) не протягивает своей рук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895480" y="7621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6e28"/>
                </a:solidFill>
                <a:latin typeface="Garamond"/>
              </a:rPr>
              <a:t>биоэтике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Конвенция о защите прав и достоинства человека в области биомедицины: КОНВЕНЦИЯ О БИОМЕДИЦИНЕ И ПРАВАХ ЧЕЛОВЕКА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Garamond"/>
              </a:rPr>
              <a:t>Часть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Garamond"/>
              </a:rPr>
              <a:t>Общие 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Статья 1 (Цель и задач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Стороны, подписавшие данную Конвенцию, обязуются, применительно к области биомедицины, защищать достоинство и индивидуальность каждого человека, а также гарантировать всем без исключения уважение целостности личности, фундаментальных прав и свобод, которыми обладает каждый человек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Статья 2 (Приоритет человек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Интересы и благополучие отдельного человека должны превалировать над исключительными интересами общества и наук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26e28"/>
                </a:solidFill>
                <a:latin typeface="Garamond"/>
              </a:rPr>
              <a:t>Статья 3 (Равная доступност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aramond"/>
              </a:rPr>
              <a:t>В рамках своей юрисдикции, а также исходя из спроса на медицинскую помощь и имеющихся в наличии ресурсов, стороны обязуются предпринять необходимые меры в целях обеспечения равной доступности медицинской помощи для всех членов обще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_1ac1f_e59f7c65_XL"/>
          <p:cNvPicPr/>
          <p:nvPr/>
        </p:nvPicPr>
        <p:blipFill>
          <a:blip r:embed="rId1"/>
          <a:stretch/>
        </p:blipFill>
        <p:spPr>
          <a:xfrm>
            <a:off x="5943600" y="1219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Международные организации и правовое регулирование биоэтических проблем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ЮНЕСКО действуют два комитета по биоэтике — международный и межправительственный. В Совете Европы этой тематикой занимается Руководящий комитет по биоэтике. Рабочая группа по биоэтике существует и в рамках Всемирной Организации Здравоохра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cc9900"/>
                </a:solidFill>
                <a:latin typeface="Garamond"/>
              </a:rPr>
              <a:t>Этическое и правовое регулирование в области биоэтики осуществляется на основе международных нормативных документов. Важнейшие из них: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сеобщая декларация о геноме человека и правах человека (ЮНЕСКО, 1997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сеобщая декларация о биоэтике и правах человека (ЮНЕСКО, 200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кларация о клонировании человека (ООН, 200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юридически обязывающая Конвенция о защите прав и достоинства человека в связи с применением достижений биологии и медицины: Конвенция о правах человека и биомедицине (Совет Европы, 1997) и дополнительные протоколы к ней, касающиеся запрета клонирования человека, трансплантологии, биомедицинских исслед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Хельсинкская декларация Всемирной медицинской организации (1964, последняя редакция — 2000) «Этические принципы проведения научных медицинских исследований с участием человека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Подведем итоги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аким образом,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26e28"/>
                </a:solidFill>
                <a:latin typeface="Garamond"/>
              </a:rPr>
              <a:t>биоэтика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– это наука об этичном, морально-нравственном отношении ко всему живому. В соответствии с ней, моральным долгом каждого человека является предотвращение вреда здоровью его живущим и будущим родствен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13162558"/>
          <p:cNvPicPr/>
          <p:nvPr/>
        </p:nvPicPr>
        <p:blipFill>
          <a:blip r:embed="rId1"/>
          <a:stretch/>
        </p:blipFill>
        <p:spPr>
          <a:xfrm>
            <a:off x="5257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</cp:lastModifiedBy>
  <dcterms:modified xsi:type="dcterms:W3CDTF">2012-11-10T17:41:3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