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BBC-78D8-41C0-8E65-DCD3351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63D-5ACC-47AB-A243-98C24B3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725-D2C2-4224-A1E2-C6BD1424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2AF-69B0-48F6-8651-7BCB0731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04E-B60D-4B77-8B9F-6D9C0048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CE82-E8F4-4B87-8F69-CC7AB1AB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389-A6D5-4D12-A64D-7F17AEF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927-1192-463E-A410-AD4DD82F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747-21D5-4BF1-BDBB-038F73D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0C21-2D41-4DB6-AC62-7224D68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FABF-5F57-4692-9C03-51EC5F4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E28-7C71-49A5-AD90-62964473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52A-B2C0-40EA-931E-327AF00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4437-CCDC-4C0B-94E5-626CA5E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F4AC-F697-433F-9DF1-A99C028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412-1FA4-453D-BBF8-814B829D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738-1149-431B-839D-C626D523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472-BB7C-48E7-8C39-CD7E568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69B-7DA8-4B45-BE02-AC116F02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56A-AD5C-4B38-B742-A3668F41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9F6-F73B-4D4A-9D5D-BA10A63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CD0-9093-4A14-A39B-0EDA4B4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64-6E47-43F0-AA3D-187B372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6F8-54AF-4D35-B37E-5A0FBC4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bedd5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A89D-7622-4D6E-817D-EEA262652F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bedd5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3A0-5285-44ED-BEB6-C2D2E1457C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ethics.ru/rus/whatbio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28V1L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990720" y="205740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33"/>
                </a:solidFill>
                <a:latin typeface="Garamond"/>
              </a:rPr>
              <a:t>Биоэтические проблемы</a:t>
            </a:r>
            <a:endParaRPr b="0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grpSp>
        <p:nvGrpSpPr>
          <p:cNvPr id="88" name="TextBox 7"/>
          <p:cNvGrpSpPr/>
          <p:nvPr/>
        </p:nvGrpSpPr>
        <p:grpSpPr>
          <a:xfrm>
            <a:off x="5400720" y="5200560"/>
            <a:ext cx="2994120" cy="1584360"/>
            <a:chOff x="5400720" y="5200560"/>
            <a:chExt cx="2994120" cy="1584360"/>
          </a:xfrm>
        </p:grpSpPr>
        <p:pic>
          <p:nvPicPr>
            <p:cNvPr id="89" name="TextBox 7" descr=""/>
            <p:cNvPicPr/>
            <p:nvPr/>
          </p:nvPicPr>
          <p:blipFill>
            <a:blip r:embed="rId2"/>
            <a:stretch/>
          </p:blipFill>
          <p:spPr>
            <a:xfrm>
              <a:off x="5400720" y="5200560"/>
              <a:ext cx="29941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486400" y="5257800"/>
              <a:ext cx="28195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Автор: Моисеева Александра,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ученица 11 класса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МОУ «Медновская СОШ»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Тверская область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исок литературы и Интернет-ресурсов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Garamond"/>
                <a:ea typeface="Times New Roman"/>
                <a:hlinkClick r:id="rId1"/>
              </a:rPr>
              <a:t>http://www.bioethics.ru/rus/whatbio/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- Биоэтический фор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www.bioethics.ru/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ческий фор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ru.wikipedia.org/wiki/%C1%E8%EE%FD%F2%E8%EA%E0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– Википе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siteprovse.com/index/bioehtika/0-231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www.intechopen.com/books/bioethics-in-the-21st-century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21-м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i.current.com/images/asset/905/282/60/28V1L9.jpg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Производители стволовых клеток сказали новое слово в биоэ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cs992.vkontakte.ru/u146501770/142563225/x_e401d5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Что такое БИОЭТИКА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это сложный культурный феномен, возникший как ответ на угрозы моральному и физическому благополучию человека, порождаемые бурным прогрессом биомедицинской науки и прак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girl_book"/>
          <p:cNvPicPr/>
          <p:nvPr/>
        </p:nvPicPr>
        <p:blipFill>
          <a:blip r:embed="rId1"/>
          <a:stretch/>
        </p:blipFill>
        <p:spPr>
          <a:xfrm>
            <a:off x="7315200" y="4114800"/>
            <a:ext cx="140796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Истоки понятия «биоэтика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Впервые термин «биоэтика» предложил использовать американский онколог Ван Ренсселер Поттер в 1971 году. В книге «Биоэтика: мост в будущее» он писал: «Наука выживания должна быть не просто наукой, а новой мудростью, которая объединила бы два наиболее важных и крайне необходимых элемента – биологическое знание и общечеловеческие ценности. Исходя из этого, я предлагаю для ее обозначения термин –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Биоэтика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1424.jpg"/>
          <p:cNvPicPr/>
          <p:nvPr/>
        </p:nvPicPr>
        <p:blipFill>
          <a:blip r:embed="rId1"/>
          <a:srcRect l="0" t="32357" r="0" b="12505"/>
          <a:stretch/>
        </p:blipFill>
        <p:spPr>
          <a:xfrm>
            <a:off x="6248520" y="48006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Формы деятельност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Современная биоэтика включает ряд тесно связанных форм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о-первы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мультидисциплинарная область исследования условий и последствий научно-технического прогресса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в биомедицине. Встающие перед человечеством проблемы изучаются врачами, биологами, философами, богословами, юристами, психологами, политологами и представителями других дисципли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о-вторы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фера академической, образовательной деятельности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. Различные курсы биоэтики преподаются в детских садах, школах и лицеях, университетах (на медицинских, биологических, философских, богословских и других факультетах). С 2000 года биоэтика введена как предмет обязательного преподавания в медицинских вузах Ро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-третьи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бурно развивающийся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оциальный институт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. Он включает сложную систему международных (на уровне ООН, ЮНЕСКО, ВОЗ, Совета Европы и т.д.), национальных (в системе государственных и профессиональных организаций), региональных и локальных (в структурах исследовательских и практических организаций) этических комитетов. Биоэтика в определенном аспекте является частью правозащитного движения в области здравоохран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Основные проблемы биоэтики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щиты прав пациентов (в том числе ВИЧ инфицированных, психиатрических больных, детей и др. больных с ограниченной компетентностью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раведливости в здравоохра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заимоотношения с живой природой (экологические аспекты развития биомедицинских технолог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борта, контрацепции и новых репродуктивных технологий (искусственное оплодотворение, оплодотворение «в пробирке» с последующей имплантацией эмбриона в матку, суррогатное материнство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ведения экспериментов на человеке и жив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работки критериев диагностики смер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рансплантолог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временной генетики (генодиагностики, генной терапии и инженер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анипуляций со стволовыми клетк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лонирования (терапевтического и репродуктивного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казания помощи умирающим пациентам (хосписы и организации паллиативной помощ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амоубийства и эвтаназии (пассивной или активной, добровольной или насильственн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т Гиппократа к современной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держание классической медицинской этики восходит к «отцу медицины» Гиппократу 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вв до н.э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сновные положения этики Гиппократа тако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езусловное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уважение</a:t>
            </a:r>
            <a:r>
              <a:rPr b="1" lang="ru-RU" sz="1800" spc="-1" strike="noStrike">
                <a:solidFill>
                  <a:srgbClr val="326e28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к жизни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ациента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"Я не дам никому просимого у меня смертельного средства и не покажу пути для подобного замысла, точно так же я не вручу никакой женщине абортивного пессари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цель медицины - благо больного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В какой бы дом я ни вошел, я войду туда только для пользы больного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не навреди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Я направлю режим больных к их выгоде..., воздерживаясь от причинения всякого вреда и несправедливост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медицинская тайна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Что бы при лечении, а также и без лечения я ни увидел или ни услышал касательно жизни людской, из того, что не следует разглашать, я умолчу о том, считая подобные вещи тайной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равдание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"святой лжи" в медицине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"Все... должно делать спокойно и умело, скрывая от больного многое в своих распоряжениях...  сами больные по  причине   своего плачевного положения, отчаявшись, заменяют жизнь смерть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арадоксальное, с современной точки зрения,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отношение к неизлечимым и умирающим больным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...К тем, которые уже побеждены болезнью, она (медицина) не протягивает своей ру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895480" y="762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6e28"/>
                </a:solidFill>
                <a:latin typeface="Garamond"/>
              </a:rPr>
              <a:t>биоэтике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Конвенция о защите прав и достоинства человека в области биомедицины: КОНВЕНЦИЯ О БИОМЕДИЦИНЕ И ПРАВАХ ЧЕЛОВЕКА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Garamond"/>
              </a:rPr>
              <a:t>Часть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Garamond"/>
              </a:rPr>
              <a:t>Общие 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1 (Цель и задач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Стороны, подписавшие данную Конвенцию, обязуются, применительно к области биомедицины, защищать достоинство и индивидуальность каждого человека, а также гарантировать всем без исключения уважение целостности личности, фундаментальных прав и свобод, которыми обладает каждый человек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2 (Приоритет человек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Интересы и благополучие отдельного человека должны превалировать над исключительными интересами общества и нау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3 (Равная доступност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В рамках своей юрисдикции, а также исходя из спроса на медицинскую помощь и имеющихся в наличии ресурсов, стороны обязуются предпринять необходимые меры в целях обеспечения равной доступности медицинской помощи для всех членов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_1ac1f_e59f7c65_XL"/>
          <p:cNvPicPr/>
          <p:nvPr/>
        </p:nvPicPr>
        <p:blipFill>
          <a:blip r:embed="rId1"/>
          <a:stretch/>
        </p:blipFill>
        <p:spPr>
          <a:xfrm>
            <a:off x="5943600" y="1219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еждународные организации и правовое регулирование биоэтических проблем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ЮНЕСКО действуют два комитета по биоэтике — международный и межправительственный. В Совете Европы этой тематикой занимается Руководящий комитет по биоэтике. Рабочая группа по биоэтике существует и в рамках Всемирной Организации Здравоох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cc9900"/>
                </a:solidFill>
                <a:latin typeface="Garamond"/>
              </a:rPr>
              <a:t>Этическое и правовое регулирование в области биоэтики осуществляется на основе международных нормативных документов. Важнейшие из них: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сеобщая декларация о геноме человека и правах человека (ЮНЕСКО, 1997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сеобщая декларация о биоэтике и правах человека (ЮНЕСКО, 200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кларация о клонировании человека (ООН, 200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юридически обязывающая Конвенция о защите прав и достоинства человека в связи с применением достижений биологии и медицины: Конвенция о правах человека и биомедицине (Совет Европы, 1997) и дополнительные протоколы к ней, касающиеся запрета клонирования человека, трансплантологии, биомедицинских исслед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ельсинкская декларация Всемирной медицинской организации (1964, последняя редакция — 2000) «Этические принципы проведения научных медицинских исследований с участием челове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Подведем итоги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аким образом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26e28"/>
                </a:solidFill>
                <a:latin typeface="Garamond"/>
              </a:rPr>
              <a:t>биоэтик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наука об этичном, морально-нравственном отношении ко всему живому. В соответствии с ней, моральным долгом каждого человека является предотвращение вреда здоровью его живущим и будущим родствен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3162558"/>
          <p:cNvPicPr/>
          <p:nvPr/>
        </p:nvPicPr>
        <p:blipFill>
          <a:blip r:embed="rId1"/>
          <a:stretch/>
        </p:blipFill>
        <p:spPr>
          <a:xfrm>
            <a:off x="5257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2-11-10T17:41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