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8.wmf" ContentType="image/x-wmf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EFFE-4777-4D14-99D3-A5C2A1E86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B821-49DD-4316-AD8B-761E3036E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3D1D-D949-4269-A625-8FFC4778E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69E4-2311-42DC-ADFE-15E5F8B93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22E08-D97E-46A1-B9D1-5F786056E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A8AE0-7F47-41EC-93AC-FD8EF22FB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CE4F4-352A-4997-B54A-D8FFC4393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E192D-2C6B-4923-A18E-2493E0C80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2D3CA-760D-44C0-AE59-CC6200242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7DA7C-C477-4B78-B49E-B9ACFAFB0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E6968-5E24-4883-8BFF-2F2B6278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CD05-4568-41DC-AA38-6AC24E465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DEF45-E80A-4958-9B58-1BE6E570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447B2-3163-42DA-AABA-7F9849D0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3E700-18C5-495E-A4B5-396175762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C4749-6203-4CBE-BEC5-D7C3C9C03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5EE1D-CF26-4956-AEE6-59EE27D58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F8D4-42B3-4255-BF2D-1CFF5C84A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3E43-C506-48CC-A95B-9626FA6D6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6E0A-14D0-4117-AAA7-77FCF1506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A03C-4DF4-41C2-92BC-A6C1EED0B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24D3-3691-466F-8780-29F9C9AF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57C0-4513-489D-96AD-0B029CF1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4ED2-E352-4884-B880-97A1B671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46A31-B5BC-4687-85E6-D5A330FEB93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6EA45-483C-43FB-A98E-875F01EF665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63640" y="692280"/>
            <a:ext cx="7129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330033"/>
                </a:solidFill>
                <a:latin typeface="Times New Roman"/>
              </a:rPr>
              <a:t>Дай старт своей карьере!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 rot="10780800">
            <a:off x="1253160" y="3714840"/>
            <a:ext cx="734868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0033"/>
                </a:solidFill>
                <a:latin typeface="Arial"/>
              </a:rPr>
              <a:t>     </a:t>
            </a:r>
            <a:r>
              <a:rPr b="1" i="1" lang="en-US" sz="3200" spc="-1" strike="noStrike">
                <a:solidFill>
                  <a:srgbClr val="330033"/>
                </a:solidFill>
                <a:latin typeface="Arial"/>
              </a:rPr>
              <a:t>151031  Монтаж и техническая                 эксплуатация промышленного    оборудования (по отрасля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0033"/>
                </a:solidFill>
                <a:latin typeface="Arial"/>
              </a:rPr>
              <a:t>            </a:t>
            </a:r>
            <a:r>
              <a:rPr b="1" i="1" lang="en-US" sz="2000" spc="-1" strike="noStrike">
                <a:solidFill>
                  <a:srgbClr val="330033"/>
                </a:solidFill>
                <a:latin typeface="Arial"/>
              </a:rPr>
              <a:t>Дневное и заочное обу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635280" y="1700280"/>
            <a:ext cx="2952720" cy="17920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рофессиональные задач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10920" y="1599840"/>
            <a:ext cx="4113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ехник-механи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одна из наиболее нужных сейчас профессий для юношей. Важнейшая задача техника-механика – организация монтажных и ремонтных работ на предприятиях, поддержание машин и оборудования в рабочем состоя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867280" y="1628640"/>
            <a:ext cx="1717920" cy="21891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321160" y="3941640"/>
            <a:ext cx="29196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Карьера и заработная плат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777744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ыпускники нашей специальности смогут обслуживать оборудование практически любой отрасли промышл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ровень заработной платы зависит от места, опыта работы, загруж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зможность карьерного роста присутству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ожно открыть собственную мастерск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224760" y="4005360"/>
            <a:ext cx="2919240" cy="21891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843280" y="4309920"/>
            <a:ext cx="3398760" cy="25480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250920" y="4454640"/>
            <a:ext cx="288288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Дополнительное образован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техникуме предоставляется возможность дополнительно к основной профессии приобрести рабочие специальности, востребованные на рынке тру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ератор ПЭВ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есарь КИ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ка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слеса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арщи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932360" y="3500280"/>
            <a:ext cx="3913200" cy="29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   </a:t>
            </a: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ЦМТОТиП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Если Вы хотите получить хорошую специальность и сделать свою жизнь интересной, приходите к нам учить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164360" y="189000"/>
            <a:ext cx="1776600" cy="16304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476360" y="4149720"/>
            <a:ext cx="1747800" cy="16938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6156360" y="4292640"/>
            <a:ext cx="22334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330033"/>
                </a:solidFill>
                <a:latin typeface="Times New Roman"/>
              </a:rPr>
              <a:t>Перечень документов, необходимых для поступления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явл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умент об образовании ( подлин-ник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 фотографий 3х4 см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дицинская справка формы О-86У (для очной формы обучени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пия паспо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ак нас 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 ж/д платформы «Цемгигант» по ул. Ленинская или Коломенская (10 мину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бусы №4, 11, 16, остановка «Техникум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2-я ост. от ж/д переез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дрес: 140203, Московская облас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. Воскресенск, ул. Ленинская, д.1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ЦМТОТиП.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l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mtot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@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andex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6T06:00:35Z</dcterms:created>
  <dc:creator>Анна</dc:creator>
  <dc:description/>
  <dc:language>en-US</dc:language>
  <cp:lastModifiedBy>Анна</cp:lastModifiedBy>
  <dcterms:modified xsi:type="dcterms:W3CDTF">2012-08-14T12:37:40Z</dcterms:modified>
  <cp:revision>10</cp:revision>
  <dc:subject/>
  <dc:title>Дай старт своей карьере!</dc:title>
</cp:coreProperties>
</file>