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E4E-8D9D-4376-8F11-CC33085A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1C1-DCC1-4A3C-90CE-46EAD640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F83-132A-4660-AB07-75D123C6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C69-C6DF-4CA8-8B90-A4996EA0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CA06-BAC4-460E-99F4-AC86D83D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F054-8D8C-468E-98D2-792D24F4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B26-8494-4637-9E98-3218F516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C25-56A3-4D7B-B2B4-90A7E7A3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6A58-CEAC-47D6-BDD5-95BA2DA4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1EF-DC47-4F28-B28D-7A5EC23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60E5-F3F7-4C7B-943A-3EBE752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02A-E9B6-4E0A-B9D6-917514B3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259-4C62-4224-ACAC-0133209B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E74C-3FF5-4766-9C59-A5247E4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DC2C-A74F-4AC0-A71F-946AE97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EC82-0967-45E0-848D-9D46E7A8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9880-9DE1-4DE6-869F-A56BCDC4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CFE-A4BC-4129-B602-EF0D007B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1B3-C2EA-4439-BB0A-26CD00D5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D02-086F-41DC-82C2-38FAC83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5B2-D93C-4A81-B0F2-C348B610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F54-E93B-4196-A83E-BD80C0A8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F58-E77A-4AF9-8510-48E06DC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9C8-5594-4B54-9804-F25048A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D96-0A75-41D2-AE60-0B7FC2C7CA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4D00-222A-4AFB-9F0D-BA58DFD6D2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6"/>
          <p:cNvSpPr txBox="1"/>
          <p:nvPr/>
        </p:nvSpPr>
        <p:spPr>
          <a:xfrm>
            <a:off x="971640" y="2997360"/>
            <a:ext cx="7416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вклидова геометрия и геометрия Лобачевског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2771640" y="3716280"/>
            <a:ext cx="3972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ходства и отлич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32640" y="648828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кова Ксения 7 а класс 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10"/>
          <p:cNvSpPr txBox="1"/>
          <p:nvPr/>
        </p:nvSpPr>
        <p:spPr>
          <a:xfrm>
            <a:off x="1835280" y="2205000"/>
            <a:ext cx="579096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НЕ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c0039"/>
                </a:solidFill>
                <a:latin typeface="Arial"/>
              </a:rPr>
              <a:t>Евклидова геометрия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, ок. 300 г. до н. э.) — древнегреческий математик. Мировую известность приобрёл благодаря сочинению по основам математики «Начала» (элемен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?id=77018911-13"/>
          <p:cNvPicPr/>
          <p:nvPr/>
        </p:nvPicPr>
        <p:blipFill>
          <a:blip r:embed="rId1"/>
          <a:stretch/>
        </p:blipFill>
        <p:spPr>
          <a:xfrm>
            <a:off x="2124000" y="3801960"/>
            <a:ext cx="2203560" cy="305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?id=93071225-15"/>
          <p:cNvPicPr/>
          <p:nvPr/>
        </p:nvPicPr>
        <p:blipFill>
          <a:blip r:embed="rId2"/>
          <a:stretch/>
        </p:blipFill>
        <p:spPr>
          <a:xfrm>
            <a:off x="6442200" y="3579840"/>
            <a:ext cx="270180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ились студенческие записи лекций Лобачевского (от 1817 года), где им делалась попытка доказать пятый постулат Евклида, но в рукописи учебника «Геометрия» (1823) он уже отказался от этой попытки. В «Обозрениях преподавания чистой математики» за 1822/23 и 1824/25 Лобачевский указал на «до сих пор непобедимую» трудность проблемы параллелизма и на необходимость принимать в геометрии в качестве исходных понятия, непосредственно приобретаемые из прир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 февраля 1826 года Лобачевский представил для напечатания в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сках физико-математического отдел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чинение: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жатое изложение начал геометрии со строгим доказательством теоремы о параллель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.Но издание не осуществилось. Рукопись и отзывы не сохранились, однако само сочинение было включено Лобачевским в его труд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 началах геометри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 (1829—1830), напечатанный в журнале «Казанский вестник». Это сочинение стало первой в мировой литературе серьёзной публикацией по неевклидовой геометрии, или геометрии Лобачев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бачевский считает аксиому параллельности Евклида произвольным ограничением. С его точки зрения, это требование слишком жёсткое, ограничивающее возможности теории, описывающей свойства пространства. В качестве альтернативы предлагает другую аксиому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плоскости через точку, не лежащую на данной прямой, проходит более чем одна прямая, не пересекающая данну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Разработанная Лобачевским новая геометрия не включает в себя евклидову геометрию, однако евклидова геометрия может быть из неё получена предельным переходом (при стремлении кривизны пространства к нулю). В самой геометрии Лобачевского кривизна отрицательна. Уже в первой публикации Лобачевский детально разработал тригонометрию неевклидова пространства, дифференциальную геометрию (включая вычисление длин, площадей и объёмов) и смежные аналитические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?id=50560943-12"/>
          <p:cNvPicPr/>
          <p:nvPr/>
        </p:nvPicPr>
        <p:blipFill>
          <a:blip r:embed="rId1"/>
          <a:stretch/>
        </p:blipFill>
        <p:spPr>
          <a:xfrm>
            <a:off x="2230560" y="5734080"/>
            <a:ext cx="804600" cy="112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i?id=76951600-14"/>
          <p:cNvPicPr/>
          <p:nvPr/>
        </p:nvPicPr>
        <p:blipFill>
          <a:blip r:embed="rId2"/>
          <a:stretch/>
        </p:blipFill>
        <p:spPr>
          <a:xfrm>
            <a:off x="8238960" y="5445000"/>
            <a:ext cx="9050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клидова геомет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 — геометрическая теория, основанная на аксиомах, впервые изложенной в «Началах» Евклида (III век до н. э.). «Начала состоят из 15 книг. В I книге изучаются свойства треугольников и параллелограммов; эту книгу венчает знаменитая теорема Пифагора для прямоугольных треугольников. Книга II, восходящая к пифагорейцам, посвящена так называемой «геометрической алгебре». В III и IV книгах излагается геометрия окружностей, а также вписанных и описанных многоугольников; при работе над этими книгами Евклид мог воспользоваться сочинениями Гиппократа Хиосского. В V книге вводится общая теория пропорций, построенная Евдоксом Книдским, а в VI книге она прилагается к теории подобных фигур. VII—IX книги посвящены теории чисел и восходят к пифагорейцам; автором VIII книги, возможно, был Архит Тарентский. Остальные книги связаны с алгеб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клидову геометрию называют элементарной геометр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?id=112566582-01"/>
          <p:cNvPicPr/>
          <p:nvPr/>
        </p:nvPicPr>
        <p:blipFill>
          <a:blip r:embed="rId1"/>
          <a:stretch/>
        </p:blipFill>
        <p:spPr>
          <a:xfrm>
            <a:off x="2484360" y="5084640"/>
            <a:ext cx="144792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?id=20657608-13"/>
          <p:cNvPicPr/>
          <p:nvPr/>
        </p:nvPicPr>
        <p:blipFill>
          <a:blip r:embed="rId2"/>
          <a:stretch/>
        </p:blipFill>
        <p:spPr>
          <a:xfrm>
            <a:off x="6300720" y="5156280"/>
            <a:ext cx="284328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?id=36289549-01"/>
          <p:cNvPicPr/>
          <p:nvPr/>
        </p:nvPicPr>
        <p:blipFill>
          <a:blip r:embed="rId3"/>
          <a:stretch/>
        </p:blipFill>
        <p:spPr>
          <a:xfrm>
            <a:off x="4319640" y="5084640"/>
            <a:ext cx="16905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арная геометр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определяемая в основном группой перемещений (изометрий) и группой подобия. Её изучают в средне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а полной аксиоматизации элементарной геометрии — одна 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блем геометрии, возникшая в Древней Греции в связи с критикой этой первой попытки построить полную систему аксиом так, чтобы все утверждения евклидовой геометрии следовали из этих аксиом чисто логическим выводом без наглядности черте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«Началах» Евклида были даны следующие аксио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всякой точки до всякой точки можно провести прям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ую прямую можно непрерывно продолжать по пря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прямые углы равны между со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ямая, пересекающая две прямые, образует внутренние односторонние углы, меньшие двух прямых, то, продолженные неограниченно, эти две прямые встретятся с той стороны, где углы меньше двух прям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системы аксиом Евклида во второй половине XIX века показало её неполн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i?id=127854839-01"/>
          <p:cNvPicPr/>
          <p:nvPr/>
        </p:nvPicPr>
        <p:blipFill>
          <a:blip r:embed="rId1"/>
          <a:stretch/>
        </p:blipFill>
        <p:spPr>
          <a:xfrm>
            <a:off x="2411280" y="3743280"/>
            <a:ext cx="316872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?id=53423414-01"/>
          <p:cNvPicPr/>
          <p:nvPr/>
        </p:nvPicPr>
        <p:blipFill>
          <a:blip r:embed="rId2"/>
          <a:stretch/>
        </p:blipFill>
        <p:spPr>
          <a:xfrm>
            <a:off x="5508720" y="3860640"/>
            <a:ext cx="36352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c0039"/>
                </a:solidFill>
                <a:latin typeface="Arial"/>
              </a:rPr>
              <a:t>Геометрия Лобачевского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19564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метрия Лобачевского (гиперболическая геометрия) — одна из неевклидовых геометрий, геометрическая теория, основанная на тех же основных посылках, что и обычная евклидова геометрия, за исключение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сиомы о параллель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ая заменяется на аксиому о параллельных Лобаче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клидова аксиома о параллельных глас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ит не более одной прямой, лежащей с данной прямой в одной плоскости и не пересекающей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еометрии Лобачевского, вместо неё принимается следующая аксио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о распространено заблуждение, что в геометрии Лобачевского параллельные прямые пересекаются. Геометрия Лобачевского имеет обширные применения как в математике, так и в физике. Историческое её значение состоит в том, что её построением Лобачевский показал возможность геометрии, отличной от евклидовой, что знаменовало новую эпоху в развитии геометрии, математики и науки вооб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?id=125745063-02"/>
          <p:cNvPicPr/>
          <p:nvPr/>
        </p:nvPicPr>
        <p:blipFill>
          <a:blip r:embed="rId1"/>
          <a:stretch/>
        </p:blipFill>
        <p:spPr>
          <a:xfrm>
            <a:off x="2627280" y="4797360"/>
            <a:ext cx="196848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?id=64477156-08"/>
          <p:cNvPicPr/>
          <p:nvPr/>
        </p:nvPicPr>
        <p:blipFill>
          <a:blip r:embed="rId2"/>
          <a:stretch/>
        </p:blipFill>
        <p:spPr>
          <a:xfrm>
            <a:off x="5003640" y="4830840"/>
            <a:ext cx="2046600" cy="202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?id=50245173-13"/>
          <p:cNvPicPr/>
          <p:nvPr/>
        </p:nvPicPr>
        <p:blipFill>
          <a:blip r:embed="rId3"/>
          <a:stretch/>
        </p:blipFill>
        <p:spPr>
          <a:xfrm>
            <a:off x="7191360" y="4869000"/>
            <a:ext cx="19526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4:27:54Z</dcterms:created>
  <dc:creator>Жанна</dc:creator>
  <dc:description/>
  <dc:language>en-US</dc:language>
  <cp:lastModifiedBy>K218ic</cp:lastModifiedBy>
  <dcterms:modified xsi:type="dcterms:W3CDTF">2011-01-27T09:12:42Z</dcterms:modified>
  <cp:revision>3</cp:revision>
  <dc:subject/>
  <dc:title>Геометрия Евклида и геометрия Лобачевского. Сходства и отличия</dc:title>
</cp:coreProperties>
</file>