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1902-7BB9-4881-B78E-9E4EB20B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CE5E-E6E7-461B-BDA0-DDB280E0F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2F16-A163-47BF-8448-16BE8402E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8EF7-8D72-425F-A5AB-E597D730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A8A0-2C0C-490A-8EF4-57EAC1F0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462A-5393-4E1B-AD47-084AC024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3BC58-98E3-431B-88F7-0D0D2261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C837C-7DDF-4089-A48E-71A51E2B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EC88-8863-40CB-95A7-72681BEF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58A58-100D-41D3-A1C4-02CFCBCE4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631D-2BC8-47A8-A725-F835843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8CED-12A8-4956-9196-136F7C62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BE9E-A8F1-48B2-98E8-A7FFE05D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A99AF-3D4F-4B99-8318-ED60127F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DEA0-13DE-49DD-805E-0C75281B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32C8-7FFB-4C83-984E-9F2EB4C8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56BF-4141-412B-B1A4-304B61B8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D322-590A-461D-8521-9F61936F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8AE2-C6BA-4947-8AF3-958B00468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9DE7-1674-4568-9924-A9833676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4BC3-6CE4-45A1-9859-AA70BD04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1D3-0FF6-4B96-B7F2-797E17DD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B6B3-B28C-40CD-97E2-4A7BE170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B805-A286-466D-B78D-6742B209C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5200-950E-47CB-A66F-226BF8A0B80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5B69-F2FE-470C-A7AE-40CDABA0903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6"/>
          <p:cNvSpPr txBox="1"/>
          <p:nvPr/>
        </p:nvSpPr>
        <p:spPr>
          <a:xfrm>
            <a:off x="971640" y="2997360"/>
            <a:ext cx="74167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1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вклидова геометрия и геометрия Лобачевского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7" name="WordArt 7"/>
          <p:cNvSpPr txBox="1"/>
          <p:nvPr/>
        </p:nvSpPr>
        <p:spPr>
          <a:xfrm>
            <a:off x="2771640" y="3716280"/>
            <a:ext cx="397224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ходства и отличия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Box 5"/>
          <p:cNvSpPr/>
          <p:nvPr/>
        </p:nvSpPr>
        <p:spPr>
          <a:xfrm>
            <a:off x="2132640" y="6488280"/>
            <a:ext cx="379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кова Ксения 7 а класс 2011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10"/>
          <p:cNvSpPr txBox="1"/>
          <p:nvPr/>
        </p:nvSpPr>
        <p:spPr>
          <a:xfrm>
            <a:off x="1835280" y="2205000"/>
            <a:ext cx="5790960" cy="270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КОНЕЦ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40000" y="24919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8c0039"/>
                </a:solidFill>
                <a:latin typeface="Arial"/>
              </a:rPr>
              <a:t>Евклидова геометрия</a:t>
            </a:r>
            <a:endParaRPr b="0" lang="en-US" sz="96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вкли́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, ок. 300 г. до н. э.) — древнегреческий математик. Мировую известность приобрёл благодаря сочинению по основам математики «Начала» (элементы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i?id=77018911-13"/>
          <p:cNvPicPr/>
          <p:nvPr/>
        </p:nvPicPr>
        <p:blipFill>
          <a:blip r:embed="rId1"/>
          <a:stretch/>
        </p:blipFill>
        <p:spPr>
          <a:xfrm>
            <a:off x="2124000" y="3801960"/>
            <a:ext cx="2203560" cy="3056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i?id=93071225-15"/>
          <p:cNvPicPr/>
          <p:nvPr/>
        </p:nvPicPr>
        <p:blipFill>
          <a:blip r:embed="rId2"/>
          <a:stretch/>
        </p:blipFill>
        <p:spPr>
          <a:xfrm>
            <a:off x="6442200" y="3579840"/>
            <a:ext cx="2701800" cy="327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хранились студенческие записи лекций Лобачевского (от 1817 года), где им делалась попытка доказать пятый постулат Евклида, но в рукописи учебника «Геометрия» (1823) он уже отказался от этой попытки. В «Обозрениях преподавания чистой математики» за 1822/23 и 1824/25 Лобачевский указал на «до сих пор непобедимую» трудность проблемы параллелизма и на необходимость принимать в геометрии в качестве исходных понятия, непосредственно приобретаемые из прир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7 февраля 1826 года Лобачевский представил для напечатания в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Записках физико-математического отделения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сочинение: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Сжатое изложение начал геометрии со строгим доказательством теоремы о параллельных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.Но издание не осуществилось. Рукопись и отзывы не сохранились, однако само сочинение было включено Лобачевским в его труд «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О началах геометрии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» (1829—1830), напечатанный в журнале «Казанский вестник». Это сочинение стало первой в мировой литературе серьёзной публикацией по неевклидовой геометрии, или геометрии Лобачевск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бачевский считает аксиому параллельности Евклида произвольным ограничением. С его точки зрения, это требование слишком жёсткое, ограничивающее возможности теории, описывающей свойства пространства. В качестве альтернативы предлагает другую аксиому: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на плоскости через точку, не лежащую на данной прямой, проходит более чем одна прямая, не пересекающая данную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. Разработанная Лобачевским новая геометрия не включает в себя евклидову геометрию, однако евклидова геометрия может быть из неё получена предельным переходом (при стремлении кривизны пространства к нулю). В самой геометрии Лобачевского кривизна отрицательна. Уже в первой публикации Лобачевский детально разработал тригонометрию неевклидова пространства, дифференциальную геометрию (включая вычисление длин, площадей и объёмов) и смежные аналитические вопрос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i?id=50560943-12"/>
          <p:cNvPicPr/>
          <p:nvPr/>
        </p:nvPicPr>
        <p:blipFill>
          <a:blip r:embed="rId1"/>
          <a:stretch/>
        </p:blipFill>
        <p:spPr>
          <a:xfrm>
            <a:off x="2230560" y="5734080"/>
            <a:ext cx="804600" cy="112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0" descr="i?id=76951600-14"/>
          <p:cNvPicPr/>
          <p:nvPr/>
        </p:nvPicPr>
        <p:blipFill>
          <a:blip r:embed="rId2"/>
          <a:stretch/>
        </p:blipFill>
        <p:spPr>
          <a:xfrm>
            <a:off x="8238960" y="5445000"/>
            <a:ext cx="905040" cy="141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клидова геометрия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 — геометрическая теория, основанная на аксиомах, впервые изложенной в «Началах» Евклида (III век до н. э.). «Начала состоят из 15 книг. В I книге изучаются свойства треугольников и параллелограммов; эту книгу венчает знаменитая теорема Пифагора для прямоугольных треугольников. Книга II, восходящая к пифагорейцам, посвящена так называемой «геометрической алгебре». В III и IV книгах излагается геометрия окружностей, а также вписанных и описанных многоугольников; при работе над этими книгами Евклид мог воспользоваться сочинениями Гиппократа Хиосского. В V книге вводится общая теория пропорций, построенная Евдоксом Книдским, а в VI книге она прилагается к теории подобных фигур. VII—IX книги посвящены теории чисел и восходят к пифагорейцам; автором VIII книги, возможно, был Архит Тарентский. Остальные книги связаны с алгебр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вклидову геометрию называют элементарной геометри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i?id=112566582-01"/>
          <p:cNvPicPr/>
          <p:nvPr/>
        </p:nvPicPr>
        <p:blipFill>
          <a:blip r:embed="rId1"/>
          <a:stretch/>
        </p:blipFill>
        <p:spPr>
          <a:xfrm>
            <a:off x="2484360" y="5084640"/>
            <a:ext cx="1447920" cy="1773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i?id=20657608-13"/>
          <p:cNvPicPr/>
          <p:nvPr/>
        </p:nvPicPr>
        <p:blipFill>
          <a:blip r:embed="rId2"/>
          <a:stretch/>
        </p:blipFill>
        <p:spPr>
          <a:xfrm>
            <a:off x="6300720" y="5156280"/>
            <a:ext cx="2843280" cy="1701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i?id=36289549-01"/>
          <p:cNvPicPr/>
          <p:nvPr/>
        </p:nvPicPr>
        <p:blipFill>
          <a:blip r:embed="rId3"/>
          <a:stretch/>
        </p:blipFill>
        <p:spPr>
          <a:xfrm>
            <a:off x="4319640" y="5084640"/>
            <a:ext cx="1690560" cy="17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лементарная геометр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—определяемая в основном группой перемещений (изометрий) и группой подобия. Её изучают в средней шко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12400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облема полной аксиоматизации элементарной геометрии — одна и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блем геометрии, возникшая в Древней Греции в связи с критикой этой первой попытки построить полную систему аксиом так, чтобы все утверждения евклидовой геометрии следовали из этих аксиом чисто логическим выводом без наглядности чертеж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«Началах» Евклида были даны следующие аксиом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т всякой точки до всякой точки можно провести пряму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граниченную прямую можно непрерывно продолжать по прям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се прямые углы равны между собо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сли прямая, пересекающая две прямые, образует внутренние односторонние углы, меньшие двух прямых, то, продолженные неограниченно, эти две прямые встретятся с той стороны, где углы меньше двух прямы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следование системы аксиом Евклида во второй половине XIX века показало её неполно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i?id=127854839-01"/>
          <p:cNvPicPr/>
          <p:nvPr/>
        </p:nvPicPr>
        <p:blipFill>
          <a:blip r:embed="rId1"/>
          <a:stretch/>
        </p:blipFill>
        <p:spPr>
          <a:xfrm>
            <a:off x="2411280" y="3743280"/>
            <a:ext cx="3168720" cy="3114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i?id=53423414-01"/>
          <p:cNvPicPr/>
          <p:nvPr/>
        </p:nvPicPr>
        <p:blipFill>
          <a:blip r:embed="rId2"/>
          <a:stretch/>
        </p:blipFill>
        <p:spPr>
          <a:xfrm>
            <a:off x="5508720" y="3860640"/>
            <a:ext cx="3635280" cy="299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11280" y="2349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8c0039"/>
                </a:solidFill>
                <a:latin typeface="Arial"/>
              </a:rPr>
              <a:t>Геометрия Лобачевского</a:t>
            </a:r>
            <a:endParaRPr b="0" lang="en-US" sz="7200" spc="-1" strike="noStrike">
              <a:solidFill>
                <a:srgbClr val="8c0039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195640" y="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метрия Лобачевского (гиперболическая геометрия) — одна из неевклидовых геометрий, геометрическая теория, основанная на тех же основных посылках, что и обычная евклидова геометрия, за исключением 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ксиомы о параллельных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которая заменяется на аксиому о параллельных Лобачевск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вклидова аксиома о параллельных гласи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ит не более одной прямой, лежащей с данной прямой в одной плоскости и не пересекающей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геометрии Лобачевского, вместо неё принимается следующая аксиом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Широко распространено заблуждение, что в геометрии Лобачевского параллельные прямые пересекаются. Геометрия Лобачевского имеет обширные применения как в математике, так и в физике. Историческое её значение состоит в том, что её построением Лобачевский показал возможность геометрии, отличной от евклидовой, что знаменовало новую эпоху в развитии геометрии, математики и науки вооб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i?id=125745063-02"/>
          <p:cNvPicPr/>
          <p:nvPr/>
        </p:nvPicPr>
        <p:blipFill>
          <a:blip r:embed="rId1"/>
          <a:stretch/>
        </p:blipFill>
        <p:spPr>
          <a:xfrm>
            <a:off x="2627280" y="4797360"/>
            <a:ext cx="1968480" cy="206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?id=64477156-08"/>
          <p:cNvPicPr/>
          <p:nvPr/>
        </p:nvPicPr>
        <p:blipFill>
          <a:blip r:embed="rId2"/>
          <a:stretch/>
        </p:blipFill>
        <p:spPr>
          <a:xfrm>
            <a:off x="5003640" y="4830840"/>
            <a:ext cx="2046600" cy="20271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i?id=50245173-13"/>
          <p:cNvPicPr/>
          <p:nvPr/>
        </p:nvPicPr>
        <p:blipFill>
          <a:blip r:embed="rId3"/>
          <a:stretch/>
        </p:blipFill>
        <p:spPr>
          <a:xfrm>
            <a:off x="7191360" y="4869000"/>
            <a:ext cx="1952640" cy="1989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4:27:54Z</dcterms:created>
  <dc:creator>Жанна</dc:creator>
  <dc:description/>
  <dc:language>en-US</dc:language>
  <cp:lastModifiedBy>K218ic</cp:lastModifiedBy>
  <dcterms:modified xsi:type="dcterms:W3CDTF">2011-01-27T09:12:42Z</dcterms:modified>
  <cp:revision>3</cp:revision>
  <dc:subject/>
  <dc:title>Геометрия Евклида и геометрия Лобачевского. Сходства и отличия</dc:title>
</cp:coreProperties>
</file>