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61F-3303-4C6A-B4A1-8EC72BFC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776-93CC-40A6-A763-87028E36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C9F-D3AF-4599-AAA2-85BEC282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6D0-5AA9-4D73-8AA6-AE039051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DB82-58FA-4482-99A2-A6746C9F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F189-D913-41D3-9175-7C7733BC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22B2-278E-45CE-B2DC-F8120641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9BB6-69C9-4304-923C-5DECA8E0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956-4E6E-4D65-AF5D-01D28D4A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34CD-04A9-4399-9274-E9EE9095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81FF-94A7-42C5-9698-49BD38D0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5E3-4EA5-4CB1-BE46-E8E8E77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3410-A6E6-407B-B2AB-C29806C4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90BD-A564-4E5C-86C9-96E53F5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4D30-036C-46EF-B425-B99B5792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880C-2EDC-4311-99EB-DD3AAB22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0C34-2D34-4AED-8624-AFD91ED8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E0D-A280-4673-A195-D1025719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FC4-035D-4C37-864A-2A9447A6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B33-92C9-4A52-92E8-0F39554F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489-2576-4EC9-9A10-A56F82C3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D99-A15B-49C6-8A3C-612C491D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F5C-FA99-43BB-B0FC-DC00CBC8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29C-908D-4AA9-9C0C-0A5042A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EF6-3271-46CE-9A38-8D569894C8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7756-2691-4687-B4D6-CED8B5B916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6"/>
          <p:cNvSpPr txBox="1"/>
          <p:nvPr/>
        </p:nvSpPr>
        <p:spPr>
          <a:xfrm>
            <a:off x="971640" y="2997360"/>
            <a:ext cx="7416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вклидова геометрия и геометрия Лобачевског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2771640" y="3716280"/>
            <a:ext cx="3972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ходства и отлич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132640" y="6488280"/>
            <a:ext cx="37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кова Ксения 7 а класс 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10"/>
          <p:cNvSpPr txBox="1"/>
          <p:nvPr/>
        </p:nvSpPr>
        <p:spPr>
          <a:xfrm>
            <a:off x="1835280" y="2205000"/>
            <a:ext cx="579096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НЕЦ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c0039"/>
                </a:solidFill>
                <a:latin typeface="Arial"/>
              </a:rPr>
              <a:t>Евклидова геометрия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кли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кли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, ок. 300 г. до н. э.) — древнегреческий математик. Мировую известность приобрёл благодаря сочинению по основам математики «Начала» (элемент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?id=77018911-13"/>
          <p:cNvPicPr/>
          <p:nvPr/>
        </p:nvPicPr>
        <p:blipFill>
          <a:blip r:embed="rId1"/>
          <a:stretch/>
        </p:blipFill>
        <p:spPr>
          <a:xfrm>
            <a:off x="2124000" y="3801960"/>
            <a:ext cx="2203560" cy="305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?id=93071225-15"/>
          <p:cNvPicPr/>
          <p:nvPr/>
        </p:nvPicPr>
        <p:blipFill>
          <a:blip r:embed="rId2"/>
          <a:stretch/>
        </p:blipFill>
        <p:spPr>
          <a:xfrm>
            <a:off x="6442200" y="3579840"/>
            <a:ext cx="270180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хранились студенческие записи лекций Лобачевского (от 1817 года), где им делалась попытка доказать пятый постулат Евклида, но в рукописи учебника «Геометрия» (1823) он уже отказался от этой попытки. В «Обозрениях преподавания чистой математики» за 1822/23 и 1824/25 Лобачевский указал на «до сих пор непобедимую» трудность проблемы параллелизма и на необходимость принимать в геометрии в качестве исходных понятия, непосредственно приобретаемые из прир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 февраля 1826 года Лобачевский представил для напечатания в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писках физико-математического отдел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очинение: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жатое изложение начал геометрии со строгим доказательством теоремы о параллельн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.Но издание не осуществилось. Рукопись и отзывы не сохранились, однако само сочинение было включено Лобачевским в его труд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 началах геометри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 (1829—1830), напечатанный в журнале «Казанский вестник». Это сочинение стало первой в мировой литературе серьёзной публикацией по неевклидовой геометрии, или геометрии Лобачевск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бачевский считает аксиому параллельности Евклида произвольным ограничением. С его точки зрения, это требование слишком жёсткое, ограничивающее возможности теории, описывающей свойства пространства. В качестве альтернативы предлагает другую аксиому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 плоскости через точку, не лежащую на данной прямой, проходит более чем одна прямая, не пересекающая данную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Разработанная Лобачевским новая геометрия не включает в себя евклидову геометрию, однако евклидова геометрия может быть из неё получена предельным переходом (при стремлении кривизны пространства к нулю). В самой геометрии Лобачевского кривизна отрицательна. Уже в первой публикации Лобачевский детально разработал тригонометрию неевклидова пространства, дифференциальную геометрию (включая вычисление длин, площадей и объёмов) и смежные аналитические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i?id=50560943-12"/>
          <p:cNvPicPr/>
          <p:nvPr/>
        </p:nvPicPr>
        <p:blipFill>
          <a:blip r:embed="rId1"/>
          <a:stretch/>
        </p:blipFill>
        <p:spPr>
          <a:xfrm>
            <a:off x="2230560" y="5734080"/>
            <a:ext cx="804600" cy="112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i?id=76951600-14"/>
          <p:cNvPicPr/>
          <p:nvPr/>
        </p:nvPicPr>
        <p:blipFill>
          <a:blip r:embed="rId2"/>
          <a:stretch/>
        </p:blipFill>
        <p:spPr>
          <a:xfrm>
            <a:off x="8238960" y="5445000"/>
            <a:ext cx="9050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клидова геомет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 — геометрическая теория, основанная на аксиомах, впервые изложенной в «Началах» Евклида (III век до н. э.). «Начала состоят из 15 книг. В I книге изучаются свойства треугольников и параллелограммов; эту книгу венчает знаменитая теорема Пифагора для прямоугольных треугольников. Книга II, восходящая к пифагорейцам, посвящена так называемой «геометрической алгебре». В III и IV книгах излагается геометрия окружностей, а также вписанных и описанных многоугольников; при работе над этими книгами Евклид мог воспользоваться сочинениями Гиппократа Хиосского. В V книге вводится общая теория пропорций, построенная Евдоксом Книдским, а в VI книге она прилагается к теории подобных фигур. VII—IX книги посвящены теории чисел и восходят к пифагорейцам; автором VIII книги, возможно, был Архит Тарентский. Остальные книги связаны с алгеб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клидову геометрию называют элементарной геометр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?id=112566582-01"/>
          <p:cNvPicPr/>
          <p:nvPr/>
        </p:nvPicPr>
        <p:blipFill>
          <a:blip r:embed="rId1"/>
          <a:stretch/>
        </p:blipFill>
        <p:spPr>
          <a:xfrm>
            <a:off x="2484360" y="5084640"/>
            <a:ext cx="1447920" cy="177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?id=20657608-13"/>
          <p:cNvPicPr/>
          <p:nvPr/>
        </p:nvPicPr>
        <p:blipFill>
          <a:blip r:embed="rId2"/>
          <a:stretch/>
        </p:blipFill>
        <p:spPr>
          <a:xfrm>
            <a:off x="6300720" y="5156280"/>
            <a:ext cx="2843280" cy="170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?id=36289549-01"/>
          <p:cNvPicPr/>
          <p:nvPr/>
        </p:nvPicPr>
        <p:blipFill>
          <a:blip r:embed="rId3"/>
          <a:stretch/>
        </p:blipFill>
        <p:spPr>
          <a:xfrm>
            <a:off x="4319640" y="5084640"/>
            <a:ext cx="16905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арная геометр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определяемая в основном группой перемещений (изометрий) и группой подобия. Её изучают в средне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а полной аксиоматизации элементарной геометрии — одна и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блем геометрии, возникшая в Древней Греции в связи с критикой этой первой попытки построить полную систему аксиом так, чтобы все утверждения евклидовой геометрии следовали из этих аксиом чисто логическим выводом без наглядности черте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«Началах» Евклида были даны следующие аксио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всякой точки до всякой точки можно провести пряму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ную прямую можно непрерывно продолжать по пря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прямые углы равны между со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ямая, пересекающая две прямые, образует внутренние односторонние углы, меньшие двух прямых, то, продолженные неограниченно, эти две прямые встретятся с той стороны, где углы меньше двух прям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системы аксиом Евклида во второй половине XIX века показало её неполн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i?id=127854839-01"/>
          <p:cNvPicPr/>
          <p:nvPr/>
        </p:nvPicPr>
        <p:blipFill>
          <a:blip r:embed="rId1"/>
          <a:stretch/>
        </p:blipFill>
        <p:spPr>
          <a:xfrm>
            <a:off x="2411280" y="3743280"/>
            <a:ext cx="316872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?id=53423414-01"/>
          <p:cNvPicPr/>
          <p:nvPr/>
        </p:nvPicPr>
        <p:blipFill>
          <a:blip r:embed="rId2"/>
          <a:stretch/>
        </p:blipFill>
        <p:spPr>
          <a:xfrm>
            <a:off x="5508720" y="3860640"/>
            <a:ext cx="363528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2349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c0039"/>
                </a:solidFill>
                <a:latin typeface="Arial"/>
              </a:rPr>
              <a:t>Геометрия Лобачевского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19564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ометрия Лобачевского (гиперболическая геометрия) — одна из неевклидовых геометрий, геометрическая теория, основанная на тех же основных посылках, что и обычная евклидова геометрия, за исключением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сиомы о параллель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которая заменяется на аксиому о параллельных Лобачев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клидова аксиома о параллельных глас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з точку, не лежащую на данной прямой, проходит не более одной прямой, лежащей с данной прямой в одной плоскости и не пересекающей 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еометрии Лобачевского, вместо неё принимается следующая аксио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роко распространено заблуждение, что в геометрии Лобачевского параллельные прямые пересекаются. Геометрия Лобачевского имеет обширные применения как в математике, так и в физике. Историческое её значение состоит в том, что её построением Лобачевский показал возможность геометрии, отличной от евклидовой, что знаменовало новую эпоху в развитии геометрии, математики и науки вооб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i?id=125745063-02"/>
          <p:cNvPicPr/>
          <p:nvPr/>
        </p:nvPicPr>
        <p:blipFill>
          <a:blip r:embed="rId1"/>
          <a:stretch/>
        </p:blipFill>
        <p:spPr>
          <a:xfrm>
            <a:off x="2627280" y="4797360"/>
            <a:ext cx="196848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?id=64477156-08"/>
          <p:cNvPicPr/>
          <p:nvPr/>
        </p:nvPicPr>
        <p:blipFill>
          <a:blip r:embed="rId2"/>
          <a:stretch/>
        </p:blipFill>
        <p:spPr>
          <a:xfrm>
            <a:off x="5003640" y="4830840"/>
            <a:ext cx="2046600" cy="202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?id=50245173-13"/>
          <p:cNvPicPr/>
          <p:nvPr/>
        </p:nvPicPr>
        <p:blipFill>
          <a:blip r:embed="rId3"/>
          <a:stretch/>
        </p:blipFill>
        <p:spPr>
          <a:xfrm>
            <a:off x="7191360" y="4869000"/>
            <a:ext cx="19526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4:27:54Z</dcterms:created>
  <dc:creator>Жанна</dc:creator>
  <dc:description/>
  <dc:language>en-US</dc:language>
  <cp:lastModifiedBy>K218ic</cp:lastModifiedBy>
  <dcterms:modified xsi:type="dcterms:W3CDTF">2011-01-27T09:12:42Z</dcterms:modified>
  <cp:revision>3</cp:revision>
  <dc:subject/>
  <dc:title>Геометрия Евклида и геометрия Лобачевского. Сходства и отличия</dc:title>
</cp:coreProperties>
</file>