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23.jpeg" ContentType="image/jpeg"/>
  <Override PartName="/ppt/media/image12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10.gif" ContentType="image/gif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29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4954-1806-44DB-BB04-0DCE21DD2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3B5-8282-4587-9999-9C0018199E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844-472F-4D7C-996A-EB6F5D5FF2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D1F-ACD2-4FF7-B882-D33534A89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c91b"/>
                </a:solidFill>
                <a:latin typeface="Arial"/>
              </a:rPr>
              <a:t>Лечение остр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EA8-5853-4390-A0DE-A06938D3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4F1-454C-42B0-8097-0F6AB44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D9A-4600-43AF-A904-17DB41B4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D40-4221-493A-957C-AB6E4EC2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CF4F-F289-4963-B623-A154E501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B38-782B-44D0-AB0A-ACF9FA7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F65-2AAC-4787-8F7D-A86BACDF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8BD-5243-49F3-8AA5-A4383921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33EC-BFED-4823-8BEE-7D6F21B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0AA-9C09-4B2F-B5C0-F7B6EA7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A4E-E308-4D42-8F90-5A45899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DCE-5CB3-4F12-996A-CD2EB420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168E-3BB3-479D-BDC5-A83EEDD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5E7E-D045-49FB-86DD-9620F83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D2B-9A86-4335-9EC6-418CDF9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4CC-64F2-4934-8926-BD57047D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F23-8AFA-470B-8EF6-96EF5074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409-C9EB-4699-80B6-44C6E116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513-BBD1-4656-83D3-4AEA91A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E45-D2EF-4139-8C90-4E45486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AEE-144A-42CF-8241-3C8840B8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A55-0D72-4EDF-B21D-724A0C9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971-73F3-40C6-BB25-3A92E17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499-FE4C-48A8-9F21-413F9FC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C45B-CA25-4F8A-B428-D92FDC197A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7E7-4C0F-46E4-A48F-1CDEC2B8A2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1.jpeg"/><Relationship Id="rId6" Type="http://schemas.openxmlformats.org/officeDocument/2006/relationships/image" Target="../media/image41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457200" y="287280"/>
            <a:ext cx="822960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ec91b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ганизация работы с родителями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6ec91b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334120" y="2818800"/>
            <a:ext cx="358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ОД «ЦДО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w106"/>
          <p:cNvPicPr/>
          <p:nvPr/>
        </p:nvPicPr>
        <p:blipFill>
          <a:blip r:embed="rId1"/>
          <a:stretch/>
        </p:blipFill>
        <p:spPr>
          <a:xfrm>
            <a:off x="304920" y="2797200"/>
            <a:ext cx="3011400" cy="23558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7">
            <a:hlinkClick r:id="rId2"/>
          </p:cNvPr>
          <p:cNvSpPr/>
          <p:nvPr/>
        </p:nvSpPr>
        <p:spPr>
          <a:xfrm>
            <a:off x="3886200" y="6172200"/>
            <a:ext cx="13460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г. Ур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2012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410080" y="441972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удии мультиплик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 Мир руками дет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масова Эльмира Раси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854280" y="165960"/>
            <a:ext cx="6069240" cy="6334200"/>
            <a:chOff x="854280" y="165960"/>
            <a:chExt cx="6069240" cy="6334200"/>
          </a:xfrm>
        </p:grpSpPr>
        <p:sp>
          <p:nvSpPr>
            <p:cNvPr id="170" name="_s54276"/>
            <p:cNvSpPr/>
            <p:nvPr/>
          </p:nvSpPr>
          <p:spPr>
            <a:xfrm flipH="1" flipV="1">
              <a:off x="2810520" y="2210040"/>
              <a:ext cx="53820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54277"/>
            <p:cNvSpPr/>
            <p:nvPr/>
          </p:nvSpPr>
          <p:spPr>
            <a:xfrm>
              <a:off x="1519920" y="862920"/>
              <a:ext cx="151596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МОТРЫ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КУРС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4278"/>
            <p:cNvSpPr/>
            <p:nvPr/>
          </p:nvSpPr>
          <p:spPr>
            <a:xfrm flipH="1">
              <a:off x="2365200" y="3332160"/>
              <a:ext cx="76356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54279"/>
            <p:cNvSpPr/>
            <p:nvPr/>
          </p:nvSpPr>
          <p:spPr>
            <a:xfrm>
              <a:off x="854280" y="2541960"/>
              <a:ext cx="151596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УДОВ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ЕЯТЕЛЬНОСТЬ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4280"/>
            <p:cNvSpPr/>
            <p:nvPr/>
          </p:nvSpPr>
          <p:spPr>
            <a:xfrm flipH="1">
              <a:off x="2810880" y="3891960"/>
              <a:ext cx="540720" cy="561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54281"/>
            <p:cNvSpPr/>
            <p:nvPr/>
          </p:nvSpPr>
          <p:spPr>
            <a:xfrm>
              <a:off x="1519920" y="4221720"/>
              <a:ext cx="151596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ЭКСКУРС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54282"/>
            <p:cNvSpPr/>
            <p:nvPr/>
          </p:nvSpPr>
          <p:spPr>
            <a:xfrm>
              <a:off x="3885480" y="4121640"/>
              <a:ext cx="1800" cy="79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54283"/>
            <p:cNvSpPr/>
            <p:nvPr/>
          </p:nvSpPr>
          <p:spPr>
            <a:xfrm>
              <a:off x="3129120" y="491868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АМОСТОЯТЕЛЬН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54284"/>
            <p:cNvSpPr/>
            <p:nvPr/>
          </p:nvSpPr>
          <p:spPr>
            <a:xfrm>
              <a:off x="4421880" y="3889080"/>
              <a:ext cx="53820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54285"/>
            <p:cNvSpPr/>
            <p:nvPr/>
          </p:nvSpPr>
          <p:spPr>
            <a:xfrm>
              <a:off x="4740120" y="422388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ЗДНИ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54286"/>
            <p:cNvSpPr/>
            <p:nvPr/>
          </p:nvSpPr>
          <p:spPr>
            <a:xfrm>
              <a:off x="4642200" y="3332160"/>
              <a:ext cx="763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54287"/>
            <p:cNvSpPr/>
            <p:nvPr/>
          </p:nvSpPr>
          <p:spPr>
            <a:xfrm>
              <a:off x="5408280" y="2541960"/>
              <a:ext cx="1515240" cy="1582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РУЖКОВ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54288"/>
            <p:cNvSpPr/>
            <p:nvPr/>
          </p:nvSpPr>
          <p:spPr>
            <a:xfrm flipV="1">
              <a:off x="4419360" y="2210040"/>
              <a:ext cx="54072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54289"/>
            <p:cNvSpPr/>
            <p:nvPr/>
          </p:nvSpPr>
          <p:spPr>
            <a:xfrm>
              <a:off x="4740120" y="86076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ИГ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54290"/>
            <p:cNvSpPr/>
            <p:nvPr/>
          </p:nvSpPr>
          <p:spPr>
            <a:xfrm flipV="1">
              <a:off x="3885480" y="1745280"/>
              <a:ext cx="0" cy="798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54291"/>
            <p:cNvSpPr/>
            <p:nvPr/>
          </p:nvSpPr>
          <p:spPr>
            <a:xfrm>
              <a:off x="3129120" y="165960"/>
              <a:ext cx="1515240" cy="158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ЗАНЯТ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54292"/>
            <p:cNvSpPr/>
            <p:nvPr/>
          </p:nvSpPr>
          <p:spPr>
            <a:xfrm>
              <a:off x="3129120" y="2544840"/>
              <a:ext cx="1515240" cy="1581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ФОРМ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деть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05720" y="4037040"/>
            <a:ext cx="228600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324480" y="152280"/>
            <a:ext cx="26766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Основные    направления  деятельности педагогов и родителей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навательная сфера жизн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держка физического здоровь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чащихс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полнительное образование детей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творческого потенциала дет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держка одаренных дете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циальная поддержка и профилакт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знадзор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бота школы и семь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Раздел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ec91b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бота с родителями учащихся начальной шко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Работа с родителями учащихся 5 классов (адаптация перехода в основную школу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Работа с родителями учащихся основной школы (6 – 8 класс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Работа с родителями учащихся старших и выпускных кла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3" descr="o1"/>
          <p:cNvPicPr/>
          <p:nvPr/>
        </p:nvPicPr>
        <p:blipFill>
          <a:blip r:embed="rId1"/>
          <a:stretch/>
        </p:blipFill>
        <p:spPr>
          <a:xfrm>
            <a:off x="6553080" y="45720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Функции  взаимодействия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центра и родителе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итательно – развива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хранно – оздоровите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тро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формацион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ытов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Этапы работы с родителями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эта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ежегодно в начале учебного года проводится обследование родительского контингента  и анализируется  его состав. Составляется социальный паспорт груп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эта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выявление семей, находящихся в социально опасном положении и детей, имеющих те или иные проблемы психологического п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эта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анализ полученных данных и составление базы данных для составления  плана взаимодействия педагогов с родителями на текущий го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Осуществление психологической поддержки и коррекции детско – родительских отношений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яют  три группы родителе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группа:  родители – помощники в воспитательной работе с детьми. Они добросовестны, активны, заинтересованны и готовы  в   любую минуту прийти на помощ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торая группа: родители – потенциальные помощники в воспитании детей. Они  будут помогать, если будут знать,  что и как надо дел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тья группа: родители не понимают или не хотят понимать требований школы в учебно – воспитательной работе. Они отрицательно относятся к школе, к учителям, проявляя это  реже – открыто, чаще -  скры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ормы профилактической работ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филактическая, разъяснительная рабо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вопросы здоровья, учебы, занятости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видуальная воспитательная рабо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явление проблемных семей де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рекционная работа с ними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щита прав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глашение на заседания родительского комитета, административного совета, совет профилак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щения в общественные организации города – в  комиссию по делам несовершеннолетних, в суд   (вплоть до лишения родительских пра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Методы изучения семь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гности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нсультация, тренин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блюде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сед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стирование и анкетирова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чинение  как метод изучения семь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тод обобщения независимых характеристи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дагогическая гости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учение семь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ставление характеристик семей обучаю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рганизация диагностической работы по изучению сем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рганизация психолого-педагогического просвещения родит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е системы массовых мероприятий с родите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ыявление и использование в практической деятельности позитивного опыта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недрение в семейное воспитание традиций педагог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казание помощи родителям в формировании нравственного образа жизни семьи, в профилактике и диагностике наркомании, в предупреждении других негативных проявлений у детей и подрост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формационно-педагогические материалы, выставки    детских рабо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ъединение усилий педагога и родителя в совместной деятельности по воспитанию и развитию ребенк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явление понимания, терпимости и такта в воспитании и обучении ребенк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тремление учитывать его интересы, не игнорируя чувства и эмоци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ительные взаимоотношения семьи и образовательного учреждения – Центра дополнительного образования детей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бы узнать ребёнка,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до хорошо узнать его семью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В.А. Сухомлин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8769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Содержание и формы работы с родителя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вышение психолого – педагогических знаний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влечение родителей в учебно – воспитательный процес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астие родителей в досуговой деятельности цент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Формы взаимодействия педагогов и родителе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деляю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дивидуальные и коллектив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радиционные и нетрадиционны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Формы работы с родителям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диционные форм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лективные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Родительское собра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бщешкольная конференц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одительский лектор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ечер для родителе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одительские чт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емин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актику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седа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«Круглый стол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«Педагогическая гостиная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«Устный журнал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ренин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портивные соревн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Акция «Милосердие»Акция «Книжка», «Игрушка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рудовой деса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убботни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ворчески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онцер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став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ернисаж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етрадиционные форм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ндивидуальные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ворческие де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емейные тради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тория моей семь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алисман семьи. Гороскоп семь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емейная книга рекор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еографическая карта моей родословн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Долгожитель» семьи ( книга, игрушк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День рождения в семь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аздники семь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емейные увлеч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«Четыре способа обрадовать маму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абушкины пироги (выражения, страшилки, игры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ой семейный аль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звестные люди семь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апа может все, что угод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ш дом театр, музей, оранжерея…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есни (сказки) моей бабуш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амое ласковое мамино сло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ое любимое блюд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Я горжусь своим дедом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онкурс на самые интересные мамины нотации и нравоуч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Результаты диагностики эффективности деятельности руководителя в работе с родителями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за 2011-2012 год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380880" y="2362320"/>
          <a:ext cx="793440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793440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-33480"/>
            <a:ext cx="815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6ec91b"/>
              </a:solidFill>
              <a:uFillTx/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данным диаграммы видно, что наиболее эффективной деятельностью руководителей центра явля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ебно – познаватель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сугов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портивно - оздоровитель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нее эффективна работа с родителями и детьми в направления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ов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енно – патриотическ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родоохранн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6172200" y="4503600"/>
            <a:ext cx="29718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Проект решени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комендации к роди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существлять повышение психолого – педагогических знаний родителей, через   использование различных форм сотрудничества с родите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Вовлечение родителей в учебно – воспитательный процесс  и организация совместной деятельности детей, педагогов и родит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Классным руководителям активизировать работу с родителями, используя новые   пути  привлечения родителей  к сотруднич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Рекомендации 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Запланировать и провести заседания род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тема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оенно – патриотическое воспитание учащихся в центре.   Формы и   методы работы с детьми и родител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ртивно – оздоровительное направление в работе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доохранное направление в работе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58006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овместные мероприятия в 2011- 2012 учебном год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682640"/>
            <a:ext cx="7815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следовательский проект «Мы за здоровый образ жизни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689200" cy="4038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52388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733920" y="19051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езонные экскурсии в природу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3840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791320" y="3048120"/>
            <a:ext cx="310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здание оптимальных условий функционирования и совершенствования сотрудничества в организации работы с родител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ъединение усилий педагогического коллектива и родителей в развитии ребенка как лич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ещ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4406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50292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ни здоровья («папа, мама, я – спортивная семья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172200" cy="4628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518148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rot="1376400">
            <a:off x="5867280" y="1676160"/>
            <a:ext cx="3124440" cy="2090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52280" y="4532400"/>
            <a:ext cx="3733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нкурс семейных газет « моя родословная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953240" cy="302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049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819760" y="1295280"/>
            <a:ext cx="3324240" cy="2494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486400" y="3176640"/>
            <a:ext cx="3081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23274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сещения музея, кино.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505320" cy="2341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235320" cy="24256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32004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ни рожд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4496040" cy="3192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5229360" cy="3483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286000" y="3600360"/>
            <a:ext cx="4876920" cy="325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284720" y="3235320"/>
            <a:ext cx="57636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4284720" y="3235320"/>
            <a:ext cx="57636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4284720" y="3235320"/>
            <a:ext cx="57636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4284720" y="3235320"/>
            <a:ext cx="5763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668840" cy="472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981080" y="0"/>
            <a:ext cx="48769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ем больше мы общаемся с родителями, а родители и дети  с педагогами …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ем успешнее и образование будет ваш ребенок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51134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собствовать формированию теоретических представлений у педагогов о возможностях и условиях использования различных методов, новых форм и технологий в работе с родител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я совместной деятельности администрации, педагогов и родителей в воспитании де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изация работы с родителями, поиск новых путей привлечения семьи к участию в учебно – воспитательном процессе цен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533520"/>
            <a:ext cx="883944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ганизовать совместные мероприятия с родителя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6200" y="228600"/>
            <a:ext cx="120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-4530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ЗАДАЧА </a:t>
            </a:r>
            <a:r>
              <a:rPr b="0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явление и реализация потребностей родителей в педагогических знан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становление контакта с родителями для более близкого знакомства с особенностями семейного воспитания и активизации их в жизни Центра творч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952880" y="4083120"/>
            <a:ext cx="419112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4076640"/>
            <a:ext cx="4200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ЗАДАЧА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здать условия для совмест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6181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ЗАДАЧА </a:t>
            </a:r>
            <a:r>
              <a:rPr b="0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ниторинг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результат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овместной деятельности учителей, родител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6484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066680" y="228600"/>
            <a:ext cx="7418880" cy="5700240"/>
            <a:chOff x="1066680" y="228600"/>
            <a:chExt cx="7418880" cy="5700240"/>
          </a:xfrm>
        </p:grpSpPr>
        <p:cxnSp>
          <p:nvCxnSpPr>
            <p:cNvPr id="152" name="_s55300"/>
            <p:cNvCxnSpPr>
              <a:stCxn id="153" idx="1"/>
              <a:endCxn id="154" idx="2"/>
            </p:cNvCxnSpPr>
            <p:nvPr/>
          </p:nvCxnSpPr>
          <p:spPr>
            <a:xfrm rot="10800000">
              <a:off x="4775400" y="1090080"/>
              <a:ext cx="493920" cy="443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55301"/>
            <p:cNvCxnSpPr>
              <a:stCxn id="156" idx="3"/>
              <a:endCxn id="154" idx="2"/>
            </p:cNvCxnSpPr>
            <p:nvPr/>
          </p:nvCxnSpPr>
          <p:spPr>
            <a:xfrm flipV="1">
              <a:off x="4283640" y="1090080"/>
              <a:ext cx="492840" cy="443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55302"/>
            <p:cNvCxnSpPr>
              <a:stCxn id="158" idx="1"/>
              <a:endCxn id="154" idx="2"/>
            </p:cNvCxnSpPr>
            <p:nvPr/>
          </p:nvCxnSpPr>
          <p:spPr>
            <a:xfrm rot="10800000">
              <a:off x="4775400" y="1090080"/>
              <a:ext cx="493920" cy="3209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55303"/>
            <p:cNvCxnSpPr>
              <a:stCxn id="160" idx="3"/>
              <a:endCxn id="154" idx="2"/>
            </p:cNvCxnSpPr>
            <p:nvPr/>
          </p:nvCxnSpPr>
          <p:spPr>
            <a:xfrm flipV="1">
              <a:off x="4283640" y="1090440"/>
              <a:ext cx="492840" cy="3209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55304"/>
            <p:cNvCxnSpPr>
              <a:stCxn id="162" idx="1"/>
              <a:endCxn id="154" idx="2"/>
            </p:cNvCxnSpPr>
            <p:nvPr/>
          </p:nvCxnSpPr>
          <p:spPr>
            <a:xfrm rot="10800000">
              <a:off x="4775400" y="1090080"/>
              <a:ext cx="493920" cy="198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55305"/>
            <p:cNvCxnSpPr>
              <a:stCxn id="164" idx="3"/>
              <a:endCxn id="154" idx="2"/>
            </p:cNvCxnSpPr>
            <p:nvPr/>
          </p:nvCxnSpPr>
          <p:spPr>
            <a:xfrm flipV="1">
              <a:off x="4283640" y="1090440"/>
              <a:ext cx="492840" cy="198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55306"/>
            <p:cNvCxnSpPr>
              <a:stCxn id="166" idx="1"/>
              <a:endCxn id="154" idx="2"/>
            </p:cNvCxnSpPr>
            <p:nvPr/>
          </p:nvCxnSpPr>
          <p:spPr>
            <a:xfrm rot="10800000">
              <a:off x="4775400" y="1090080"/>
              <a:ext cx="493920" cy="766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5307"/>
            <p:cNvCxnSpPr>
              <a:stCxn id="168" idx="3"/>
              <a:endCxn id="154" idx="2"/>
            </p:cNvCxnSpPr>
            <p:nvPr/>
          </p:nvCxnSpPr>
          <p:spPr>
            <a:xfrm flipV="1">
              <a:off x="4283640" y="1090440"/>
              <a:ext cx="492840" cy="766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4" name="_s55308"/>
            <p:cNvSpPr/>
            <p:nvPr/>
          </p:nvSpPr>
          <p:spPr>
            <a:xfrm>
              <a:off x="3186360" y="22860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ФОРМЫ РАБО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С   РОДИТЕЛЯ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5309"/>
            <p:cNvSpPr/>
            <p:nvPr/>
          </p:nvSpPr>
          <p:spPr>
            <a:xfrm>
              <a:off x="1066680" y="145008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АНКЕТИРОВА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5310"/>
            <p:cNvSpPr/>
            <p:nvPr/>
          </p:nvSpPr>
          <p:spPr>
            <a:xfrm>
              <a:off x="5306040" y="145008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КОНСУЛЬТАЦИ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55311"/>
            <p:cNvSpPr/>
            <p:nvPr/>
          </p:nvSpPr>
          <p:spPr>
            <a:xfrm>
              <a:off x="1066680" y="267156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ВЫСТАВК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55312"/>
            <p:cNvSpPr/>
            <p:nvPr/>
          </p:nvSpPr>
          <p:spPr>
            <a:xfrm>
              <a:off x="5306040" y="267156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БЕСЕД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55313"/>
            <p:cNvSpPr/>
            <p:nvPr/>
          </p:nvSpPr>
          <p:spPr>
            <a:xfrm>
              <a:off x="1066680" y="389304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КОНКУРС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55314"/>
            <p:cNvSpPr/>
            <p:nvPr/>
          </p:nvSpPr>
          <p:spPr>
            <a:xfrm>
              <a:off x="5306040" y="3893040"/>
              <a:ext cx="317628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РОДИТЕЛЬСК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СОБРА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55315"/>
            <p:cNvSpPr/>
            <p:nvPr/>
          </p:nvSpPr>
          <p:spPr>
            <a:xfrm>
              <a:off x="1066680" y="5114520"/>
              <a:ext cx="317952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ЭКСКУРСИ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55316"/>
            <p:cNvSpPr/>
            <p:nvPr/>
          </p:nvSpPr>
          <p:spPr>
            <a:xfrm>
              <a:off x="5306040" y="5114520"/>
              <a:ext cx="3176280" cy="814320"/>
            </a:xfrm>
            <a:prstGeom prst="rect">
              <a:avLst/>
            </a:prstGeom>
            <a:solidFill>
              <a:srgbClr val="993300"/>
            </a:solidFill>
            <a:ln w="7632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СОВМЕС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ПРАЗДНИК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зюмова</cp:lastModifiedBy>
  <dcterms:modified xsi:type="dcterms:W3CDTF">2012-11-14T11:34:3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