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78AA-D7EF-48A3-9994-7544CA1E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5C06-6AD4-479D-878F-A472C104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A18-B710-42A3-AD1C-B5998A6C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429B-7195-423A-BFC5-071673E6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D695-BD7B-4E63-AB9F-77516AEA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6D34-4440-44FF-A4A0-43AEA290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4908-4358-4B26-93F2-CFDC6811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CE09-35CD-4D8C-8A44-8ACBD9DD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30D4-AFC1-4DE6-8056-774BC586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E906-97A6-414B-99F9-DFFBC95D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B900-9B9D-48CC-9448-4A64700A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554-309E-442A-9972-58AB405A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E5F8-2464-4457-B1B0-15759B07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0F00-72E5-4E45-A076-61318CEE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AC22-B1E6-4FCC-9686-A9842C22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FED2-E4CE-4892-9D99-A0D16557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E322-C4D8-4E65-9CC4-ED5B3B10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0C64-3970-4154-AE17-6E657927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9FA9-893C-4F18-8631-996394A5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6EA-EDB6-411F-BD0B-81606E06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C324-3273-423A-A059-E2BB3163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3E7-F186-4A73-B930-DBBB2F8F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E2FC-1D8A-41D2-B24B-DCE052DE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5202-6C43-4CC3-83C4-3F28F692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9A4C-B78A-4AB9-934C-596A0A306F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490A-366A-4512-A663-95877789A214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2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Kate Elizabeth Winslet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4267080"/>
            <a:ext cx="7386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кейт1"/>
          <p:cNvPicPr/>
          <p:nvPr/>
        </p:nvPicPr>
        <p:blipFill>
          <a:blip r:embed="rId1"/>
          <a:stretch/>
        </p:blipFill>
        <p:spPr>
          <a:xfrm>
            <a:off x="466560" y="1219320"/>
            <a:ext cx="3205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025520" y="1981080"/>
            <a:ext cx="3624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Kate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’s birthday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s on the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5</a:t>
            </a:r>
            <a:r>
              <a:rPr b="0" lang="en-US" sz="2800" spc="-1" strike="noStrike" baseline="30000">
                <a:solidFill>
                  <a:srgbClr val="2f1311"/>
                </a:solidFill>
                <a:latin typeface="Arial"/>
              </a:rPr>
              <a:t>th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f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October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1975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 She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is an English actress and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singer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3" descr="кейт3"/>
          <p:cNvPicPr/>
          <p:nvPr/>
        </p:nvPicPr>
        <p:blipFill>
          <a:blip r:embed="rId1"/>
          <a:stretch/>
        </p:blipFill>
        <p:spPr>
          <a:xfrm>
            <a:off x="457200" y="1219320"/>
            <a:ext cx="3181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025520" y="990360"/>
            <a:ext cx="362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inslet is the middle of three daughters of Sally Anne and Roger John Winslet. Her mother was a barmaid. Her father was a swimming pool contractor. Then her parents were actor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3" descr="кейт5"/>
          <p:cNvPicPr/>
          <p:nvPr/>
        </p:nvPicPr>
        <p:blipFill>
          <a:blip r:embed="rId1"/>
          <a:stretch/>
        </p:blipFill>
        <p:spPr>
          <a:xfrm>
            <a:off x="380880" y="1219320"/>
            <a:ext cx="30243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025520" y="1752120"/>
            <a:ext cx="3624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Her two sisters, Beth Winslet and Anna Winslet, also became actresses, but less fortunate than Kate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Picture 3" descr="кейт2"/>
          <p:cNvPicPr/>
          <p:nvPr/>
        </p:nvPicPr>
        <p:blipFill>
          <a:blip r:embed="rId1"/>
          <a:stretch/>
        </p:blipFill>
        <p:spPr>
          <a:xfrm>
            <a:off x="304920" y="1219320"/>
            <a:ext cx="3325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She starred in many films. The most famous are  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Dark Season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Sense and Sensibility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Hamlet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Titanic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Little Children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The Reader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, etc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3" descr="кейт4"/>
          <p:cNvPicPr/>
          <p:nvPr/>
        </p:nvPicPr>
        <p:blipFill>
          <a:blip r:embed="rId1"/>
          <a:stretch/>
        </p:blipFill>
        <p:spPr>
          <a:xfrm>
            <a:off x="228600" y="2362320"/>
            <a:ext cx="341784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85840" y="1066320"/>
            <a:ext cx="36241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Kate was nominated for an Oscar 6 times. She was the winner of two awards «BAFTA» (1996 and 2009), "Oscar " for the lead role (2009), two awards of the Golden Globes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3" descr="кейт6"/>
          <p:cNvPicPr/>
          <p:nvPr/>
        </p:nvPicPr>
        <p:blipFill>
          <a:blip r:embed="rId1"/>
          <a:stretch/>
        </p:blipFill>
        <p:spPr>
          <a:xfrm>
            <a:off x="457200" y="1066680"/>
            <a:ext cx="29908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23:25:28Z</dcterms:created>
  <dc:creator/>
  <dc:description/>
  <dc:language>en-US</dc:language>
  <cp:lastModifiedBy>user</cp:lastModifiedBy>
  <dcterms:modified xsi:type="dcterms:W3CDTF">2012-11-14T09:16:4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