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F05-4000-48CD-86B7-84E1BCFA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E4A-FD8A-4514-B71A-720E62E9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CBC-2AD6-4F92-AC6A-367180F0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A18-DBB8-4FC6-A0AF-0203E4F8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A8A5-F19E-4CB9-AD42-2BA9844B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6242-9FF0-4B8A-880B-91047200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0AC-046F-4618-9701-8025F0E9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D60-7BA8-4D0F-B1F3-4A26C58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57C0-2A2E-4AEB-9E23-A514A04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0214-8EB0-4671-9D11-31E10BBD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FFF2-11CD-44D5-9F3E-F68E471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4F3-F2AD-4686-BC7E-1B3A543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C94A-BAFB-4805-8D9E-7544A61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57C8-7FF1-4932-A957-1E71E6E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6454-6368-4005-B411-0E8A85D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E65F-0A0C-4A56-8F34-8D1CADC2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EC7-4AE7-4731-8E04-8F2CFA9F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1229-2665-437A-BE79-24925DB5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C639-A97A-4D46-8DEE-43B711C8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C7BC-2E93-4E99-A668-4E0EAAE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8937-D6D9-4BD0-ADD4-1D07BF5F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FB0A-EE7B-4266-BE4B-F97BA20E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DF7-7975-474F-8820-3131987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35C3-F9C7-411C-8E31-8988842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88D5-CD8E-4DEA-B6F6-E89823FB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A399-EA8E-4E54-A59C-6187920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0496-A620-4B36-9A87-79CB59FA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DF06-C238-4AA7-8140-9BA9C23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F25A-5E49-41BA-8F79-6B29DDD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7CDF-47E0-410D-8EE1-78B6E21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B1B6-0728-40AB-B4A8-87DEDD6F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3BA6-EB55-4538-816D-2A4B570A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977A-790E-4247-AFAC-2E180EE2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B9F-CE03-40B6-A2EB-0177C3C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0C7A-E53C-4405-AEC7-4A75D9B1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3A7A-D534-4F24-9857-180B8369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78ED-B170-4494-AC88-8E5F6B3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E40D-470D-474B-A576-29AE65E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8D7A-42CC-4D09-B23A-F098AD8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4140-ECFA-48B1-A9B6-0B5E78F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C149-B4BB-417C-8836-EEF9A486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B317-B647-420B-965E-90CADF58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754C-E6C2-45C8-8E36-A6FAC66A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6C442-6B32-4612-AAED-D63AA78E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D47-3783-4469-AB9E-78E3557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0A54-67C3-4CF1-8DFF-CF6C03C0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5533-751C-43FC-BBAA-C7FC4CE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7EBB-4953-4B01-A2B7-EFD4E3A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2E12-26D4-4CEA-A9F4-FCF7441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9435-8521-4EF5-A677-B97190EB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79C7B-DA8E-45E6-B5CB-9DFE0EC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463A-95FD-46A5-B88D-8790CA2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1586-6E38-4909-B82D-3E40C5F4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48B2-6A2E-4CBE-8058-EADA0BF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BEEE-413B-402E-A659-39E69196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8DF-7C77-494E-94C4-9E94B906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0A47-FCE0-466D-9C26-00FFEB9F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463A-0B22-4B4D-BE64-F8C99CAB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4AD2-0BCB-4CC2-B6C1-3A1F9C18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BD32-99EE-47D8-9C8C-CCEB957F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C4E43-22D1-4149-9E3A-3F5F1479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277A-B291-4B15-A297-69B371F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6113-4103-478D-B215-130B658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DF16-2B3A-4D9A-9660-26A7B75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96133-15A5-49CF-A7F7-3BCA637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D64A-3B8D-41AC-8AC5-A8754EB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01A-7D65-4BE8-82A5-0446E1D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D92A-FF52-45B4-95FF-3F8AFC50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A19C-385B-41B6-AB61-1E0A94BF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0A4D7-C3A5-4BA5-93C3-2699FBB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AD3-E04B-41C9-8860-D3D15C0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F58-CAA7-4FF7-92BF-28F76600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DADD-5713-4F34-B653-DF1CAB953DE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CDB-333A-4DFD-B7D6-351B4654D12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A3CA-7EBC-4BBE-8152-6AF38E6C24E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57B5-DA91-4700-A3A1-1AB898FE2CD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7111-8A61-4594-8594-06287D690D0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A53-1934-4DD9-962F-CD34624E399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822240" y="2438280"/>
            <a:ext cx="6969240" cy="2432160"/>
          </a:xfrm>
          <a:prstGeom prst="rect">
            <a:avLst/>
          </a:prstGeom>
          <a:ln w="0">
            <a:noFill/>
          </a:ln>
        </p:spPr>
      </p:pic>
      <p:pic>
        <p:nvPicPr>
          <p:cNvPr id="255" name="Подзаголовок 2" descr=""/>
          <p:cNvPicPr/>
          <p:nvPr/>
        </p:nvPicPr>
        <p:blipFill>
          <a:blip r:embed="rId2"/>
          <a:stretch/>
        </p:blipFill>
        <p:spPr>
          <a:xfrm>
            <a:off x="-1341360" y="4572000"/>
            <a:ext cx="45846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БЕР-ОФИЦЕР ЛЕЙБ-ГВАРДИИ КАЗАЧЬЕГО ПОЛК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4441320" y="54936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К ЧЕРНОМОРСКОЙ СОТ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C:\Users\Мрина\Desktop\12894995674700935.gif"/>
          <p:cNvPicPr/>
          <p:nvPr/>
        </p:nvPicPr>
        <p:blipFill>
          <a:blip r:embed="rId1"/>
          <a:stretch/>
        </p:blipFill>
        <p:spPr>
          <a:xfrm>
            <a:off x="395280" y="1484280"/>
            <a:ext cx="3333600" cy="4969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Users\Мрина\Desktop\рррр.gif"/>
          <p:cNvPicPr/>
          <p:nvPr/>
        </p:nvPicPr>
        <p:blipFill>
          <a:blip r:embed="rId2"/>
          <a:stretch/>
        </p:blipFill>
        <p:spPr>
          <a:xfrm>
            <a:off x="4572000" y="1484280"/>
            <a:ext cx="345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КАЗАЧИЙ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ГЕНЕРАЛ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572000" y="62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Р-ОФИЦЕР АТАМАНСКОГО КАЗАЧЬЕГО П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C:\Users\Мрина\Desktop\каз ген.gif"/>
          <p:cNvPicPr/>
          <p:nvPr/>
        </p:nvPicPr>
        <p:blipFill>
          <a:blip r:embed="rId1"/>
          <a:stretch/>
        </p:blipFill>
        <p:spPr>
          <a:xfrm>
            <a:off x="468360" y="1268280"/>
            <a:ext cx="3578040" cy="511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Мрина\Desktop\1.2894999E+134389.gif"/>
          <p:cNvPicPr/>
          <p:nvPr/>
        </p:nvPicPr>
        <p:blipFill>
          <a:blip r:embed="rId2"/>
          <a:stretch/>
        </p:blipFill>
        <p:spPr>
          <a:xfrm>
            <a:off x="4643280" y="1268280"/>
            <a:ext cx="367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одержимое 2" descr=""/>
          <p:cNvPicPr/>
          <p:nvPr/>
        </p:nvPicPr>
        <p:blipFill>
          <a:blip r:embed="rId1"/>
          <a:stretch/>
        </p:blipFill>
        <p:spPr>
          <a:xfrm>
            <a:off x="165240" y="85680"/>
            <a:ext cx="5108400" cy="6632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Мрина\Desktop\kutuzov.jpg"/>
          <p:cNvPicPr/>
          <p:nvPr/>
        </p:nvPicPr>
        <p:blipFill>
          <a:blip r:embed="rId2"/>
          <a:stretch/>
        </p:blipFill>
        <p:spPr>
          <a:xfrm>
            <a:off x="5076720" y="476280"/>
            <a:ext cx="3816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2" descr=""/>
          <p:cNvPicPr/>
          <p:nvPr/>
        </p:nvPicPr>
        <p:blipFill>
          <a:blip r:embed="rId1"/>
          <a:stretch/>
        </p:blipFill>
        <p:spPr>
          <a:xfrm>
            <a:off x="244440" y="371520"/>
            <a:ext cx="8856720" cy="2487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Admin\Рабочий стол\презентация\1.jpg"/>
          <p:cNvPicPr/>
          <p:nvPr/>
        </p:nvPicPr>
        <p:blipFill>
          <a:blip r:embed="rId2"/>
          <a:stretch/>
        </p:blipFill>
        <p:spPr>
          <a:xfrm>
            <a:off x="971640" y="2708280"/>
            <a:ext cx="7332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одержимое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5396040" cy="6784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Documents and Settings\Admin\Рабочий стол\презентация\3.jpg"/>
          <p:cNvPicPr/>
          <p:nvPr/>
        </p:nvPicPr>
        <p:blipFill>
          <a:blip r:embed="rId2"/>
          <a:stretch/>
        </p:blipFill>
        <p:spPr>
          <a:xfrm>
            <a:off x="5219640" y="692280"/>
            <a:ext cx="37292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a6a6"/>
                </a:solidFill>
                <a:latin typeface="Arial"/>
              </a:rPr>
              <a:t>Бородинское сражение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Picture 2" descr="C:\Documents and Settings\Admin\Рабочий стол\презентация\4.jpg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Содержимое 2" descr=""/>
          <p:cNvPicPr/>
          <p:nvPr/>
        </p:nvPicPr>
        <p:blipFill>
          <a:blip r:embed="rId1"/>
          <a:stretch/>
        </p:blipFill>
        <p:spPr>
          <a:xfrm>
            <a:off x="244440" y="92160"/>
            <a:ext cx="87962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2" descr=""/>
          <p:cNvPicPr/>
          <p:nvPr/>
        </p:nvPicPr>
        <p:blipFill>
          <a:blip r:embed="rId1"/>
          <a:stretch/>
        </p:blipFill>
        <p:spPr>
          <a:xfrm>
            <a:off x="-6480" y="298440"/>
            <a:ext cx="4608720" cy="616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Admin\Рабочий стол\презентация\6.jpg"/>
          <p:cNvPicPr/>
          <p:nvPr/>
        </p:nvPicPr>
        <p:blipFill>
          <a:blip r:embed="rId2"/>
          <a:stretch/>
        </p:blipFill>
        <p:spPr>
          <a:xfrm>
            <a:off x="4500720" y="620640"/>
            <a:ext cx="442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Содержимое 2" descr=""/>
          <p:cNvPicPr/>
          <p:nvPr/>
        </p:nvPicPr>
        <p:blipFill>
          <a:blip r:embed="rId1"/>
          <a:stretch/>
        </p:blipFill>
        <p:spPr>
          <a:xfrm>
            <a:off x="171360" y="285840"/>
            <a:ext cx="8631360" cy="3871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Documents and Settings\Admin\Рабочий стол\презентация\7.jpg"/>
          <p:cNvPicPr/>
          <p:nvPr/>
        </p:nvPicPr>
        <p:blipFill>
          <a:blip r:embed="rId2"/>
          <a:stretch/>
        </p:blipFill>
        <p:spPr>
          <a:xfrm>
            <a:off x="826920" y="3284640"/>
            <a:ext cx="7490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2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5540400" cy="6973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C:\Documents and Settings\Admin\Рабочий стол\презентация\прусский орден за заслуги(9).jpg"/>
          <p:cNvPicPr/>
          <p:nvPr/>
        </p:nvPicPr>
        <p:blipFill>
          <a:blip r:embed="rId2"/>
          <a:stretch/>
        </p:blipFill>
        <p:spPr>
          <a:xfrm>
            <a:off x="5435640" y="1557360"/>
            <a:ext cx="349236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Содержимое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643960" cy="3286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Admin\Рабочий стол\презентация\9.jpg"/>
          <p:cNvPicPr/>
          <p:nvPr/>
        </p:nvPicPr>
        <p:blipFill>
          <a:blip r:embed="rId2"/>
          <a:stretch/>
        </p:blipFill>
        <p:spPr>
          <a:xfrm>
            <a:off x="826920" y="3213000"/>
            <a:ext cx="7490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4:35:23Z</dcterms:created>
  <dc:creator>Мрина</dc:creator>
  <dc:description/>
  <dc:language>en-US</dc:language>
  <cp:lastModifiedBy>COMP</cp:lastModifiedBy>
  <dcterms:modified xsi:type="dcterms:W3CDTF">2012-11-14T16:33:50Z</dcterms:modified>
  <cp:revision>15</cp:revision>
  <dc:subject/>
  <dc:title>Казаки в войне 1812 года.</dc:title>
</cp:coreProperties>
</file>