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4B1-14C0-4402-88AB-0C7A8CD8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78A-31F1-45A6-BA10-402753E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E30-93DD-4827-A329-46523536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F20-36B0-4B14-9B9B-1B494DD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08F-2C25-4DCB-97CF-7A7AA60B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3F1F-A70F-4A53-9B19-058C6C3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41B-C447-4A6F-94A3-45E63BD4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3FF4-5AFB-4A3C-9C1B-DD6D100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D9C-2325-4506-8F83-F06F2AA9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698E-7530-42A8-894F-C9DF979A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A324-4DC7-4E6F-92C5-C0CBD90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636-D845-41CF-B356-D0E00994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5A8-6098-45C7-94CB-0117368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39D1-B689-4328-AF2B-689675D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5303-6A28-4BC9-8817-204FC2C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F0F1-642C-47BB-AEB9-1CDCD9B2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3DF-41D7-46BB-940B-D7224636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C9B-4562-439C-AC08-5661E0C3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4EC-01FD-4EFA-B0EF-2D8E0750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3E1-E627-4A3E-B0DA-E4E2B106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FE0-94D9-4953-9C78-64EA63BE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119-96FA-41AB-BC29-1A1C912D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B5A-2023-4FBF-BA1E-CBC56995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161-81ED-42D8-98E6-E5BF781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b8b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b6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E33-8F99-445F-B348-712813FBE8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b8b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ddd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F4F-16EC-46F5-B9CD-88C4EA1E84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4d4d4d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8b66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8b66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Rockwell"/>
              </a:rPr>
              <a:t>Оценка экологического состояния реки Клязьма методом биоиндикаци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Проект ученицы 8 «А» клас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Юдановой По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Rockwell"/>
              </a:rPr>
              <a:t>Прежде, чем давать оценку экологического состояния водоёмов, необходимо пояснить суть данной методики. Исходя из того, что разные группы водных беспозвоночных организмов по-разному реагируют на изменения экологической обстановки в проточных водоёмах, английский учёный Вудивисс подобрал индикаторные группы организмов, реагирующих на изменения, происходящие в водной среде обитания. Однако данная методика не позволяет судить о чистоте воды в привычном для нас понимании, так как не показывает наличие в воде каких либо химических и/или биологических загрязнителей и тем более их количественного значения. Полученные данные свидетельствуют только об "экологической чистоте" водоё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-main-pic" descr="Картинка 80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Ход работ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Для выполнения работы использовалось сочетание теории с практ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Практическая часть (отлов организмов и их определение) выполнялась на базе Московского полевого учебного центра ассоциации "ЭКОСИСТЕМА". Её можно разбить на несколько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1. Отбор п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2. Определение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3. Описание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Обобщив результаты проделанной работы, сделать оценку экологического состояния водоё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За работу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Rockwell"/>
              </a:rPr>
              <a:t>Для изучения общего экологического состояния водоема было выбрано 6 точек отлова животных – биотопов. Рассмотрим подробно каждый из них</a:t>
            </a:r>
            <a:r>
              <a:rPr b="1" i="1" lang="ru-RU" sz="2800" spc="-1" strike="noStrike">
                <a:solidFill>
                  <a:srgbClr val="000000"/>
                </a:solidFill>
                <a:latin typeface="Rockwell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-main-pic" descr="Картинка 6 из 18"/>
          <p:cNvPicPr/>
          <p:nvPr/>
        </p:nvPicPr>
        <p:blipFill>
          <a:blip r:embed="rId1"/>
          <a:stretch/>
        </p:blipFill>
        <p:spPr>
          <a:xfrm>
            <a:off x="3886200" y="3324240"/>
            <a:ext cx="502920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242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Биотоп 1. Данный биотоп представляет собой прибрежную зону, глубина которой составляет 0,5 м. у кромки берега и 1,0м. при удалении от него. Размер биотопа составляет около 10 метров в длину и 4-6 метров в ширину. Грунты представлены плотными глинистыми отложениями, что объясняется большой по сравнению с другими биотопами скоростью течения. Водная растительность практически отсутствует, так как высокая скорость течения препятствует её укоренению и разрастанию. Прибрежная растительность также выражена слаб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Rockwell"/>
              </a:rPr>
              <a:t>Биотоп 2. Данный биотоп представляет собой мелководную прибрежную заводь, сильно заражённую сероводородом, чему способствует практически нулевая скорость течения, а также большое количество прибрежной растительности при неполном перегнивании которой и происходит выделение газа. Глубины в этой зоне невелики и колеблются от 0,05 до 0,2м. Длинна заводи около 20 метров, ширина около 3-5 метров. Грунты представлены илистыми отложениями мощностью 0,1 – 0,4 метра. Растительность представлена такими видами как рогоз узколистный, ряска, зюзник, в менее влажных местах в небольшом количестве присутствует таволга вязолистная; из деревьев ольха чёр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-main-pic" descr="Картинка 30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800600" y="0"/>
            <a:ext cx="4343400" cy="685800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4724280" cy="685800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0492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Биотоп 3. Данный биотоп представляет собой обширную прибрежную зону, находящуюся выше места впадения в реку ручья Овражий, что отражается на некоторых её особенностях. В устье ручья образуется конус выносы, состоящий из слоёв песка и ила, выносимых ручьём; этот процесс особенно активен весной в период половодья. На данном субстрате, обладающим значительным плодородием интенсивно разрастается прибрежная растительность, преимущественно рогоз. Выше конуса выноса скорость течения в реке замедляется, что приводит к более активному осадконакоплению и также интенсивному разрастанию растительности. Размер биотопа составляет около 35 метров в длину и 4-6 метров в шир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Биотоп 4. Данный биотоп представляет собой небольшой песчаный пляж длинной около 5-7 метров и шириной 2-4 метра. Глубина у кромки берега 0,05 метра, при удалении от берега постепенно возрастает до 0,3 – 0,4 метра. Скорость течения средняя. Грунт на дне – песок с небольшой пленкой ила у самой кромки берега. Прибрежная растительность средневыраженна небольшим количеством видов. Следует отметить, что биотоп наиболее подвержен антропогенному влиянию, особенно сильно в летне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-main-pic" descr="Картинка 30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514600"/>
            <a:ext cx="9144000" cy="434340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b8b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228960" y="0"/>
            <a:ext cx="937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</a:rPr>
              <a:t>Биотоп 5. Данный биотоп по своим условиям является промежуточным между биотопом 1 и биотопом 4. и представляет собой небольшую заводь с песчано-илистым дном, средней скоростью течения. Растительность представлена небольшим количеством рогоза и тростника. Длинна облавливаемого участка 4-6 метров, ширина 1-3 метра. Глубина от 0,2 до 0,5 метр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228600" y="2743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Биотоп 6. Данный биотоп расположен в месте впадения в реку ручья Канальный, который образует в месте слияния с рекой небольшой по размеру, но довольно глубокий омут. Глубина омута составляет 1,2 – 1,8 метра, длинна 2-4 метра, ширина 1,5 – 2,0 метра. Вокруг омута глубины колеблются от 0,3 до 0,6 метра. Участок, на котором производились отловы, имеет размеры 8 – 10 метров в длину и 3 – 5 метров в ширину. У берега растительность представлена рогозом и тростником при удалении в некоторых местах единично встречаются другие виды. Донные отложения представлены песком, в прибрежной зоне на удалении до 1 метра – небольшой слой ила (1-2с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-main-pic" descr="Картинка 49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685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Rockwell"/>
              </a:rPr>
              <a:t>Оценка экологического состояния водоема. </a:t>
            </a:r>
            <a:br>
              <a:rPr sz="4400"/>
            </a:br>
            <a:r>
              <a:rPr b="1" i="1" lang="en-US" sz="4400" spc="-1" strike="noStrike">
                <a:solidFill>
                  <a:srgbClr val="330033"/>
                </a:solidFill>
                <a:latin typeface="Rockwell"/>
              </a:rPr>
              <a:t>Биотический индекс Вудивисса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Проект ученицы 8 «А» клас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Юдановой По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Чтобы получить достоверную информацию о водоеме, нам нужно было собрать максимально разнообразную добычу. В ней должны быть представлены донные животные, активно плавающие организмы и обитатели зарослей водной растительности. Для их поимки используют специальную банку и сачок. Дополнительно осматривают водные растения, камни и коря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03.gif (9932 bytes)"/>
          <p:cNvPicPr/>
          <p:nvPr/>
        </p:nvPicPr>
        <p:blipFill>
          <a:blip r:embed="rId1"/>
          <a:srcRect l="0" t="0" r="1639" b="1627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172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Таблиц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Исходя из полученных данных видно, что наименьшее количество видов встречено в первом биотопе. Это объясняется несколькими причинами. Из-за большой скорости течения многие организмы сносятся вниз по реке. Высокая скорость течения не дает накапливаться органическому веществу, что сказывается на количестве корма. Также из-за сильного течения и практически полного отсутствия органического вещества на дне произрастание прибрежной и водной растительности сильно затруднено. Это создаёт дополнительные трудности водным организмам с точки зрения наличия укрытий и дополнительных поверхностей для закрепления в пределах данного биотопа. Небольшое количество видов может объясняться трудностями при проведении отловов. Большая глубина не позволила качественно обловить биотоп в разных частях. Основное количество видов было выловлено на небольшом удалении от берега. Однако абиотические условия практически не отличаются у кромки берега и на удалении от него, что позволяет предположить высокую степень объективности полученных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Наибольшее количество видов во втором биотопе может объясняться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1. большим количеством органического вещества, являющимся пищей;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2. практически полным отсутствием скорости течения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С другой стороны биотоп сильно заражён сероводородом, что должно было отрицательно сказаться на видовом разнообразии. Также нельзя полностью исключить и человеческий фактор. Биотоп 2 наиболее удобен для проведения отловов. Поэтому нельзя считать результаты, полученные во втором биотопе аномальными и, скорее всего они объясняются наиболее качественными отловами в данном месте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Примерно равное количество встреченных видов в других биотопах объясняется сравнительно благоприятными экологическими условиями обитания в ни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Результаты, полученные в ходе работы, позволяют сделать следующие выводы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   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Обследуемый водоём не испытывает сильных антропогенных нагрузок в районе проведения исследований. Это подтверждается большим числом встреченных видов, так как биоразнообразие является одним из основных показателей устойчивости естественных экосистем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Нахождение в водоёме нескольких индикаторных групп является подтверждением того, что условия обитания водных организмов вполне благоприятны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-main-pic" descr="Картинка 59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-main-pic" descr="Картинка 70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Цель работы- оценка биологического разнообразия и устойчивости пресноводного биоценоза на примере исследуемого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"/>
              </a:rPr>
              <a:t>Приборы и материалы- кювет, сачок , Таблица «Определение биотического индекса Вудивисс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-main-pic" descr="Картинка 8 из 18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Вступ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Природа Подмосковья испытывает наиболее сильное отрицательное влияние человека, так как данная территория была заселена и освоена человеком достаточно давно. Здесь располагается огромное число промышленных предприятий и населённых пунктов. Именно поэтому состояние природных комплексов Подмосковья вызывает сильную озабоченность и большую тревогу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К сожалению, не всегда есть возможность проводить комплексные научные исследования, требующие больших материальных затрат и специального оборудования. В таких случаях можно использовать метод биоиндикации, получивший в последнее время широкое признание и распространённост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72 из 1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Rockwell"/>
              </a:rPr>
              <a:t>Немного истор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Для оценки экологического состояния водоема использовался метод расчета биотического индекса (БИ), разработанный Ф. Вудивиссом в 1964 г. С помощью </a:t>
            </a:r>
            <a:r>
              <a:rPr b="0" lang="en-US" sz="2400" spc="-1" strike="noStrike" u="sng">
                <a:solidFill>
                  <a:srgbClr val="336600"/>
                </a:solidFill>
                <a:uFillTx/>
                <a:latin typeface="Rockwell"/>
                <a:hlinkClick r:id="rId1" action="ppaction://hlinksldjump"/>
              </a:rPr>
              <a:t>специальной шкал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для определения биотического индекса, основанной на наличии в водоёме индикаторных групп организмов, по наличию или отсутствию той или иной индикаторной группы определяется биотический индекс водоема. Чем выше показатель БИ, тем благоприятнее условия обитания организмов в данном водоёме в целом или его отдельных биотопах в частности. По данному показателю можно судить об относительной чистоте воды применительно к водным обитателям. Показатель БИ может изменяться от 1 (наименее благоприятные экологические условия) до 10 (наиболее благоприятные экологические услов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rcRect l="21208" t="30319" r="20477" b="2834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ERT1</cp:lastModifiedBy>
  <dcterms:modified xsi:type="dcterms:W3CDTF">2010-03-31T17:56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