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FBF-E72A-4C3B-98DE-86889F11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B2E-A0E1-4E0B-B661-DEC45A2D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FC1-1887-47BC-9031-712F2326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6F9-93FB-426D-A3B8-51B81E78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1608-C39D-4A2B-B24D-EAAB9744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3ACE-5372-40A8-BCC0-2261EEA3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D718-6BA6-49CD-92C5-8FE1D106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4FD8-F085-4039-A45D-9F2383AB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9C2E-2A96-4E8F-A927-7F71D34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05DE-26BC-4E93-AB9F-3CD072E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53BB-8025-473E-984E-E2CB8491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542-9BAE-439B-A80F-A4F57A24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F3C-D67F-4652-85E1-ECAEFD6D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A8E-B308-4951-BA6A-2B26C111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F7D1-78CA-40FA-8D55-64A22FF3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7914-F355-4732-9F3A-51C91455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D6B-4634-4090-B0A5-79D44BA4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423-AC76-4315-9F1D-09599840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FD1-6833-48C7-A588-EC2B05D8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1BF-53D0-4A5D-A347-18643522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72E-0FB6-4456-8F9C-95A4E910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0A0-207D-43AA-B5D7-AF36F1C4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C76-B2A0-4307-99EE-A13AE31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1C3-39C8-4C3D-B615-C6D2D4E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a1e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4008-680C-498F-9437-DAE4B33946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a1e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F385-1E90-4D2D-B466-9B756D2E46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8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ФЕДЕРАЛЬНЫЕ ГОСУДАРСТВЕННЫЕ ОБРАЗОВАТЕЛЬНЫЕ СТАНДАРТ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Овал 12"/>
          <p:cNvSpPr/>
          <p:nvPr/>
        </p:nvSpPr>
        <p:spPr>
          <a:xfrm>
            <a:off x="3357720" y="2786040"/>
            <a:ext cx="2500200" cy="1143000"/>
          </a:xfrm>
          <a:prstGeom prst="ellipse">
            <a:avLst/>
          </a:prstGeom>
          <a:solidFill>
            <a:srgbClr val="fffff5"/>
          </a:solidFill>
          <a:ln w="25560">
            <a:solidFill>
              <a:srgbClr val="596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851280" y="3089160"/>
            <a:ext cx="164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Black"/>
                <a:ea typeface="Arial"/>
              </a:rPr>
              <a:t>ФГО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Скругленный прямоугольник 21"/>
          <p:cNvSpPr/>
          <p:nvPr/>
        </p:nvSpPr>
        <p:spPr>
          <a:xfrm>
            <a:off x="6389640" y="156672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fffff5"/>
          </a:solidFill>
          <a:ln w="25560">
            <a:solidFill>
              <a:srgbClr val="596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Скругленный прямоугольник 20"/>
          <p:cNvSpPr/>
          <p:nvPr/>
        </p:nvSpPr>
        <p:spPr>
          <a:xfrm>
            <a:off x="3500280" y="521496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fffff5"/>
          </a:solidFill>
          <a:ln w="25560">
            <a:solidFill>
              <a:srgbClr val="596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Скругленный прямоугольник 22"/>
          <p:cNvSpPr/>
          <p:nvPr/>
        </p:nvSpPr>
        <p:spPr>
          <a:xfrm>
            <a:off x="539640" y="422100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fffff5"/>
          </a:solidFill>
          <a:ln w="25560">
            <a:solidFill>
              <a:srgbClr val="596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Скругленный прямоугольник 25"/>
          <p:cNvSpPr/>
          <p:nvPr/>
        </p:nvSpPr>
        <p:spPr>
          <a:xfrm>
            <a:off x="3357720" y="285840"/>
            <a:ext cx="2214360" cy="1214280"/>
          </a:xfrm>
          <a:prstGeom prst="roundRect">
            <a:avLst>
              <a:gd name="adj" fmla="val 16667"/>
            </a:avLst>
          </a:prstGeom>
          <a:solidFill>
            <a:srgbClr val="fffff5"/>
          </a:solidFill>
          <a:ln w="25560">
            <a:solidFill>
              <a:srgbClr val="596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кругленный прямоугольник 22"/>
          <p:cNvSpPr/>
          <p:nvPr/>
        </p:nvSpPr>
        <p:spPr>
          <a:xfrm>
            <a:off x="611280" y="16286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fffff5"/>
          </a:solidFill>
          <a:ln w="25560">
            <a:solidFill>
              <a:srgbClr val="596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11280" y="177336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ОВЫЕ СРЕ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Скругленный прямоугольник 20"/>
          <p:cNvSpPr/>
          <p:nvPr/>
        </p:nvSpPr>
        <p:spPr>
          <a:xfrm>
            <a:off x="6300720" y="422100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fffff5"/>
          </a:solidFill>
          <a:ln w="25560">
            <a:solidFill>
              <a:srgbClr val="596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227640" y="422100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ОВОЕ ЦЕЛЕПОЛОГАНИЕ ДЛЯ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 УЧ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348000" y="549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ОВАЯ ЦЕЛЬ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443640" y="164952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ОВОЕ СОДЕРЖАНИЕ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492360" y="5229360"/>
            <a:ext cx="22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ОВЫЕ ТРЕБОВАНИЯ К ПОДГОТОВКЕ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85640" y="43848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ОВЫЕ ТЕХНОЛОГИИ 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 rot="1271400">
            <a:off x="3059280" y="2349360"/>
            <a:ext cx="433080" cy="648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b8a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0"/>
          <p:cNvSpPr/>
          <p:nvPr/>
        </p:nvSpPr>
        <p:spPr>
          <a:xfrm rot="5205000">
            <a:off x="4318200" y="1809000"/>
            <a:ext cx="433080" cy="6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b8a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1"/>
          <p:cNvSpPr/>
          <p:nvPr/>
        </p:nvSpPr>
        <p:spPr>
          <a:xfrm rot="7596000">
            <a:off x="5470920" y="2313360"/>
            <a:ext cx="433440" cy="648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b8a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 rot="19891800">
            <a:off x="3131640" y="3573360"/>
            <a:ext cx="433440" cy="6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b8a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3"/>
          <p:cNvSpPr/>
          <p:nvPr/>
        </p:nvSpPr>
        <p:spPr>
          <a:xfrm rot="16200000">
            <a:off x="4391640" y="4112280"/>
            <a:ext cx="433440" cy="6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b8a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 rot="12223800">
            <a:off x="5756040" y="3560040"/>
            <a:ext cx="433440" cy="6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b8a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solidFill>
            <a:srgbClr val="7b8a6e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ГОС общего образова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дин из ключевых элементов модернизации российской школы, базовые параметры которой были определены в Национальной образовательной инициативе </a:t>
            </a:r>
            <a:r>
              <a:rPr b="0" lang="ru-RU" sz="2200" spc="-1" strike="noStrike" u="sng">
                <a:solidFill>
                  <a:srgbClr val="55b55e"/>
                </a:solidFill>
                <a:uFillTx/>
                <a:latin typeface="Arial"/>
                <a:hlinkClick r:id="rId2" action="ppaction://hlinksldjump"/>
              </a:rPr>
              <a:t>«Наша новая школа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разработке стандарта образование рассматривалось как важнейшая социальная деятельность, системообразующий ресурс, лежащий в основе развития гражданского общества и экономики стран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основу разработки  положена целевая установка, предусматривающая переход от «догоняющей» к «опережающей» модели развития российского образования, предполагающая отказ от прямого копирования западных моделей образ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работке стандарта основана на компетентностной образовательной парадигме, предполагающей активную роль всех участников образовательного процесса в формировании мотивированной компетентной личности, способной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900000" y="2133720"/>
            <a:ext cx="77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быстро ориентироваться в динамично развивающемся и обновляющемся информационном пространств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получать, использовать и создавать разнообразную информацию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принимать обоснованные решения и решать жизненные проблемы на основе полученных ЗУНо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95280" y="4365720"/>
            <a:ext cx="828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атегическая 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оспитание успешного поколения граждан страны, владеющих адекватными времени знаниями, навыками и компетенциями, на идеалах демократии и правового государства, в соответствии с национальными и общечеловеческими ценностными установк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андарт разработан с учётом региональных, национальных и этнокультурных потребностей народов РФ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андарт направлен на обеспечен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26920" y="1700280"/>
            <a:ext cx="7993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формирования российской гражданской идентичности обучающихся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единства образовательного пространства РФ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хранения и развития культурного разнообразия и языкового наследия многонационального народа РФ, реализации права на изучение родного языка, возможности получения среднего (полного)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доступности получения качественного среднего (полного) общего образования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еемственности основных образовательных программ начального общего, основного общего, среднего (полного) общего, профессионального образования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324000" y="4478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уховно-нравственного развития, воспитания и социализации обучающих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вития государственно-общественного управления в образован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ормирования содержательно-критериальной основы оценки результатов освоения обучающимися основной образовательной программы среднего (полного) общего образования, деятельности педагогических работников, образовательных учреждений, функционирования системы образования в цело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основе Стандарта лежит системно-деятельностный подход, который обеспечивае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ормирование готовности к саморазвитию и непрерывному образован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проектирование и конструирование социальной среды развития обучающихся в системе образ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активную учебно-познавательную деятельность обучающих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) построение образовательного процесса с учётом индивидуальных возрастных, психологических и физиологических особенностей обучающих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андарт ориентирован на становление личностных характеристик выпускника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(«портрет выпускника школы»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юбящий свой край и свою Родину, уважающий свой народ, его культуру и духовные тради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знающий и принимающий традиционные ценности семьи, российского гражданского общества, многонационального российского народа, человечества, осознающий свою сопричастность к судьбе Отечеств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реативный и критически мыслящий, активно и целенаправленно познающий мир, осознающий ценность науки, труда и творчества для человека и общества, мотивированный на образование и самообразование в течение всей своей жизн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ладеющий основами научных методов познания окружающего мира, мотивированный на творчество и современную инновационную деятельн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отовый к учебному сотрудничеству, способный осуществлять исследовательскую проектную и информационную деятельн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знающий себя личностью, социально активный, уважающий закон и правопорядок, выполняющий свои обязанности перед семьей, обществом, государством, Отечеством, человечество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важающий мнение других людей, умеющий вести конструктивный диалог, достигать взаимопонимания и успешно взаимодействова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знанно выполняющий и пропагандирующий правила здорового и экологически целесообразного образа жизни, безопасного для человека и окружающей его сред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дготовленный к осознанному выбору профессии, понимающий значение профессиональной деятельности для человека и общества, её нравственные основ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24000" y="4797360"/>
            <a:ext cx="8496000" cy="764280"/>
          </a:xfrm>
          <a:prstGeom prst="rect">
            <a:avLst/>
          </a:prstGeom>
          <a:solidFill>
            <a:srgbClr val="7b8a6e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андарт устанавливает новые требования к результатам обучающихся – личностным, метапредметным и предметны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solidFill>
            <a:srgbClr val="527c3a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оритеты образовательной политик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фиксированы 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357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цепции долгосрочного социально-экономического развития до 2020 года, разде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бразование» (одобрена Правительством РФ 1 октября 2008 года, протокол №3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357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х направлениях деятельности Правительства РФ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утверждены распоряжением Правительства Российской Федерации 17 ноября 2008 г. № 1663-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357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оритетном национальном проекте «Образование» на 2009-2012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357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ой целевой программе развития образ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357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циональной образовательной инициативе «Наша нов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ход на новые образовательны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ы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системы поддерж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етей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овершенств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ск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рпус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Изменение школь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охранение и укрепл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школьников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Расшир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шко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OurNewSchool"/>
          <p:cNvPicPr/>
          <p:nvPr/>
        </p:nvPicPr>
        <p:blipFill>
          <a:blip r:embed="rId1"/>
          <a:stretch/>
        </p:blipFill>
        <p:spPr>
          <a:xfrm>
            <a:off x="179280" y="189000"/>
            <a:ext cx="2916360" cy="2082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3276720" y="412920"/>
            <a:ext cx="5616360" cy="764280"/>
          </a:xfrm>
          <a:prstGeom prst="rect">
            <a:avLst/>
          </a:prstGeom>
          <a:solidFill>
            <a:srgbClr val="7b8a6e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1 января 2010 года была утверждена президентская инициат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276720" y="1562040"/>
            <a:ext cx="5398920" cy="429120"/>
          </a:xfrm>
          <a:prstGeom prst="rect">
            <a:avLst/>
          </a:prstGeom>
          <a:solidFill>
            <a:srgbClr val="527c3a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 пунктов президентской инициатив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79280" y="333360"/>
            <a:ext cx="8748720" cy="143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Стандарт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рмативно-технический документ п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андартиз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устанавливающий комплекс норм, правил, требований к объекту стандартизации и утвержденный компетентным орга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395280" y="198900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тандартиз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— установление и применение правил с целью упорядочения деятельности в определенной области  на пользу и при участии всех заинтересованных сторон, в частности, для достижения всеобщей максимальной экономии при соблюдении функциональных условий и требований техники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Содержимое 2"/>
          <p:cNvSpPr/>
          <p:nvPr/>
        </p:nvSpPr>
        <p:spPr>
          <a:xfrm>
            <a:off x="324000" y="4508640"/>
            <a:ext cx="8496000" cy="151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это уровень знаний, относительно которого в обществе достигается конвенция, о котором договариваются как об уровне, необходимом и достаточном для перехода на следующую ступень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solidFill>
            <a:srgbClr val="527c3a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еход на новые стандарты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стандартов, содержащих подробный перечень тем по каждому предмету, обязательных для изучения каждым учеником, будет осуществлен переход на нов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ы - треб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 том, какими должны быть школьные программы, какие результаты должны продемонстрировать дети, какие условия должны быть созданы в школе для достижения этих результ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любой образовательной программе будет две част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ая и та, которая формируется школ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Чем старше ступень, тем больше возможности выбора. Новый стандарт предусматривает внеаудиторную занятость - кружки, спортивные секции, различного рода творческие занят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solidFill>
            <a:srgbClr val="527c3a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ереход на новые стандарты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 образования - это не только знания по конкретным дисциплинам, но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применя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х в повседневной жизни, использовать в дальнейшем обучении. Ученик должен обладать целостным социально-ориентированным взглядом на мир в е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стве и разнообразии природы, народов, культур, религ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Это возможно лишь в результа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я усилий учител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зных предме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школе должны быть созданы кадровые, материально-технические и другие условия, обеспечивающие развитие образовательной инфраструктуры в соответствии с требованиями времени. Финансовое обеспечение будет построено 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ах нормативно-подушевого финансир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"деньги следуют за учеником"), независимо от форм собствен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ы работа по стандартам была эффективной, предстоит разв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оценки качества образования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ужна независимая проверка знаний школьников, в том числе - при их переходе из 4-го в 5-й и из 9-го в 10-й классы. Механизмы независимой оценки могут создаваться сила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ессионально-педагогических союзов и ассоциац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Россия будет продолжать участвовать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ых сравнительных исследованиях качества образ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оздавать методики сопоставления качества образования в различных муниципалитетах и регион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ём мониторинг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ную оценку академических достижений ученика, его компетенций и способ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Программы обучения старшеклассников будут увязаны с дальнейшим выбором специаль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solidFill>
            <a:srgbClr val="527c3a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ереход на новые стандарты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AutoShape 6">
            <a:hlinkClick r:id="rId3" action="ppaction://hlinksldjump"/>
          </p:cNvPr>
          <p:cNvSpPr/>
          <p:nvPr/>
        </p:nvSpPr>
        <p:spPr>
          <a:xfrm>
            <a:off x="8388360" y="6021360"/>
            <a:ext cx="503280" cy="574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b8a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3168720"/>
          </a:xfrm>
          <a:prstGeom prst="rect">
            <a:avLst/>
          </a:prstGeom>
          <a:solidFill>
            <a:srgbClr val="7b8a6e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Государственный образовательный стандар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- нормы и требования, определяющие обязательный минимум содержания основных образовательных программ, максимальный объем учебной нагрузки обучающихся, уровень подготовки выпускников образовательных учреждений, а также основные требования к обеспечению образовательного процесса (в том числе к его материально-техническому, учебно-лабораторному, информационно-методическому, кадровому обеспечению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5280" y="3933720"/>
            <a:ext cx="8424720" cy="2654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ихевиористская, «дрессурная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арадигма: стандарты укладываются в схему «знаний, умений и навыков» (ЗУН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мпетентностна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дигма: проблемно-целевой подход к стандартам; стандарт должен разрабатываться в зависимости от того, какие задачи должен  решать выпуск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solidFill>
            <a:srgbClr val="7b8a6e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Назначением государственного стандарта является обеспечение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вных возможностей для всех граждан в получении качественного образ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динства образовательного пространства в РФ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щиты обучающихся от перегрузок и сохранение их психического и физического здоровь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еемственности образовательных программ на разных ступенях образования, возможности получения профессионального образ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циальной защищенности обучающих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циальной и профессиональной защищенности педагогических работник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ав граждан на получение полной и достоверной информации о государственных нормах и требованиях к содержанию образования и уровню подготовки выпускников образовательных учрежде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ы для расчета федеральных нормативов финансовых затрат на предоставление услуг в области образ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7b8a6e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Государственный стандарт образования является основой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работки федерального базисного учебного плана, образовательных программ, базисных учебных планов субъектов РФ, учебных планов образовательных учреждений, примерных программ по учебным предмета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ъективной оценки уровня подготовки выпускников образовательных учрежде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ъективной оценки деятельности образовательных учрежде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я объема бюджетного финансирования образовательных услуг, оказание которых гражданам на безвозмездной основе гарантируется государством на всей территории РФ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становления эквивалентности документов об образовании на территории РФ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становления федеральных требований к образовательным учреждениям в части оснащенности учебного процесса, оборудования учебных помещ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7b8a6e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cc"/>
                </a:solidFill>
                <a:latin typeface="Arial"/>
              </a:rPr>
              <a:t>Государственный стандарт образования включает три компонента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едеральный компонент — устанавливается РФ (отводится не менее 75% от общего нормативного времени, отводимого на освоение образовательных программ образова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гиональный (национально-региональный) компонент — устанавливается субъектом РФ (отводится не менее 10% от общего нормативного времени, отводимого на освоение образовательных программ образова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онент образовательного учреждения — самостоятельно устанавливается образовательным учреждением (отводится не менее 10% от общего нормативного времени, отводимого на освоение образовательных программ образовани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39640" y="5083200"/>
            <a:ext cx="8228160" cy="1434600"/>
          </a:xfrm>
          <a:prstGeom prst="rect">
            <a:avLst/>
          </a:prstGeom>
          <a:solidFill>
            <a:srgbClr val="527c3a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чиная с 2001 года, когда был начат эксперимент по переходу на 12-летнее обучение, был введён 4ый компонент — ученический: консультации, двигательные занятия и т. (необязательными для учеников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495440"/>
          </a:xfrm>
          <a:prstGeom prst="rect">
            <a:avLst/>
          </a:prstGeom>
          <a:solidFill>
            <a:srgbClr val="527c3a"/>
          </a:solidFill>
          <a:ln w="0">
            <a:noFill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Федеральный закон РФ от 1 декабря 2007 г. N 309-ФЗ «О внесении изменений в отдельные законодательные акты РФ в части изменения понятия и структуры ГОС»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3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5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в п.3 ст. 5 слова «государственных образовательных стандартов» заменить словами «федеральных государственных образовательных стандартов, федеральных государственных требований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55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. 5 ст. 6 после слова «регламентируется» дополнить словом «федеральным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Российской Федерации устанавливаются федеральные государственные образовательные стандарты, представляющие собой совокупность требований, обязательных при реализации основных образовательных программ начального общего, основного общего, среднего (полного) общего, НПО, СПО и ВПО образовательными учреждениями, имеющими государственную аккредитац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ГОС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а также устанавливаемые в соответствии с п. 2 настоящей статьи образовательные стандарты и требования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олжны обеспечив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: единство образовательного пространства РФ и преемственность основных образовательных програм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cc"/>
                </a:solidFill>
                <a:latin typeface="Arial"/>
              </a:rPr>
              <a:t>Статья 7. Федеральные государственные образовательные стандар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) структуре основных образовательных програм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) условиям реализации основных образовательных программ, в том числе кадровым, финансовым, материально-техническим и иным условия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) результатам освоения основных образовательных програм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cc"/>
                </a:solidFill>
                <a:latin typeface="Arial"/>
              </a:rPr>
              <a:t>ФГОС включают в себя требования к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68360" y="3645000"/>
            <a:ext cx="8372520" cy="2592360"/>
          </a:xfrm>
          <a:prstGeom prst="rect">
            <a:avLst/>
          </a:prstGeom>
          <a:solidFill>
            <a:srgbClr val="527c3a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48562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реализации основных образовательных программ для обучающихся с ограниченными возможностями здоровья могут быть установлены специальные ФГО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работка и утверждение ФГОС осуществляются в порядке, установленном Правительством Р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ГОС утверждаются не реже одного раза в десять ле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21:48:46Z</dcterms:created>
  <dc:creator>USER</dc:creator>
  <dc:description/>
  <dc:language>en-US</dc:language>
  <cp:lastModifiedBy>User</cp:lastModifiedBy>
  <dcterms:modified xsi:type="dcterms:W3CDTF">2012-11-14T15:50:35Z</dcterms:modified>
  <cp:revision>28</cp:revision>
  <dc:subject/>
  <dc:title>ФЕДЕРАЛЬНЫЕ ГОСУДАРСТВЕННЫЕ ОБРАЗОВАТЕЛЬНЫЕ СТАНДАРТЫ</dc:title>
</cp:coreProperties>
</file>