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9.gif" ContentType="image/gif"/>
  <Override PartName="/ppt/media/image18.gif" ContentType="image/gif"/>
  <Override PartName="/ppt/media/image17.jpeg" ContentType="image/jpeg"/>
  <Override PartName="/ppt/media/image16.gif" ContentType="image/gif"/>
  <Override PartName="/ppt/media/image15.gif" ContentType="image/gif"/>
  <Override PartName="/ppt/media/image3.jpeg" ContentType="image/jpeg"/>
  <Override PartName="/ppt/media/image14.gif" ContentType="image/gif"/>
  <Override PartName="/ppt/media/image2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B613-4004-4623-BE5D-51029CD0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8933-C11F-4B50-91AB-A199ADBD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7E1B-03D7-487B-ACEA-0ABC8508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0F44-E30C-4926-994C-E8CABDE2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5CEC-83E0-4544-A80E-8DD20C7C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E0D6-19D1-45BB-9761-57432987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5EF4-68A8-4198-9688-7B4F5002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57F8-147F-4348-ADC7-7FE39122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78C9-3D94-4C0D-B07F-ED3131AD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2B38-1A05-4722-A971-91BE7428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7845-2015-4E5F-9D8F-F5549285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D41D-85B5-435F-B124-40DDF86C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A81AA-280B-4519-ADB0-06ABF7E06B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71280" y="0"/>
            <a:ext cx="10152000" cy="7675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79640" y="720720"/>
            <a:ext cx="84232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33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ru-RU" sz="6600" spc="-1" strike="noStrike">
                <a:solidFill>
                  <a:srgbClr val="ffffff"/>
                </a:solidFill>
                <a:latin typeface="Arial"/>
              </a:rPr>
              <a:t>16 октябр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84360" y="792000"/>
            <a:ext cx="7238880" cy="59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47640" y="431640"/>
            <a:ext cx="8856720" cy="69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а            а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о            о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у            у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ы           ы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и            и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9280" y="647640"/>
            <a:ext cx="208764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7640" y="576360"/>
            <a:ext cx="9288360" cy="6840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303640" y="1944720"/>
            <a:ext cx="5903640" cy="28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ff420e"/>
                </a:solidFill>
                <a:latin typeface="Arial"/>
              </a:rPr>
              <a:t>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ff420e"/>
                </a:solidFill>
                <a:latin typeface="Arial"/>
              </a:rPr>
              <a:t>   </a:t>
            </a:r>
            <a:r>
              <a:rPr b="0" lang="ru-RU" sz="9600" spc="-1" strike="noStrike">
                <a:solidFill>
                  <a:srgbClr val="ff420e"/>
                </a:solidFill>
                <a:latin typeface="Arial"/>
              </a:rPr>
              <a:t>листо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0360" y="2722680"/>
            <a:ext cx="914400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9600" spc="-1" strike="noStrike">
                <a:solidFill>
                  <a:srgbClr val="3deb3d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27640" y="792000"/>
            <a:ext cx="417672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узна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0" y="2513160"/>
            <a:ext cx="6120000" cy="14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запомни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11640" y="4248000"/>
            <a:ext cx="475164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3cc66"/>
                </a:solidFill>
                <a:latin typeface="Arial"/>
              </a:rPr>
              <a:t>  </a:t>
            </a: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смо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368360" y="1725480"/>
            <a:ext cx="3600360" cy="1371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11280" y="3384720"/>
            <a:ext cx="13683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40000" y="3672000"/>
            <a:ext cx="4103640" cy="1368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87640" y="1008000"/>
            <a:ext cx="5112000" cy="35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0" lang="ru-RU" sz="6600" spc="-1" strike="noStrike">
                <a:solidFill>
                  <a:srgbClr val="ff950e"/>
                </a:solidFill>
                <a:latin typeface="Comic Sans MS"/>
              </a:rPr>
              <a:t>Спасибо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950e"/>
                </a:solidFill>
                <a:latin typeface="Comic Sans MS"/>
              </a:rPr>
              <a:t>       </a:t>
            </a:r>
            <a:r>
              <a:rPr b="0" lang="ru-RU" sz="6600" spc="-1" strike="noStrike">
                <a:solidFill>
                  <a:srgbClr val="ff950e"/>
                </a:solidFill>
                <a:latin typeface="Comic Sans MS"/>
              </a:rPr>
              <a:t>за урок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73080" y="0"/>
            <a:ext cx="101520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44360" y="0"/>
            <a:ext cx="10223280" cy="835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99040" y="3809880"/>
            <a:ext cx="28440" cy="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099040" y="3809880"/>
            <a:ext cx="28440" cy="28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392720" y="1655640"/>
            <a:ext cx="4895640" cy="5543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1008000" y="5472000"/>
            <a:ext cx="2413080" cy="15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920" y="306360"/>
            <a:ext cx="9945720" cy="675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360" y="0"/>
            <a:ext cx="978696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55640" y="6480000"/>
            <a:ext cx="576360" cy="648000"/>
          </a:xfrm>
          <a:prstGeom prst="upArrow">
            <a:avLst>
              <a:gd name="adj1" fmla="val 50000"/>
              <a:gd name="adj2" fmla="val 28107"/>
            </a:avLst>
          </a:pr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80000" y="6408720"/>
            <a:ext cx="576360" cy="720720"/>
          </a:xfrm>
          <a:prstGeom prst="upArrow">
            <a:avLst>
              <a:gd name="adj1" fmla="val 50000"/>
              <a:gd name="adj2" fmla="val 31262"/>
            </a:avLst>
          </a:pr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616720" y="4896000"/>
            <a:ext cx="1488960" cy="2477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016000" y="3632040"/>
            <a:ext cx="3733920" cy="2847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280280" y="3240000"/>
            <a:ext cx="2943360" cy="4038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360360" y="5832360"/>
            <a:ext cx="2627280" cy="1646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8:08:45Z</dcterms:created>
  <dc:creator>Анна Макарова</dc:creator>
  <dc:description/>
  <dc:language>en-US</dc:language>
  <cp:lastModifiedBy>Анна Макарова</cp:lastModifiedBy>
  <dcterms:modified xsi:type="dcterms:W3CDTF">2012-10-15T18:10:35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210000000000010250800207f7000400038000</vt:lpwstr>
  </property>
</Properties>
</file>