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DE0-0BC9-4A33-A1FA-D95033BD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8F5-EC84-4C3B-BE35-CE6B9EE2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90BA7-5DA3-4E9E-B491-89C8917E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794C9-1C0B-452C-9C76-F19BAB1F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CC4F2-244E-45A5-8BD7-8AA4935F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82E30-BE2E-42DD-8192-05AC28F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D8BC9-7D4E-43F8-858C-2C394F03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CFCCE-D64F-4B70-93A3-7608F3E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A0E2C-8374-4429-BAC0-2264F9D1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A4AF7-6B47-4A13-9ACD-28EDAEAD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69F03-D68F-4C34-BDA8-87734F06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04760-F612-47B3-BA2F-7279012C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436-A160-4C58-B820-BA7D1207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8576E-D969-4362-9A92-FB261E3B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096F5-6347-4FD6-9EF2-F158687D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B4FCE-1F36-4ADE-802B-0918CCA2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52336-0B8A-4663-8156-91858C69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26CB5-4033-4166-8004-BFDFC6D4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2AF72-4AE7-49EB-8470-5B48694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CDD21-43E8-45EA-8EB3-611DA37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DB0C0-0A4F-40C5-98B5-3D5C0627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CFD3F-85B1-4DCB-8277-9FC9D20E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BCA9E-5B2D-4761-944B-6572B62F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D04-1F73-4756-BE8D-9BD63772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BD5AF-82CF-40C7-89F0-50486965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4B46-F175-46DC-9144-0F7E367E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28037-E17D-4911-9DA3-7F5967C5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C237B-9C4B-492F-9AE5-FD620092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CF4C2-D843-4C5E-8DA3-B1CB5919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05E1D-5ECB-4DAA-8087-D9F1D5F7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45987-F795-429F-9AD7-C03E19FA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67B17-2A2F-4A5E-9289-9FA80F4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37F5B-CCE0-47D0-8BF3-6A9D3CD2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849A8-98A0-455B-AF44-5F942446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CB1F-F32D-4DB3-BAAC-CCD77EBC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58868-3F0C-428A-8319-8337B1A2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B2AC2-4693-47A8-BE99-93AB40BB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BE97B-5CC4-445B-9FAF-E8664593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D8E08-5A6D-4E73-BEE6-E04BEC61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0BB92-178D-48B3-994B-0395E48A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E95C5-5E5B-46E4-A54E-15B37116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EA251-BE3E-4274-9548-C5B6954F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B1E8A-3D9F-45C5-B76A-FF60DD71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AF6C3-3A12-4D0B-AF1D-5E2730BA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2167E-369F-4615-8AE8-F5A5ED7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3386-7B79-4388-BB59-5B34530A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7D238-3D81-4D3C-AA5E-652F3CF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C9E06-274A-4EA4-8C86-5A370CB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8E01C-D99E-49DE-BC21-687BDC26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BC2DB-EA07-40E0-A027-2A9C6601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2BAEC-3B3F-42B1-8329-DF89B8D5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E2D1-69A6-44CB-885C-8500668B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15BC-1F93-4BCD-B99B-C309429F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A2E5-1477-4C4C-80B4-6EE3429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E697-480D-4636-B776-7EE23D25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6209-7A51-420C-966C-BD1710DB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528-AC01-4F50-A25B-693F850A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A69A-BAFC-4ADB-ABFC-636A1E8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4BF2-D139-4077-9822-743FBBED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B894-6628-4B45-9AB2-A7FEEC71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80C2-9260-460A-83F0-76C3F96E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E979-434C-47B3-8F13-DF70233E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133C-A03F-487B-8563-BFBF55D4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6B24-A0DA-4E84-835B-DC11C09A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E6C1-1510-4504-AD40-BB439E97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E47D-FDFA-4596-B6A7-41B994CC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BD05-7153-4CEC-AECD-CCB7D6E2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3BB-65E2-4461-824B-12999D5D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BD52-1C98-4117-AF0A-F49C3A40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1D54-A8A8-40F1-83E3-AE0AF4C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36F5-C36C-4A21-AA6E-3E214980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F5F9-1B3F-48DE-A165-2660F4B6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4E12-2105-43A2-8682-0D9D8F6A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4301-7D63-4CD3-9CE8-F7EC1A90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239B-B5E5-44D3-B600-0C5FC187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51EB-B3B7-445B-A24A-A72E1817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DD320-1B43-4B45-A8EC-50944F0E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6B7EE-4615-4CB4-BCF8-BCF16EB4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CAC-7367-41AC-9E76-4AC1ABF0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2AD7-3931-4AF2-8C7B-7D08A095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F5F8-125A-4345-891C-C724D166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5637-272A-4D66-A091-BA359FFD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1067C-56C0-4F27-9591-718FEA6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9C12B-4D81-43F2-83EF-1A6844E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68FC-6746-487B-A676-7D0B09AB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1EF17-2EF7-40A3-A9D0-5B1532EF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5BB44-DF0B-48E6-ADD7-A1C6CADC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C579A-E3AF-459E-8D96-F4882A43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F5FDC-0592-45A4-9835-C4684CDF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1EA-25B4-4920-8781-949DBE15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9C46-FE35-4F33-A156-0042F2E8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203F5-A27B-42F6-AEA2-8329258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583E-3336-4B1F-883D-EC85847B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6F2E8-BAAF-4D8F-8BBF-D134E6E1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DE39-DBA7-4401-84F0-D4BC3CD8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30720-8575-4863-A582-DF45995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B7049-F3AC-477B-BB36-19CD100C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EEC3B-4ED1-46AD-9749-39733668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D8D4F-8C07-4970-BCBF-33954A76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7E91-48FF-4543-92BE-6E999F38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FE0-4477-4A30-A734-11A657D4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6F792-0B77-4A63-BA90-A7BC5D8E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0BB4D-71CC-4A15-824D-B8ED1D4B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F99F0-674E-4874-AFD4-52BE856B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08BE8-EAE4-4806-85C3-90C99F8F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C105F-38DD-4F97-89A1-3D9E40C8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FB352-4BD3-4620-B82B-596C73D4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A278-864D-4F7D-A015-8FA0AEB5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2EB21-10A4-4E19-8311-0FC61EA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11F3F-FB01-4784-9DAC-1CE4DBA8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5A172-AEBC-4B80-B6B3-5F6DFDF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521-2FC4-4D0A-86C6-4C377D50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1E3D9-543E-4B42-AB05-8E0C26AB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00483-26C1-47D3-A80C-7A8B3C60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3E34A-B4EA-46CA-B0DF-63778D08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D396C-8543-4CC0-AC35-23C50B97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D0E63-1A3E-4464-9F3E-FA3A05B0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A026B-C7D6-4C17-B8A5-F7D2097A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E6FDC-742E-4EB6-8562-7DA33B47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AAA66-DE62-4C15-BB33-20B1C034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6E7C-B1A6-4BA3-8988-6ED61E69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19FC8-ACCC-449E-85BE-8B22EE78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B96-E914-4DD0-9FD8-01891E2B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6DBFB-A87B-4DC8-B6AC-DF4AF77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1F62-F558-45CA-8232-6C54BBE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70D2C-8C22-44D0-A517-54063836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6B72D-9F44-4A1C-B263-15BCF14E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2DDA5-9B77-4D8F-9067-E900923D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ED529-CF6C-4882-9741-845D019D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12E0D-0B46-47D4-A0D0-4EE71C77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9040-175E-4C1A-88D7-DDC6B6AD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E25F7-24F6-4255-A631-988BCFFD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273FA-5D58-4D6E-992C-1939C716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05D-15FE-4BED-BDBC-5F90300A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4FE81-6C4B-48B4-9D61-4F45BEAD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D95AE-805D-4767-9001-77E80AA3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1FB2-38FA-4FD3-ADE3-B223CC95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A38E9-0151-4382-82E5-0637BD9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7D332-EC57-4182-8803-CF79229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E9CC6-089B-43BD-8DE0-E58BBF8B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EC90D-C0E0-4EA4-9AC0-E79A292A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F116D-4C62-4715-81FE-BA544D69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C63C8-52DD-45BD-A542-A3434DAB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4A7DC-458F-4B21-A602-924DA98B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37E5-3689-4F17-B1CB-BE0348A286C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4D16-082B-4499-B96B-6FF01CCAB9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FCA5-5E9A-41C9-BC63-560BA96C0D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F83-962C-4DB0-9807-84493F9977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2949-C9A0-43B0-AD88-16171D7401C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579E-24F8-46C4-A334-40ED853951D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F66D-9CBA-4338-8C94-E45DD1C1DDE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51B4-79E3-44C9-9E5A-548528E333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772C-24D7-48A1-A5B4-9E9081BAACC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C37A-4FFD-4E3B-A56C-F4ACCE03B90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EBDC-186A-4F73-9F7C-F28CFE7B7B3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68A6-F068-49EB-BB5A-C1DFE54A5B5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Rectangle 20" descr=""/>
          <p:cNvPicPr/>
          <p:nvPr/>
        </p:nvPicPr>
        <p:blipFill>
          <a:blip r:embed="rId1"/>
          <a:stretch/>
        </p:blipFill>
        <p:spPr>
          <a:xfrm>
            <a:off x="128520" y="1822320"/>
            <a:ext cx="9393480" cy="41148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24"/>
          <p:cNvSpPr/>
          <p:nvPr/>
        </p:nvSpPr>
        <p:spPr>
          <a:xfrm>
            <a:off x="5867280" y="533520"/>
            <a:ext cx="243864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, мой милый друг! С тобой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е хочу высоких  званий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 мечты завоеваний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е тревожат мой покой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о коль враг ожесточенный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м дерзнет противустать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вый долг мой, долг священый –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новь за родину восстать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.Давыдов, поэт,   партизан, военный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4"/>
          <p:cNvSpPr/>
          <p:nvPr/>
        </p:nvSpPr>
        <p:spPr>
          <a:xfrm>
            <a:off x="6553080" y="594360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Работу выполнил ученик 10 «А»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Редькин Кирил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им из самых выдающихся партизан был Герасим Курин – крестьянин одного из подмосковных сел. В его отряде было 5300 пеших и 500 конных воинов. Отряд вел бои у Грибовой, Субботиной, Назаровой, Трубициной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1" name="Picture 4" descr="kurin_g"/>
          <p:cNvPicPr/>
          <p:nvPr/>
        </p:nvPicPr>
        <p:blipFill>
          <a:blip r:embed="rId1"/>
          <a:stretch/>
        </p:blipFill>
        <p:spPr>
          <a:xfrm>
            <a:off x="6400800" y="3429000"/>
            <a:ext cx="1936800" cy="2590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еди активных организаторов крестьянск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ртизанских отрядов были имена крестьяно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славилась в народе Василис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жина – жена старосты одной из дерев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моленской губер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4" name="Picture 4" descr="kozhina_vas"/>
          <p:cNvPicPr/>
          <p:nvPr/>
        </p:nvPicPr>
        <p:blipFill>
          <a:blip r:embed="rId1"/>
          <a:stretch/>
        </p:blipFill>
        <p:spPr>
          <a:xfrm>
            <a:off x="6172200" y="3276720"/>
            <a:ext cx="2257560" cy="297180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Армейские партизанские отряд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ряду  с  образованием  крупных  крестьянских  партизанских  отрядов  и  их  деятельностью,  большую  роль  в  войне  сыграли  армейские  партизанские  отряды.Первый  армейский  партизанский  отряд  был  создан  по  инициативе  М. Б.  Барклая  де  Толли. Его  командиром  был  генерал  Ф.  Ф.  Винценге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8000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рмейские партизанские отряды создавались  преимущественно из казачьих войск и были  неодинаковыми по своей  численности:  от 50 до 500 человек. Им ставились задачи смелыми  и  внезапными действиями  в  тылу  противника  уничтожать его живую силу, наносить удары по гарнизонам, подходящим резервам, выводить из  строя транспорт, лишать  врага  возможности  добывать себе продовольствие  и  фураж, следить  за передвижением войск и доносить об этом в Главный  штаб  русской  арм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7000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20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стоящей грозой для французов был отряд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20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эта-подполковника Дениса Давыдова. Страстное желание принести пользу в борьбе с захватчиками побудило его «просить себе отдельный отряд». Получив в распоряжение отряд он начал смелые рейды по тылам противн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1" name="Picture 4" descr="250px-Denisdavydov"/>
          <p:cNvPicPr/>
          <p:nvPr/>
        </p:nvPicPr>
        <p:blipFill>
          <a:blip r:embed="rId1"/>
          <a:stretch/>
        </p:blipFill>
        <p:spPr>
          <a:xfrm>
            <a:off x="5943600" y="3505320"/>
            <a:ext cx="2365200" cy="27432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2101680" cy="266724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сенью  1812 г.партизанские  отряды  сплошным подвижным  кольцом  окружили французскую армию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5" name="Picture 4" descr="маневр 1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4876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Гжатска до Можайска оперировал отряд генерала И.С.Дорохова.Капитан А.С.Фигнер со своим летучим отрядом нападал на французов по дороге от Можайска до Москв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8" name="Picture 4" descr="250px-Dorohov1812"/>
          <p:cNvPicPr/>
          <p:nvPr/>
        </p:nvPicPr>
        <p:blipFill>
          <a:blip r:embed="rId1"/>
          <a:stretch/>
        </p:blipFill>
        <p:spPr>
          <a:xfrm>
            <a:off x="685800" y="2590920"/>
            <a:ext cx="3319560" cy="38098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"/>
          <p:cNvPicPr/>
          <p:nvPr/>
        </p:nvPicPr>
        <p:blipFill>
          <a:blip r:embed="rId2"/>
          <a:stretch/>
        </p:blipFill>
        <p:spPr>
          <a:xfrm>
            <a:off x="5127480" y="2666880"/>
            <a:ext cx="3063960" cy="365760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 районе Можайска и южнее действовал отряд полковника И.М.Вадбольского. Между  Боровском  и  Москвой  дороги контролировались отрядом капитана А.Н.Сеславина. На Серпуховскую  дорогу был выслан полковник Н.Д.Кудашив. На Рязанской дороге находился  отряд  полковника  И.Е.Ефремова. С севера  Москву  блокировал крупный отряд Ф.Ф.Винценгероде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2" name="Picture 5" descr="book41809"/>
          <p:cNvPicPr/>
          <p:nvPr/>
        </p:nvPicPr>
        <p:blipFill>
          <a:blip r:embed="rId1"/>
          <a:stretch/>
        </p:blipFill>
        <p:spPr>
          <a:xfrm>
            <a:off x="4419720" y="4267080"/>
            <a:ext cx="3809880" cy="19526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7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1855800" cy="2438280"/>
          </a:xfrm>
          <a:prstGeom prst="rect">
            <a:avLst/>
          </a:prstGeom>
          <a:ln w="0">
            <a:noFill/>
          </a:ln>
        </p:spPr>
      </p:pic>
    </p:spTree>
  </p:cSld>
  <p:transition advTm="13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ртизанские отряды действовали в сложных  условиях. На первых порах встречалось  много  трудностей.  Даже  жители  сел  и  деревень  сначала  с большим  недоверием  относились к  партизанам часто принимая их за солдат  противника.  Нередко гусарам  приходилось  переодеваться  в  мужицкие  кафтаны  и  отращивать  бор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6" name="Picture 4" descr="250px-Odwrot_spod_Moskwy"/>
          <p:cNvPicPr/>
          <p:nvPr/>
        </p:nvPicPr>
        <p:blipFill>
          <a:blip r:embed="rId1"/>
          <a:stretch/>
        </p:blipFill>
        <p:spPr>
          <a:xfrm>
            <a:off x="3505320" y="4495680"/>
            <a:ext cx="2743200" cy="1989360"/>
          </a:xfrm>
          <a:prstGeom prst="rect">
            <a:avLst/>
          </a:prstGeom>
          <a:ln w="0">
            <a:noFill/>
          </a:ln>
        </p:spPr>
      </p:pic>
    </p:spTree>
  </p:cSld>
  <p:transition advTm="13000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ия партизан были внезапны и стремительны. Неожиданно налететь и быстро скрыться стало основным правилом партизан. Отряды нападали на отдельные команды, на фуражиров, транспорты, отбирали оружие, брали пленны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9" name="Picture 4" descr="300px-Retreat_of_Napoleon_Army_from_Moscow_1812"/>
          <p:cNvPicPr/>
          <p:nvPr/>
        </p:nvPicPr>
        <p:blipFill>
          <a:blip r:embed="rId1"/>
          <a:stretch/>
        </p:blipFill>
        <p:spPr>
          <a:xfrm>
            <a:off x="2743200" y="4114800"/>
            <a:ext cx="4419720" cy="26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ичины Отечественной войны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1812 го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чиной войны 1812 года стал разрыв франко-русских отношений из-за несоблюдения Тильзитского договора, отказа России участвовать в «континентальной блокаде», конфлик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ольском и германско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няжества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7" name="Picture 9" descr="preview"/>
          <p:cNvPicPr/>
          <p:nvPr/>
        </p:nvPicPr>
        <p:blipFill>
          <a:blip r:embed="rId1"/>
          <a:stretch/>
        </p:blipFill>
        <p:spPr>
          <a:xfrm>
            <a:off x="6858000" y="3962520"/>
            <a:ext cx="1752480" cy="23619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aleksandr-1"/>
          <p:cNvPicPr/>
          <p:nvPr/>
        </p:nvPicPr>
        <p:blipFill>
          <a:blip r:embed="rId2"/>
          <a:stretch/>
        </p:blipFill>
        <p:spPr>
          <a:xfrm>
            <a:off x="609480" y="4114800"/>
            <a:ext cx="1846440" cy="22096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йна угрожала самому существованию России как независимого и суверенного государства. Именно поэтому война всколыхнула широкие слои общества. Основную тяжесть борьбы вынесли трудовые массы, и в первую очередь русское крестьянство. Не  случайно эта война  получила  название  Отечественно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9000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одный характер войны ярче всего проявился в партизанском движении, которое сыграло стратегическую роль в победе  России. Подъем народных масс на борьбу с врагом обуславливался тем, что война для русских людей носила справедливый, оборонительных характер; крестьяне боролись за национальную независимость своей Родины. Они создавали партизанские отряды и развертывали вооруженную борьбу против захватчиков. Своей мужественной и самоотверженной борьбой крестьяне оказали существенную помощь в разгроме врага.     В 1812 году русский народ проявил свойственные ему стойкость, выдержку, самоотверженность и героизм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7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чало вой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ночь на 12 июня 1812 года войска Наполеона вторглись в пределы России. «Армия двунадесяти языков» Наполеона насчитывала около 600 тысяч солдат, русская армия уступала ей в численности и была разделена на 3 ча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1" name="Picture 4" descr="1812-7-2"/>
          <p:cNvPicPr/>
          <p:nvPr/>
        </p:nvPicPr>
        <p:blipFill>
          <a:blip r:embed="rId1"/>
          <a:stretch/>
        </p:blipFill>
        <p:spPr>
          <a:xfrm>
            <a:off x="2743200" y="38098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рождение партизанского движения</a:t>
            </a:r>
            <a:br>
              <a:rPr sz="3600"/>
            </a:br>
            <a:r>
              <a:rPr b="0" lang="ru-RU" sz="2200" spc="-1" strike="noStrike">
                <a:solidFill>
                  <a:srgbClr val="cc3300"/>
                </a:solidFill>
                <a:latin typeface="Monotype Corsiva"/>
              </a:rPr>
              <a:t>Россия! Встань и возвышайся! А.С. Пушкин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808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первого же дня вступления на русскую землю армия Наполеона стала грабить и разорять крестьянские хозяйства. Большинство крестьян выступили за непокорность захватчикам. Мирные жители превращались в смелых воинов, земледельческие орудия становились в руках их грозным оружием. Так борьба крестьян приобрела характер массового оставления сел и деревень и ухода населения в леса и районы, отдаленные от военных действ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5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естьянские партизанские отряд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рождались стихийно в период отступления русской армии. С каждым днем движение развивалось, принимая все более активные формы и становясь грозной силой. Справедливый и оборонительный характер войны вызвал активное участие широких народных масс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6" name="Picture 6" descr="davidov03l"/>
          <p:cNvPicPr/>
          <p:nvPr/>
        </p:nvPicPr>
        <p:blipFill>
          <a:blip r:embed="rId1"/>
          <a:stretch/>
        </p:blipFill>
        <p:spPr>
          <a:xfrm>
            <a:off x="609480" y="4114800"/>
            <a:ext cx="3657600" cy="213372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войне 1812 года были крестьянские и армейские партизанские отряд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658" name="Organization Chart 27"/>
          <p:cNvGrpSpPr/>
          <p:nvPr/>
        </p:nvGrpSpPr>
        <p:grpSpPr>
          <a:xfrm>
            <a:off x="685800" y="1981080"/>
            <a:ext cx="7771320" cy="2666520"/>
            <a:chOff x="685800" y="1981080"/>
            <a:chExt cx="7771320" cy="2666520"/>
          </a:xfrm>
        </p:grpSpPr>
        <p:cxnSp>
          <p:nvCxnSpPr>
            <p:cNvPr id="659" name="_s1028"/>
            <p:cNvCxnSpPr>
              <a:stCxn id="660" idx="0"/>
              <a:endCxn id="661" idx="2"/>
            </p:cNvCxnSpPr>
            <p:nvPr/>
          </p:nvCxnSpPr>
          <p:spPr>
            <a:xfrm flipV="1" rot="16200000">
              <a:off x="5351040" y="2268000"/>
              <a:ext cx="533880" cy="2091960"/>
            </a:xfrm>
            <a:prstGeom prst="bentConnector3">
              <a:avLst>
                <a:gd name="adj1" fmla="val 138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2" name="_s1029"/>
            <p:cNvCxnSpPr>
              <a:stCxn id="663" idx="0"/>
              <a:endCxn id="661" idx="2"/>
            </p:cNvCxnSpPr>
            <p:nvPr/>
          </p:nvCxnSpPr>
          <p:spPr>
            <a:xfrm flipH="1" flipV="1" rot="5400000">
              <a:off x="3258360" y="2267280"/>
              <a:ext cx="533880" cy="2093400"/>
            </a:xfrm>
            <a:prstGeom prst="bentConnector3">
              <a:avLst>
                <a:gd name="adj1" fmla="val 138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1" name="_s1030"/>
            <p:cNvSpPr/>
            <p:nvPr/>
          </p:nvSpPr>
          <p:spPr>
            <a:xfrm>
              <a:off x="2778480" y="1981080"/>
              <a:ext cx="3586680" cy="1066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Партизанское 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движение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_s1031"/>
            <p:cNvSpPr/>
            <p:nvPr/>
          </p:nvSpPr>
          <p:spPr>
            <a:xfrm>
              <a:off x="685800" y="3580920"/>
              <a:ext cx="3586680" cy="1066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4617b"/>
                  </a:solidFill>
                  <a:latin typeface="Times New Roman"/>
                </a:rPr>
                <a:t>Народные (крестьянские)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4617b"/>
                  </a:solidFill>
                  <a:latin typeface="Times New Roman"/>
                </a:rPr>
                <a:t>партизан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4617b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4617b"/>
                  </a:solidFill>
                  <a:latin typeface="Times New Roman"/>
                </a:rPr>
                <a:t>отряды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_s1032"/>
            <p:cNvSpPr/>
            <p:nvPr/>
          </p:nvSpPr>
          <p:spPr>
            <a:xfrm>
              <a:off x="4870440" y="3580920"/>
              <a:ext cx="3586680" cy="1066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4617b"/>
                  </a:solidFill>
                  <a:latin typeface="Times New Roman"/>
                </a:rPr>
                <a:t>Специально организованые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4617b"/>
                  </a:solidFill>
                  <a:latin typeface="Times New Roman"/>
                </a:rPr>
                <a:t>армейские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4617b"/>
                  </a:solidFill>
                  <a:latin typeface="Times New Roman"/>
                </a:rPr>
                <a:t>партизан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4617b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4617b"/>
                  </a:solidFill>
                  <a:latin typeface="Times New Roman"/>
                </a:rPr>
                <a:t>отряды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4" name="Picture 44" descr="kurin_g"/>
          <p:cNvPicPr/>
          <p:nvPr/>
        </p:nvPicPr>
        <p:blipFill>
          <a:blip r:embed="rId1"/>
          <a:stretch/>
        </p:blipFill>
        <p:spPr>
          <a:xfrm>
            <a:off x="2819520" y="4724280"/>
            <a:ext cx="796680" cy="106704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45"/>
          <p:cNvSpPr/>
          <p:nvPr/>
        </p:nvSpPr>
        <p:spPr>
          <a:xfrm>
            <a:off x="914400" y="57150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селиса Кожи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6"/>
          <p:cNvSpPr/>
          <p:nvPr/>
        </p:nvSpPr>
        <p:spPr>
          <a:xfrm>
            <a:off x="2514600" y="5791320"/>
            <a:ext cx="21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расим Кури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42" descr="kozhina_vas"/>
          <p:cNvPicPr/>
          <p:nvPr/>
        </p:nvPicPr>
        <p:blipFill>
          <a:blip r:embed="rId2"/>
          <a:stretch/>
        </p:blipFill>
        <p:spPr>
          <a:xfrm>
            <a:off x="914400" y="4724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7" descr="250px-Denisdavydov"/>
          <p:cNvPicPr/>
          <p:nvPr/>
        </p:nvPicPr>
        <p:blipFill>
          <a:blip r:embed="rId3"/>
          <a:stretch/>
        </p:blipFill>
        <p:spPr>
          <a:xfrm>
            <a:off x="7391520" y="4648320"/>
            <a:ext cx="985680" cy="11430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8" descr=""/>
          <p:cNvPicPr/>
          <p:nvPr/>
        </p:nvPicPr>
        <p:blipFill>
          <a:blip r:embed="rId4"/>
          <a:stretch/>
        </p:blipFill>
        <p:spPr>
          <a:xfrm>
            <a:off x="5257800" y="4724280"/>
            <a:ext cx="893880" cy="106704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49"/>
          <p:cNvSpPr/>
          <p:nvPr/>
        </p:nvSpPr>
        <p:spPr>
          <a:xfrm>
            <a:off x="7467480" y="58672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. Давы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50"/>
          <p:cNvSpPr/>
          <p:nvPr/>
        </p:nvSpPr>
        <p:spPr>
          <a:xfrm>
            <a:off x="5334120" y="5791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Фигне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рестьянские партизанские отряд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августе 1812 года в Смоленской губернии был создан ряд партизанских отрядов. Руководители сычевских партизан Богоуславской и Емельянов установили в в отрядах должный порядок и дисциплину. Их партизаны за 2 недели уничтожили 572 и взяли в плен 325 солда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1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Жители Рославльского уезда создали несколько конных и пеших партизанских отрядов. Они не только защищали свой уезд но и оказывали помощь соседним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6" name="Picture 4" descr="280px-Adolphe_Yvon_(1817-1893)_-_Marshall_Ney_at_retreat_in_Russia"/>
          <p:cNvPicPr/>
          <p:nvPr/>
        </p:nvPicPr>
        <p:blipFill>
          <a:blip r:embed="rId1"/>
          <a:stretch/>
        </p:blipFill>
        <p:spPr>
          <a:xfrm>
            <a:off x="1981080" y="2819520"/>
            <a:ext cx="4800600" cy="297180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пешно действовал наиболее крупный гжатский отряд под предводительством Федора Попова. Он ввел систему оповещения населения об опасности посредством колокольного звона и условных знаков. Отряд Попова только в Смоленской губернии уничтожил более 3 тысяч француз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7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АШНИЙ</cp:lastModifiedBy>
  <dcterms:modified xsi:type="dcterms:W3CDTF">2012-10-08T16:47:0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