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0D9-9432-4D15-9585-08CB3ED7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8D2F-EED9-4020-AFCF-A66CD342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03A-38F7-40A5-8E17-53DBA44A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17A-B239-405C-9EE1-08DB0DD8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ED97-2005-4989-A257-9DB3BC2B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6450-F544-4989-9D65-BE1F2D22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004E-7074-4EAC-80A5-D4B10EDF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1FBE-090F-47B6-A687-7981443F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2C83-9AF7-4A6B-BD05-279BB487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93A0-D814-4882-BAB4-7B0F012A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370E-3AC6-41AE-A8E9-8E125471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4A4B-97FD-4956-8B7F-65EAF941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88D1-6BA3-4166-90DB-4239753D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C8E4-047D-4A8F-8684-5DC080BE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14BF-195F-49AC-8426-D081C15F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BADD-1DF3-4698-815E-1FC17546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CB04-E7C8-40FF-B60E-CB22D8DF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126-025D-4AF9-8F0C-F02D5384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16ED-73F7-4F37-92FA-D2AA6FB5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501C-3748-49F5-90AA-5581E0EB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6F9-DCA1-4DDF-84E6-FBA0475C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981-86E7-41DF-A865-AF1366C1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7085-6DD7-4473-9462-5F537EF9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B64-F079-491E-AF8B-6A3F02EB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43CD-B029-4851-99AE-C8867B982B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175F-EB31-42D3-B2A5-0013FBBC112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Консультация :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филактика желудочно – кишечных заболева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725560"/>
            <a:ext cx="5508720" cy="4132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508720" y="1052640"/>
            <a:ext cx="3992400" cy="5805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010120" y="907920"/>
            <a:ext cx="4133880" cy="5761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040360" cy="4697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одукты потребление которых необходимо ограничить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304120" cy="5300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6160" cy="3343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495680" y="2413080"/>
            <a:ext cx="4648320" cy="4444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5076720" cy="3645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4578480" cy="3282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564000" y="2673360"/>
            <a:ext cx="5580000" cy="4184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572000" cy="4941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одукты которые не рекомендуютс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3407040" cy="5353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969080" cy="3744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867280" y="2421000"/>
            <a:ext cx="2971800" cy="4200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5292720" cy="6759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5112000" cy="6362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4545000" cy="4778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032360" y="0"/>
            <a:ext cx="5111640" cy="383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280360" cy="590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5280" y="4680"/>
            <a:ext cx="8497800" cy="6848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актическое задание №2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оставьте список необходимых продуктов для 2-х дневного пох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з выбранных вами продуктов предложите возможные варианты меню (что можно приготовить в походных условиях с учетом правильного питания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одекс  пита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Питаться разнообразно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пища должна включать  яйца, молоко, творог, фрукты , каши, хлеб –организм тогда получает все необходимые питательные вещества 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Питаться регуляр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есть надо 4- 5 раз в день, и не  позднее чем за 2 часа до сна 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Кулинария – ключ к здоровь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ешьте больше сырой ,варенной ,пареной пищи, ограничьте жареное , употребляйте больше растительных жиров).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очему в школьном возрасте часто развиваются  желудочно-кишечные  заболевания 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иетическое пит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иета при болезнях почек – бессолева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иета  при сердечно-сосудистых заболеваниях –уменьшение объема потребления жидкост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иета при болезнях органов пищеварения- ограничение копченостей, сладостей, мясо желательно паров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актическое задание №1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 отправляетесь в загородную экскурсию выберите продукты в дорогу: бутерброды с колбасой, отварное мясо, лимонад, йогурт, сок, шоколад, яблоко, жаренные пирожки, печенные пирожки, паровые котлеты, копченная курица, гамбургер, конфеты- леденцы, картофельные чипсы, сухарики, печень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олезные  продукты пита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465800" cy="3268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67280" y="3648240"/>
            <a:ext cx="4762440" cy="3209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57880" cy="3645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99120" cy="3213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410000" y="0"/>
            <a:ext cx="4734000" cy="3933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284720" y="3645000"/>
            <a:ext cx="4859280" cy="321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32360" cy="4149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932360" y="3201840"/>
            <a:ext cx="4211640" cy="3656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32360" y="3556080"/>
            <a:ext cx="4572000" cy="3301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3357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1484280"/>
            <a:ext cx="5076720" cy="4149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6:58:39Z</dcterms:created>
  <dc:creator>Маркус</dc:creator>
  <dc:description/>
  <dc:language>en-US</dc:language>
  <cp:lastModifiedBy>Маркус</cp:lastModifiedBy>
  <dcterms:modified xsi:type="dcterms:W3CDTF">2012-11-14T18:59:28Z</dcterms:modified>
  <cp:revision>15</cp:revision>
  <dc:subject/>
  <dc:title>Слайд 1</dc:title>
</cp:coreProperties>
</file>