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14.gif" ContentType="image/gif"/>
  <Override PartName="/ppt/media/image1.jpeg" ContentType="image/jpe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7.gif" ContentType="image/gif"/>
  <Override PartName="/ppt/media/image8.wmf" ContentType="image/x-wmf"/>
  <Override PartName="/ppt/media/image9.png" ContentType="image/png"/>
  <Override PartName="/ppt/media/image5.png" ContentType="image/png"/>
  <Override PartName="/ppt/media/image13.wmf" ContentType="image/x-wmf"/>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3B690-F008-4E98-B7C8-D63545C76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FF6F8-EE0F-4ADE-BA5F-1E1D3B999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27280-258F-49AD-BC91-8FF950FD1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AD36D-8DA2-431D-802E-82231243E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2258E3-FBB6-4EED-BC76-A5283A1363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6388F-F9A6-4315-B87D-2D331B42A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18750-F644-4EE5-8C17-4912EDAE2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CC673-4AB3-4B95-B37B-773F668EF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66A2C-9EAC-4359-A75E-93EE98816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64F35-0FCA-40F0-B4D8-FE2A2335EE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CBFA8-AF73-46A6-90B2-98C68F15D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B63B0-1ECA-4FE2-995F-86C01AF0C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3408A-681A-47F1-A8E8-077F585DC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413A6-226B-4BB4-AE47-2AF51E988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95EC39-5D28-4474-BC87-3BFBA0D1C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FAE2D9-8EBC-497D-935D-A3D179942D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5E9658-9AE0-43DC-8EFD-B921AB42FB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C56341-4A0D-42C2-B1EA-A8614FE41F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0B0A85-E4E4-4515-BDB1-87B6D86BB8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C126EF-E83C-43F5-9BC3-2C64B9EB5B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067F48-EEA0-4AC2-9167-D8199C0534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963FE8-37CF-4D83-B9C3-BE66D08714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2308F-508C-41D0-ACBB-A992C0292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1CC9BD-1C16-4C68-910E-79D32D1956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4D967F-2DB5-4DDF-B3D4-4402CC6462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225858-C73D-4E00-901E-516F588501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FFFBC5-F4D7-4EC8-A7E9-6000F47FF3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ED7BA6-CBB1-495A-B273-0F50F76250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B6ED1F-495C-49E0-AEBD-0F1085D772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844FD3-4024-4116-AFBE-74F7500DF7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046E6C-EC51-4C5A-A76A-6DADA0467A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50BBA4-A590-44A1-98B2-20ED8A868D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2034A6-F502-4E42-A55A-3537AA4F6E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32447-8421-4CE9-BCA2-9C7D040B9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E9B2D3-33A5-4BBE-8F91-07E9AB61A6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8C4FFC-43CD-4C19-B5A9-6B859DCBDE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4117B7-EB3A-4EA5-9B08-353FB068D2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715698-7D2B-46C6-B53A-44235E0986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F96D79-7C2D-44FC-B9D7-E136F6DF83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1D1850-EE9D-4772-BEA8-CE9FF0D34C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288C56-0A77-423E-A6B3-1F4A188358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9E219B-9191-4264-8BFC-6CF85FF1F7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384F87-B565-46F0-AB25-13A2046AD9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CEF33-ADB3-474F-B66D-8A5D320BA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CA872-66F2-4C26-97FF-7DBB3582C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E1DBB-A877-46DA-86E5-A55A11B63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2A0E2-E048-4ADE-8051-57408483B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68432-0C6E-4B13-8E25-7F6A7F43E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6518-AB67-4312-A09E-067D97B256F8}"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46419-7891-4FF1-96C4-219FDA98D538}"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691C0-0579-4625-9402-AB7B545A8E15}"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6A382-28E3-4D1E-8273-63EFE764BF48}"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gi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530280" y="1255680"/>
            <a:ext cx="7864560" cy="20113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Работа ученицы 5 «а» класса</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Почуевой Юлии</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Научный руководитель:</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Пивоварова В.П.</a:t>
            </a:r>
            <a:endParaRPr b="0" lang="en-US" sz="2400" spc="-1" strike="noStrike">
              <a:solidFill>
                <a:srgbClr val="ffffff"/>
              </a:solidFill>
              <a:latin typeface="Constantia"/>
            </a:endParaRPr>
          </a:p>
        </p:txBody>
      </p:sp>
      <p:pic>
        <p:nvPicPr>
          <p:cNvPr id="197" name="Picture 4" descr="bigbook1"/>
          <p:cNvPicPr/>
          <p:nvPr/>
        </p:nvPicPr>
        <p:blipFill>
          <a:blip r:embed="rId2"/>
          <a:stretch/>
        </p:blipFill>
        <p:spPr>
          <a:xfrm>
            <a:off x="684360" y="4292640"/>
            <a:ext cx="2232000" cy="187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499680"/>
            <a:ext cx="8229600" cy="582444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Изначально в качестве имени у наших далёких предков выступали  «говорящие» словосочетания, несущие определённый смысл: «Быстрый олень», «Большой клык», «Зоркий глаз», «Утренняя Заря». Для удобства человечество отказалось от уникальности первых имен. Некоторые имена сохранили буквальное значение: Любовь, Надежда, Вера, Света. Какие-то из них утратили непосредственную связь с изначальным смыслом. Например, не прочитав в справочнике, что Алексей — это «защитник», а Петр — «камень», вы вряд ли об этом догадаетесь. К примеру, имя Артур толкуют как «Медведь», а Лариса - как «Чайка».</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57200" y="142560"/>
            <a:ext cx="8229600" cy="618156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Обычно у человека, как минимум, два значения имени: паспортное (полное) и уменьшительное (Анна-Аня, Анюта; Виктория – Вика; Александр – Саша, Шура). И он совершено по-разному реагирует и отзывается на них. </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Люди с одним постоянным именем (Денис, Глеб, Вера, Алиса, Алина, Карина...) более серьёзны и "однобоки", более постоянны и вдумчивы.</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Популярность имен – штука не очень стабильная. Как правило, имя бывает популярным в течение некоторого периода времени, потом уступает место другим именам. Периодическая смена популярных имен обусловлена главной функцией имени – быть средством различения людей.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285480"/>
            <a:ext cx="8229600" cy="642924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Русские люди не очень любят кардинальных изменений в своем именнике. Если состав имен и «штормит» после социальных катаклизмов, то «штормит» в основном низкочастотную группу имен. Наиболее частотная группа имен изменяется относительно медленно. Примеры резких, «взрывных» вхождений в состав наиболее употребительных имен можно пересчитать по пальцам. Но они все же были на памяти нынешних поколений русских. Так, малозаметное имя </a:t>
            </a:r>
            <a:r>
              <a:rPr b="0" i="1" lang="ru-RU" sz="2600" spc="-1" strike="noStrike">
                <a:solidFill>
                  <a:srgbClr val="000000"/>
                </a:solidFill>
                <a:latin typeface="Constantia"/>
              </a:rPr>
              <a:t>Валерий</a:t>
            </a:r>
            <a:r>
              <a:rPr b="0" lang="ru-RU" sz="2600" spc="-1" strike="noStrike">
                <a:solidFill>
                  <a:srgbClr val="000000"/>
                </a:solidFill>
                <a:latin typeface="Constantia"/>
              </a:rPr>
              <a:t> пережило в 1940-е гг. поистине головокружительный взлет. Если в 1924–1932 гг. в Москве его получали 4 мальчика из каждой тысячи, то в 1940–1949 гг. – уже 43! В данном случае «виновником» роста популярности имени стал прославленный летчик Валерий Чкалов.</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213840"/>
            <a:ext cx="8229600" cy="61102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По сведениям отдела ЗАГС Василеостровского района г. Санкт-Петербурга, новорожденным мальчикам в 2000 году чаще всего давали имена </a:t>
            </a:r>
            <a:r>
              <a:rPr b="0" lang="ru-RU" sz="2600" spc="-1" strike="noStrike">
                <a:solidFill>
                  <a:srgbClr val="ff0000"/>
                </a:solidFill>
                <a:latin typeface="Constantia"/>
              </a:rPr>
              <a:t>Даниил, Александр, Андрей </a:t>
            </a:r>
            <a:r>
              <a:rPr b="0" lang="ru-RU" sz="2600" spc="-1" strike="noStrike">
                <a:solidFill>
                  <a:srgbClr val="000000"/>
                </a:solidFill>
                <a:latin typeface="Constantia"/>
              </a:rPr>
              <a:t>(по 26 человек), а также Дмитрий и Михаил (по 23 человека), Алексей (21 человек), Никита (18 человек), Илья (16 человек). Среди экзотических встречались такие имена, как Иооан, Эдмонд, Корнил, Лут, Царь, Дильшод, Гонерии Абдул.</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Среди женских имен: </a:t>
            </a:r>
            <a:r>
              <a:rPr b="0" lang="ru-RU" sz="2600" spc="-1" strike="noStrike">
                <a:solidFill>
                  <a:srgbClr val="ff0000"/>
                </a:solidFill>
                <a:latin typeface="Constantia"/>
              </a:rPr>
              <a:t>Анастасия</a:t>
            </a:r>
            <a:r>
              <a:rPr b="0" lang="ru-RU" sz="2600" spc="-1" strike="noStrike">
                <a:solidFill>
                  <a:srgbClr val="000000"/>
                </a:solidFill>
                <a:latin typeface="Constantia"/>
              </a:rPr>
              <a:t> – 31 человек, </a:t>
            </a:r>
            <a:r>
              <a:rPr b="0" lang="ru-RU" sz="2600" spc="-1" strike="noStrike">
                <a:solidFill>
                  <a:srgbClr val="ff0000"/>
                </a:solidFill>
                <a:latin typeface="Constantia"/>
              </a:rPr>
              <a:t>Анна и Ксения</a:t>
            </a:r>
            <a:r>
              <a:rPr b="0" lang="ru-RU" sz="2600" spc="-1" strike="noStrike">
                <a:solidFill>
                  <a:srgbClr val="000000"/>
                </a:solidFill>
                <a:latin typeface="Constantia"/>
              </a:rPr>
              <a:t> – по 24человека, Екатерина – 23 человека, Дарья и Александра – по 22 человека. Экзотические женские имена 2000 года: Элэнэ, Анаид, Гванца, Ева-Полина, Вера-Вероника, Елена-Станислава, Лив-София.</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213840"/>
            <a:ext cx="8229600" cy="6110280"/>
          </a:xfrm>
          <a:prstGeom prst="rect">
            <a:avLst/>
          </a:prstGeom>
          <a:noFill/>
          <a:ln w="0">
            <a:noFill/>
          </a:ln>
        </p:spPr>
        <p:txBody>
          <a:bodyPr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В Петербурге в 2008 году  были самыми популярными </a:t>
            </a:r>
            <a:r>
              <a:rPr b="0" lang="ru-RU" sz="2400" spc="-1" strike="noStrike">
                <a:solidFill>
                  <a:srgbClr val="ff0000"/>
                </a:solidFill>
                <a:latin typeface="Constantia"/>
              </a:rPr>
              <a:t>Александр</a:t>
            </a:r>
            <a:r>
              <a:rPr b="0" lang="ru-RU" sz="2400" spc="-1" strike="noStrike">
                <a:solidFill>
                  <a:srgbClr val="000000"/>
                </a:solidFill>
                <a:latin typeface="Constantia"/>
              </a:rPr>
              <a:t> и </a:t>
            </a:r>
            <a:r>
              <a:rPr b="0" lang="ru-RU" sz="2400" spc="-1" strike="noStrike">
                <a:solidFill>
                  <a:srgbClr val="ff0000"/>
                </a:solidFill>
                <a:latin typeface="Constantia"/>
              </a:rPr>
              <a:t>Анастасия</a:t>
            </a:r>
            <a:r>
              <a:rPr b="0" lang="ru-RU" sz="2400" spc="-1" strike="noStrike">
                <a:solidFill>
                  <a:srgbClr val="000000"/>
                </a:solidFill>
                <a:latin typeface="Constantia"/>
              </a:rPr>
              <a:t>. Экзотические имена 2008 года: Амадис, Ведагор, Егор- Светозар, Лукерий, Людамир, Океан, Ратмир, Афина-Каролина, Варлаама, Есения-София, Звана, Ладослава, Мария-Евдокия, Мирослава-Марфа, Юнесса.</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о-статистике, «пальма первенства» среди мужских имён 2011 года принадлежит имени </a:t>
            </a:r>
            <a:r>
              <a:rPr b="0" lang="ru-RU" sz="2400" spc="-1" strike="noStrike">
                <a:solidFill>
                  <a:srgbClr val="ff0000"/>
                </a:solidFill>
                <a:latin typeface="Constantia"/>
              </a:rPr>
              <a:t>Александр</a:t>
            </a:r>
            <a:r>
              <a:rPr b="0" lang="ru-RU" sz="2400" spc="-1" strike="noStrike">
                <a:solidFill>
                  <a:srgbClr val="000000"/>
                </a:solidFill>
                <a:latin typeface="Constantia"/>
              </a:rPr>
              <a:t>. Оно держится в первой десятке уже доброе столетие. В прошлом таким «чемпионом» по стабильности у русских было имя </a:t>
            </a:r>
            <a:r>
              <a:rPr b="0" i="1" lang="ru-RU" sz="2400" spc="-1" strike="noStrike">
                <a:solidFill>
                  <a:srgbClr val="ff0000"/>
                </a:solidFill>
                <a:latin typeface="Constantia"/>
              </a:rPr>
              <a:t>Иван</a:t>
            </a:r>
            <a:r>
              <a:rPr b="0" i="1" lang="ru-RU" sz="2400" spc="-1" strike="noStrike">
                <a:solidFill>
                  <a:srgbClr val="000000"/>
                </a:solidFill>
                <a:latin typeface="Constantia"/>
              </a:rPr>
              <a:t>.</a:t>
            </a:r>
            <a:r>
              <a:rPr b="0" lang="ru-RU" sz="2400" spc="-1" strike="noStrike">
                <a:solidFill>
                  <a:srgbClr val="000000"/>
                </a:solidFill>
                <a:latin typeface="Constantia"/>
              </a:rPr>
              <a:t> За ним следуют Максим, Иван, Артем, Дмитрий, Никита, Михаил, Даниил, Егор, Андрей.</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В 2011году наиболее популярными  женскими именами стали </a:t>
            </a:r>
            <a:r>
              <a:rPr b="0" lang="ru-RU" sz="2400" spc="-1" strike="noStrike">
                <a:solidFill>
                  <a:srgbClr val="ff0000"/>
                </a:solidFill>
                <a:latin typeface="Constantia"/>
              </a:rPr>
              <a:t>Анастасия</a:t>
            </a:r>
            <a:r>
              <a:rPr b="0" lang="ru-RU" sz="2400" spc="-1" strike="noStrike">
                <a:solidFill>
                  <a:srgbClr val="000000"/>
                </a:solidFill>
                <a:latin typeface="Constantia"/>
              </a:rPr>
              <a:t>, Мария, Дарья, Анна, Елизавета, Полина, Виктория, Екатерина.</a:t>
            </a:r>
            <a:endParaRPr b="0" lang="en-US" sz="24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213840"/>
            <a:ext cx="8229600" cy="61102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0000"/>
                </a:solidFill>
                <a:latin typeface="Constantia"/>
              </a:rPr>
              <a:t>Валентина</a:t>
            </a:r>
            <a:r>
              <a:rPr b="1" lang="ru-RU" sz="2600" spc="-1" strike="noStrike">
                <a:solidFill>
                  <a:srgbClr val="000000"/>
                </a:solidFill>
                <a:latin typeface="Constantia"/>
              </a:rPr>
              <a:t> </a:t>
            </a:r>
            <a:r>
              <a:rPr b="0" lang="ru-RU" sz="2600" spc="-1" strike="noStrike">
                <a:solidFill>
                  <a:srgbClr val="000000"/>
                </a:solidFill>
                <a:latin typeface="Constantia"/>
              </a:rPr>
              <a:t>в переводе с латинского языка значит «сильная, здоровая». Женская форма имени Валентин встречается чаще потому, что она ярче и определеннее. В делах она всегда серьезна, этим выделяется среди сверстников. Валя очень добрая, проникается проблемами подруг, всегда готова помочь, даже отбросив собственные необходимые в данный момент заботы. У Валентины легкий характер, она добродушна, безобидна, иногда вспыльчива, но быстро отходит. Валентина трудолюбива, по-житейски умна. В любой профессии Валентина выкладывается полностью, она становится хорошим врачом, любимой учительницей, замечательной актрисой. Все эти качества мы наблюдаем у </a:t>
            </a:r>
            <a:r>
              <a:rPr b="0" lang="ru-RU" sz="2600" spc="-1" strike="noStrike">
                <a:solidFill>
                  <a:srgbClr val="ff0000"/>
                </a:solidFill>
                <a:latin typeface="Constantia"/>
              </a:rPr>
              <a:t>Валентины Григорьевны</a:t>
            </a:r>
            <a:r>
              <a:rPr b="0" lang="ru-RU" sz="2600" spc="-1" strike="noStrike">
                <a:solidFill>
                  <a:srgbClr val="000000"/>
                </a:solidFill>
                <a:latin typeface="Constantia"/>
              </a:rPr>
              <a:t>.</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142560"/>
            <a:ext cx="8229600" cy="618156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Мое имя </a:t>
            </a:r>
            <a:r>
              <a:rPr b="0" lang="ru-RU" sz="2600" spc="-1" strike="noStrike">
                <a:solidFill>
                  <a:srgbClr val="ff0000"/>
                </a:solidFill>
                <a:latin typeface="Constantia"/>
              </a:rPr>
              <a:t>Юлия</a:t>
            </a:r>
            <a:r>
              <a:rPr b="0" lang="ru-RU" sz="2600" spc="-1" strike="noStrike">
                <a:solidFill>
                  <a:srgbClr val="000000"/>
                </a:solidFill>
                <a:latin typeface="Constantia"/>
              </a:rPr>
              <a:t>. Я узнала его значение и происхождение. Юлия- женская форма имени Юлий. Относится к группе латинских имён. Юля - с необузданной фантазией, обидчивая и легко ранимая девочка. В настроении заметны резкие перепады, Юлю трудно переспорить, она стоит на своём, несколько пуглива, не любит фильмы ужасов, не переносит вида крови.</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Взрослая Юлия запаслива, бережлива, хорошо готовит. Юлия удачлива в браке, гостеприимна, не завистлива. Юлии любят своих мужей и детей.</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Мешает Юлии упрямство, которым она отличается с детства. </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Многие Юлии – страстные книголюбы.</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214200"/>
            <a:ext cx="8229600" cy="642960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Мы пришли к выводу, что важно не столько имя, сколько его внутреннее содержание. Имя надо давать, зная, что оно обозначает. Так, например, Александр в переводе с греческого значит: «алекс» - защитник, «андрос» - мужчина. Такие люди благородны, готовы прийти на помощь в любую минуту, настоящие мужчины.</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Анастасия в переводе с древнегреческого значит «воскрешенная, возвращенная к жизни». Настенька – самое распространенное имя русских сказок. Ей на роду написано быть самой умной и красивой.</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ведя исследование имён ЛЦО за 1993-2010 год, мы пришли к выводу, что самым популярным мужским именем является имя </a:t>
            </a:r>
            <a:r>
              <a:rPr b="0" lang="ru-RU" sz="2400" spc="-1" strike="noStrike">
                <a:solidFill>
                  <a:srgbClr val="ff0000"/>
                </a:solidFill>
                <a:latin typeface="Constantia"/>
              </a:rPr>
              <a:t>Александр </a:t>
            </a:r>
            <a:r>
              <a:rPr b="0" lang="ru-RU" sz="2400" spc="-1" strike="noStrike">
                <a:solidFill>
                  <a:srgbClr val="000000"/>
                </a:solidFill>
                <a:latin typeface="Constantia"/>
              </a:rPr>
              <a:t>(30 человек), за ним следуют </a:t>
            </a:r>
            <a:r>
              <a:rPr b="0" lang="ru-RU" sz="2400" spc="-1" strike="noStrike">
                <a:solidFill>
                  <a:srgbClr val="0070c0"/>
                </a:solidFill>
                <a:latin typeface="Constantia"/>
              </a:rPr>
              <a:t>Никита </a:t>
            </a:r>
            <a:r>
              <a:rPr b="0" lang="ru-RU" sz="2400" spc="-1" strike="noStrike">
                <a:solidFill>
                  <a:srgbClr val="000000"/>
                </a:solidFill>
                <a:latin typeface="Constantia"/>
              </a:rPr>
              <a:t>(22 человека), </a:t>
            </a:r>
            <a:r>
              <a:rPr b="0" lang="ru-RU" sz="2400" spc="-1" strike="noStrike">
                <a:solidFill>
                  <a:srgbClr val="0070c0"/>
                </a:solidFill>
                <a:latin typeface="Constantia"/>
              </a:rPr>
              <a:t>Дмитрий </a:t>
            </a:r>
            <a:r>
              <a:rPr b="0" lang="ru-RU" sz="2400" spc="-1" strike="noStrike">
                <a:solidFill>
                  <a:srgbClr val="000000"/>
                </a:solidFill>
                <a:latin typeface="Constantia"/>
              </a:rPr>
              <a:t>(22 человека), </a:t>
            </a:r>
            <a:r>
              <a:rPr b="0" lang="ru-RU" sz="2400" spc="-1" strike="noStrike">
                <a:solidFill>
                  <a:srgbClr val="00b050"/>
                </a:solidFill>
                <a:latin typeface="Constantia"/>
              </a:rPr>
              <a:t>Алексей</a:t>
            </a:r>
            <a:r>
              <a:rPr b="0" lang="ru-RU" sz="2400" spc="-1" strike="noStrike">
                <a:solidFill>
                  <a:srgbClr val="000000"/>
                </a:solidFill>
                <a:latin typeface="Constantia"/>
              </a:rPr>
              <a:t> (21 человек), </a:t>
            </a:r>
            <a:r>
              <a:rPr b="0" lang="ru-RU" sz="2400" spc="-1" strike="noStrike">
                <a:solidFill>
                  <a:srgbClr val="00b050"/>
                </a:solidFill>
                <a:latin typeface="Constantia"/>
              </a:rPr>
              <a:t>Иван</a:t>
            </a:r>
            <a:r>
              <a:rPr b="0" lang="ru-RU" sz="2400" spc="-1" strike="noStrike">
                <a:solidFill>
                  <a:srgbClr val="000000"/>
                </a:solidFill>
                <a:latin typeface="Constantia"/>
              </a:rPr>
              <a:t> (21 человек) и </a:t>
            </a:r>
            <a:r>
              <a:rPr b="0" lang="ru-RU" sz="2400" spc="-1" strike="noStrike">
                <a:solidFill>
                  <a:srgbClr val="00b050"/>
                </a:solidFill>
                <a:latin typeface="Constantia"/>
              </a:rPr>
              <a:t>Даниил</a:t>
            </a:r>
            <a:r>
              <a:rPr b="0" lang="ru-RU" sz="2400" spc="-1" strike="noStrike">
                <a:solidFill>
                  <a:srgbClr val="000000"/>
                </a:solidFill>
                <a:latin typeface="Constantia"/>
              </a:rPr>
              <a:t>(21 человек).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213840"/>
            <a:ext cx="8229600" cy="61102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Среди женских имён в десятку самых популярных имен ЛЦО вошли: </a:t>
            </a:r>
            <a:r>
              <a:rPr b="0" lang="ru-RU" sz="2600" spc="-1" strike="noStrike">
                <a:solidFill>
                  <a:srgbClr val="ff0000"/>
                </a:solidFill>
                <a:latin typeface="Constantia"/>
              </a:rPr>
              <a:t>Анастасия</a:t>
            </a:r>
            <a:r>
              <a:rPr b="0" lang="ru-RU" sz="2600" spc="-1" strike="noStrike">
                <a:solidFill>
                  <a:srgbClr val="000000"/>
                </a:solidFill>
                <a:latin typeface="Constantia"/>
              </a:rPr>
              <a:t> (37 человек), </a:t>
            </a:r>
            <a:r>
              <a:rPr b="0" lang="ru-RU" sz="2600" spc="-1" strike="noStrike">
                <a:solidFill>
                  <a:srgbClr val="0070c0"/>
                </a:solidFill>
                <a:latin typeface="Constantia"/>
              </a:rPr>
              <a:t>Анна</a:t>
            </a:r>
            <a:r>
              <a:rPr b="0" lang="ru-RU" sz="2600" spc="-1" strike="noStrike">
                <a:solidFill>
                  <a:srgbClr val="000000"/>
                </a:solidFill>
                <a:latin typeface="Constantia"/>
              </a:rPr>
              <a:t> (24 человека), </a:t>
            </a:r>
            <a:r>
              <a:rPr b="0" lang="ru-RU" sz="2600" spc="-1" strike="noStrike">
                <a:solidFill>
                  <a:srgbClr val="00b050"/>
                </a:solidFill>
                <a:latin typeface="Constantia"/>
              </a:rPr>
              <a:t>Елизавета</a:t>
            </a:r>
            <a:r>
              <a:rPr b="0" lang="ru-RU" sz="2600" spc="-1" strike="noStrike">
                <a:solidFill>
                  <a:srgbClr val="000000"/>
                </a:solidFill>
                <a:latin typeface="Constantia"/>
              </a:rPr>
              <a:t> (23 человека), Алина (20 человек), Кристина (19 человек), Мария (18 человек), Екатерина (17 человек), Полина (17 человек), Ксения (15 человек), Виктория (15 человек). </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Наиболее популярным мужским именем в </a:t>
            </a:r>
            <a:r>
              <a:rPr b="0" lang="ru-RU" sz="2600" spc="-1" strike="noStrike">
                <a:solidFill>
                  <a:srgbClr val="ff0000"/>
                </a:solidFill>
                <a:latin typeface="Constantia"/>
              </a:rPr>
              <a:t>2000</a:t>
            </a:r>
            <a:r>
              <a:rPr b="0" lang="ru-RU" sz="2600" spc="-1" strike="noStrike">
                <a:solidFill>
                  <a:srgbClr val="000000"/>
                </a:solidFill>
                <a:latin typeface="Constantia"/>
              </a:rPr>
              <a:t> году было имя Дмитрий (из 22 человек так названы 4, что составляет 18% от учащихся этого года рождения).</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Самым популярным женским именем в </a:t>
            </a:r>
            <a:r>
              <a:rPr b="0" lang="ru-RU" sz="2600" spc="-1" strike="noStrike">
                <a:solidFill>
                  <a:srgbClr val="ff0000"/>
                </a:solidFill>
                <a:latin typeface="Constantia"/>
              </a:rPr>
              <a:t>2001</a:t>
            </a:r>
            <a:r>
              <a:rPr b="0" lang="ru-RU" sz="2600" spc="-1" strike="noStrike">
                <a:solidFill>
                  <a:srgbClr val="000000"/>
                </a:solidFill>
                <a:latin typeface="Constantia"/>
              </a:rPr>
              <a:t> году в Лесколово было имя Екатерина (5 человек из 25, что составляет 20%), а мужским – Александр(5 учащихся из 26 носят это имя).</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7200" y="642960"/>
            <a:ext cx="8229600" cy="568152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В последние годы наблюдается интерес родителей к таким именам, как Всеволод, Мирослав, Ростислав, Матвей, Степан, Егор, Ульяна и Варвара. В этом мы видим стремление к возрождению культурных традиций славян.</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Начиная с 1995 года среди распространенных русских имен стали появляться имена тюркского (восточного) происхождения: Лейла, Адыль, Али, Акбер,  Ильяс, Диловар и другие. Есть в нашем центре  армянские, азербайджанские  и чеченские имена: Мерине, Нарине,Тигран,  Шамсудин, Хушнуда, Макка, Роксана, Нурлан.</a:t>
            </a: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357120"/>
            <a:ext cx="8229600" cy="5967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Имя-это ключ к человеческой душе.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Имя по-гречески – «онома». Наука об именах называется ономастикой. Учёных, занимающихся наукой о языках, интересует всё: значение имени, история его появления, распространение в мире, связь имени с религией и т.д. Сегодня ономастика шагнула дальше и стала изучать вопросы, связанные с психологией, психикой, темпераментом и характером человека, а также с реакцией головного мозга (положительной или отрицательной) на то или иное имя.</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Имя человека-это мощный носитель информации о нём. </a:t>
            </a:r>
            <a:endParaRPr b="0" lang="en-US" sz="2600" spc="-1" strike="noStrike">
              <a:solidFill>
                <a:srgbClr val="000000"/>
              </a:solidFill>
              <a:latin typeface="Constantia"/>
            </a:endParaRPr>
          </a:p>
        </p:txBody>
      </p:sp>
      <p:pic>
        <p:nvPicPr>
          <p:cNvPr id="199" name="Рисунок 3" descr="C:\Program Files\Microsoft Office\Clipart\standard\stddir1\bd07213_.wmf"/>
          <p:cNvPicPr/>
          <p:nvPr/>
        </p:nvPicPr>
        <p:blipFill>
          <a:blip r:embed="rId1"/>
          <a:stretch/>
        </p:blipFill>
        <p:spPr>
          <a:xfrm>
            <a:off x="7358040" y="5286240"/>
            <a:ext cx="1548000" cy="1463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499680"/>
            <a:ext cx="8229600" cy="58244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Имя может влиять на нашу личность и в определенной степени на судьбу человека. Но мы считаем, что мало иметь хорошее имя, надо еще и соответствовать ему, ведь хорошее имя – всего лишь аванс, который предстоит и оправдать, и отработать. Ведь бывает, что человек своим поведением и поступками не оправдывает своего прекрасного имени. Тогда симпатия к нему пропадает, несмотря ни на что. Это гораздо хуже, это – грех для верующего человека любого вероисповедания.</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5" name="Picture 7" descr="office9"/>
          <p:cNvPicPr/>
          <p:nvPr/>
        </p:nvPicPr>
        <p:blipFill>
          <a:blip r:embed="rId1"/>
          <a:stretch/>
        </p:blipFill>
        <p:spPr>
          <a:xfrm>
            <a:off x="6357960" y="4500720"/>
            <a:ext cx="2133720" cy="213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213840"/>
            <a:ext cx="8229600" cy="611028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Есть ли у имени характеристики, которые неизбежно становятся присущи тому, кто его носит? Может ли имя влиять на жизнь и судьбу своего носителя или все зависит от воспитания? Ответы на эти вопросы могут быть самыми разными, но одно несомненно: человек отождествляет себя со своим именем. </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Каждое имя обладает своим персональным образом, сложившимся в ходе истории. Имена великих людей ассоциируются в общественном сознании с определёнными стремлениями и достижениями. Узнавая про подвиги своих тёзок, человек обретает источник дополнительной уверенности в том, что и он может так же сделать. Недаром в королевских династиях разных времён одни и те же имена повторялись из поколения в поколение. </a:t>
            </a:r>
            <a:endParaRPr b="0" lang="en-US" sz="2400" spc="-1" strike="noStrike">
              <a:solidFill>
                <a:srgbClr val="000000"/>
              </a:solidFill>
              <a:latin typeface="Constantia"/>
            </a:endParaRPr>
          </a:p>
        </p:txBody>
      </p:sp>
      <p:pic>
        <p:nvPicPr>
          <p:cNvPr id="201" name="Picture 8" descr="b01b9c64ad3d"/>
          <p:cNvPicPr/>
          <p:nvPr/>
        </p:nvPicPr>
        <p:blipFill>
          <a:blip r:embed="rId1"/>
          <a:stretch/>
        </p:blipFill>
        <p:spPr>
          <a:xfrm>
            <a:off x="7286760" y="4857840"/>
            <a:ext cx="1714320" cy="184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1499760"/>
            <a:ext cx="8229600" cy="482436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Звуки и их сочетание имеют собственную эмоциональную окраску и вызывают у нас определенные образы и ассоциации. </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Сочетание звуков в имени играет очень важную роль. Если звучание вашего имени гармонирует с внутренними ритмами, вызывает в подсознании какие-либо положительные эмоции: гордость, уважение, то есть нравится вам – у вас гораздо больше шансов стать счастливым и успешным человеком, чем если вы будете каждый раз испытывать дискомфорт при его звучании и завидовать людям с красивыми именами. </a:t>
            </a:r>
            <a:endParaRPr b="0" lang="en-US" sz="2600" spc="-1" strike="noStrike">
              <a:solidFill>
                <a:srgbClr val="000000"/>
              </a:solidFill>
              <a:latin typeface="Constantia"/>
            </a:endParaRPr>
          </a:p>
        </p:txBody>
      </p:sp>
      <p:pic>
        <p:nvPicPr>
          <p:cNvPr id="203" name="Picture 1" descr="D:\My private\картинки\ШКОЛА. 1 СЕНТЯБРЯ (АНИМАЦИИ и КАРТИНКИ)\УЧИТЕЛЬ ДУМАЕТ.png"/>
          <p:cNvPicPr/>
          <p:nvPr/>
        </p:nvPicPr>
        <p:blipFill>
          <a:blip r:embed="rId1"/>
          <a:stretch/>
        </p:blipFill>
        <p:spPr>
          <a:xfrm>
            <a:off x="285840" y="0"/>
            <a:ext cx="1357200" cy="15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u="sng">
                <a:solidFill>
                  <a:srgbClr val="04617b"/>
                </a:solidFill>
                <a:uFillTx/>
                <a:latin typeface="Constantia"/>
              </a:rPr>
              <a:t>Цель исследования:</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nstantia"/>
              </a:rPr>
              <a:t>Выяснить, какие имена являются самыми популярными и самыми редкими в ЛЦО</a:t>
            </a:r>
            <a:endParaRPr b="0" lang="en-US" sz="4000" spc="-1" strike="noStrike">
              <a:solidFill>
                <a:srgbClr val="000000"/>
              </a:solidFill>
              <a:latin typeface="Constantia"/>
            </a:endParaRPr>
          </a:p>
        </p:txBody>
      </p:sp>
      <p:pic>
        <p:nvPicPr>
          <p:cNvPr id="206" name="Рисунок 4" descr="u576ed.jpg"/>
          <p:cNvPicPr/>
          <p:nvPr/>
        </p:nvPicPr>
        <p:blipFill>
          <a:blip r:embed="rId1"/>
          <a:stretch/>
        </p:blipFill>
        <p:spPr>
          <a:xfrm>
            <a:off x="5000760" y="3500280"/>
            <a:ext cx="3635280" cy="2494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75920"/>
            <a:ext cx="8229600" cy="11523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u="sng">
                <a:solidFill>
                  <a:srgbClr val="04617b"/>
                </a:solidFill>
                <a:uFillTx/>
                <a:latin typeface="Constantia"/>
              </a:rPr>
              <a:t>Задачи исследования:</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nstantia"/>
              </a:rPr>
              <a:t>1. Проанализировать списки учащихся и воспитанников ЛЦО, начиная с 1993года</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nstantia"/>
              </a:rPr>
              <a:t>2. Выявить самые популярные и самые редкие имена детей в ЛЦО</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nstantia"/>
              </a:rPr>
              <a:t>3. Провести опрос, почему так были названы дети</a:t>
            </a: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09" name="Picture 207" descr="Рисунок1в"/>
          <p:cNvPicPr/>
          <p:nvPr/>
        </p:nvPicPr>
        <p:blipFill>
          <a:blip r:embed="rId1"/>
          <a:stretch/>
        </p:blipFill>
        <p:spPr>
          <a:xfrm>
            <a:off x="6715080" y="4429080"/>
            <a:ext cx="1928880" cy="1643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209"/>
                                        </p:tgtEl>
                                        <p:attrNameLst>
                                          <p:attrName>style.visibility</p:attrName>
                                        </p:attrNameLst>
                                      </p:cBhvr>
                                      <p:to>
                                        <p:strVal val="visible"/>
                                      </p:to>
                                    </p:set>
                                    <p:animEffect filter="wipe(down)" transition="in">
                                      <p:cBhvr additive="repl">
                                        <p:cTn id="7"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57200" y="428400"/>
            <a:ext cx="8229600" cy="58957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У каждого имени есть свой социальный образ и характер. Узнавая историю человечества и своей страны, читая романы и учебники, ребёнок невольно обращает внимание на тёзок, какими они были, что сделали, чем запомнились они потомкам. Он встречает в них те черты, которые свойственны или желанны ему самому.</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Каждое имя обладает своим персональным образом, сложившимся в ходе истории. Имена великих людей ассоциируются в общественном сознании с определёнными стремлениями и достижениями. </a:t>
            </a:r>
            <a:endParaRPr b="0" lang="en-US" sz="2600" spc="-1" strike="noStrike">
              <a:solidFill>
                <a:srgbClr val="000000"/>
              </a:solidFill>
              <a:latin typeface="Constantia"/>
            </a:endParaRPr>
          </a:p>
        </p:txBody>
      </p:sp>
      <p:pic>
        <p:nvPicPr>
          <p:cNvPr id="211" name="Рисунок 1" descr="J0079190"/>
          <p:cNvPicPr/>
          <p:nvPr/>
        </p:nvPicPr>
        <p:blipFill>
          <a:blip r:embed="rId1"/>
          <a:stretch/>
        </p:blipFill>
        <p:spPr>
          <a:xfrm>
            <a:off x="7715160" y="4714920"/>
            <a:ext cx="1096920" cy="1736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285840"/>
            <a:ext cx="8229600" cy="6038640"/>
          </a:xfrm>
          <a:prstGeom prst="rect">
            <a:avLst/>
          </a:prstGeom>
          <a:noFill/>
          <a:ln w="0">
            <a:noFill/>
          </a:ln>
        </p:spPr>
        <p:txBody>
          <a:bodyPr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В языческие времена ребенку давали имя неблагозвучное, отталкивающее, тем самым как бы оберегая младенца от злых духов. (Даже злые духи не любят некрасивых имен.) Также считалось, что если дать ребенку имя святого или великомученика, то жизнь его будет светлой, хорошей или трудной, потому что существует незримая связь между именем и судьбой человека и имя печатью ложится на человеческую судьбу.</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Во времена революционной перестройки общества очень часто давались имена, связанные с политическими преобразованиями (имя Кима - Коммунистический интернационал молодежи, Октябрина – имя в честь Октябрьской революции, Вилена – в честь Владимира Ильича Ленина, Майя – в честь социалистического праздника всех трудящихся)</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57200" y="357120"/>
            <a:ext cx="8229600" cy="596736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О незримой связи имени и судьбы указывали в своих работах философы Лосев, Флоренский, который дал анализ тридцати двух имен через синтез значения имени и его звучания, что в свою очередь подтверждается астрологическими образами на основе звукового облика слова. Все в этом мире взаимосвязано. И астрология дает нам не только целостную систему образов мира, но и сами имена сводит в систему и позволяет установить связь между человеком и его именем, а полученная таким образом классификация имен отражает закономерности природного процесса, и двенадцать знаков Зодиака рассматриваются уже как двенадцать психотипов личности.</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ДопОбр</cp:lastModifiedBy>
  <dcterms:modified xsi:type="dcterms:W3CDTF">2012-02-16T14:56:06Z</dcterms:modified>
  <cp:revision>26</cp:revision>
  <dc:subject/>
  <dc:title>ПОПУЛЯРНЫЕ ИМЕНА ЛЦО</dc:title>
</cp:coreProperties>
</file>