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2.gif" ContentType="image/gif"/>
  <Override PartName="/ppt/media/image3.jpeg" ContentType="image/jpeg"/>
  <Override PartName="/ppt/media/image15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E7C-A0A4-4585-9D98-811903B0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298A-A9E1-4626-BD9D-74A1F1F7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D83-F09A-4713-9129-A2AD5ADE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F6A6-403E-426E-9233-A71E5E07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BFB2-908C-49DF-B5E5-641E4873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825-ABF9-4058-9A6A-B025C893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88E-8243-4A1E-AA1E-35EC65CC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432-3F9D-462D-B02B-A61423C7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E99-0A55-47F1-A6CF-C9B284C0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3494-7501-4B90-A967-DE7AB1C3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85F-A818-4F63-8DCD-43E91CF6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5FD2-EBF7-4E97-9957-44F25F61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256B-EDB2-42A0-8BA9-ADAA50E21FCD}" type="slidenum">
              <a:rPr b="1" lang="ru-RU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to.sibmama.ru/albums/userpics/12442/normal_%EC%E0%EB%FC%F7%E8%EA-1.gif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askraska.narod.ru/images/boy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тар тел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класс</a:t>
            </a:r>
            <a:br>
              <a:rPr sz="3600"/>
            </a:br>
            <a:endParaRPr b="0" lang="en-US" sz="3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Тема: Билгесез </a:t>
            </a:r>
            <a:r>
              <a:rPr b="1" lang="tt-RU" sz="3600" spc="-1" strike="noStrike">
                <a:solidFill>
                  <a:srgbClr val="008000"/>
                </a:solidFill>
                <a:latin typeface="Arial"/>
              </a:rPr>
              <a:t>үткән заман хикәя фигыл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ь</a:t>
            </a:r>
            <a:r>
              <a:rPr b="1" lang="tt-RU" sz="36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Укытучы: Бәширова А.И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701640" y="60948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6372360" y="63828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3"/>
          <a:stretch/>
        </p:blipFill>
        <p:spPr>
          <a:xfrm>
            <a:off x="3581280" y="638280"/>
            <a:ext cx="243864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4"/>
          <a:stretch/>
        </p:blipFill>
        <p:spPr>
          <a:xfrm>
            <a:off x="685800" y="3429000"/>
            <a:ext cx="2438280" cy="216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"/>
          <p:cNvPicPr/>
          <p:nvPr/>
        </p:nvPicPr>
        <p:blipFill>
          <a:blip r:embed="rId5"/>
          <a:stretch/>
        </p:blipFill>
        <p:spPr>
          <a:xfrm>
            <a:off x="3581280" y="3429000"/>
            <a:ext cx="2438640" cy="216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"/>
          <p:cNvPicPr/>
          <p:nvPr/>
        </p:nvPicPr>
        <p:blipFill>
          <a:blip r:embed="rId6"/>
          <a:stretch/>
        </p:blipFill>
        <p:spPr>
          <a:xfrm>
            <a:off x="6400800" y="3429000"/>
            <a:ext cx="2438280" cy="2133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4"/>
          <p:cNvSpPr/>
          <p:nvPr/>
        </p:nvSpPr>
        <p:spPr>
          <a:xfrm>
            <a:off x="706320" y="27964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йөз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3486240" y="282492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күр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244920" y="279504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тар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686520" y="5626800"/>
            <a:ext cx="10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йөгер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3566880" y="56840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кур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6442200" y="5684040"/>
            <a:ext cx="7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кил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274760" y="27932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- йөз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4053960" y="28108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- күр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7026840" y="278064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- тар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4"/>
          <p:cNvSpPr/>
          <p:nvPr/>
        </p:nvSpPr>
        <p:spPr>
          <a:xfrm>
            <a:off x="1492560" y="56412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- йөгер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7080120" y="56700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кил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6"/>
          <p:cNvSpPr/>
          <p:nvPr/>
        </p:nvSpPr>
        <p:spPr>
          <a:xfrm>
            <a:off x="4307040" y="5684040"/>
            <a:ext cx="13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куры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11840" y="2831400"/>
            <a:ext cx="106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- күргә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51000" y="279360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- йөзгә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47080" y="2788560"/>
            <a:ext cx="13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- тара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80480" y="5946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- йөгергә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60174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- курык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61840" y="56350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- килгә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Картинка 28 из 8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55800" y="531720"/>
            <a:ext cx="1419120" cy="2897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Картинка 45 из 8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30760" y="3398760"/>
            <a:ext cx="1396800" cy="2814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705720" y="517680"/>
            <a:ext cx="1433520" cy="2889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71640" y="5110200"/>
            <a:ext cx="156852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530680" y="5035320"/>
            <a:ext cx="149400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75" name=""/>
          <p:cNvSpPr/>
          <p:nvPr/>
        </p:nvSpPr>
        <p:spPr>
          <a:xfrm>
            <a:off x="741240" y="3409200"/>
            <a:ext cx="298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800080"/>
                </a:solidFill>
                <a:latin typeface="Arial"/>
                <a:ea typeface="Times New Roman"/>
              </a:rPr>
              <a:t>-Ул тарагын оныт</a:t>
            </a:r>
            <a:r>
              <a:rPr b="1" lang="tt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ты</a:t>
            </a:r>
            <a:r>
              <a:rPr b="1" lang="tt-RU" sz="2400" spc="-1" strike="noStrike">
                <a:solidFill>
                  <a:srgbClr val="80008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а забыла расчес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8800" y="3333240"/>
            <a:ext cx="339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55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800080"/>
                </a:solidFill>
                <a:latin typeface="Arial"/>
              </a:rPr>
              <a:t>-Ул тарагын оныт</a:t>
            </a:r>
            <a:r>
              <a:rPr b="1" lang="tt-RU" sz="2400" spc="-1" strike="noStrike">
                <a:solidFill>
                  <a:srgbClr val="ff0000"/>
                </a:solidFill>
                <a:latin typeface="Arial"/>
              </a:rPr>
              <a:t>кан</a:t>
            </a:r>
            <a:r>
              <a:rPr b="1" lang="tt-RU" sz="24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5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2400" spc="-1" strike="noStrike">
                <a:solidFill>
                  <a:srgbClr val="000000"/>
                </a:solidFill>
                <a:latin typeface="Arial"/>
              </a:rPr>
              <a:t>(Она забыла расчес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00280" y="185760"/>
            <a:ext cx="585936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rebuchet MS"/>
              </a:rPr>
              <a:t>СҮЗЛЕК ЭШЕ</a:t>
            </a:r>
            <a:endParaRPr b="0" lang="en-US" sz="3600" spc="-1" strike="noStrike">
              <a:solidFill>
                <a:srgbClr val="078f48"/>
              </a:solidFill>
              <a:latin typeface="Trebuchet MS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1"/>
          <a:stretch/>
        </p:blipFill>
        <p:spPr>
          <a:xfrm>
            <a:off x="566640" y="730080"/>
            <a:ext cx="3922920" cy="4381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95240" y="5255280"/>
            <a:ext cx="290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Орыш! Ул орыш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Ругай! Он (она)руг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4160" y="6033240"/>
            <a:ext cx="37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орыша –орышты -орышк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0480" y="1384560"/>
            <a:ext cx="446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800080"/>
                </a:solidFill>
                <a:latin typeface="Arial"/>
              </a:rPr>
              <a:t>“</a:t>
            </a:r>
            <a:r>
              <a:rPr b="1" lang="tt-RU" sz="2000" spc="-1" strike="noStrike">
                <a:solidFill>
                  <a:srgbClr val="800080"/>
                </a:solidFill>
                <a:latin typeface="Arial"/>
              </a:rPr>
              <a:t>Мин дә шуннан бирле андый                                                                      эшкә кыймый башлад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800080"/>
                </a:solidFill>
                <a:latin typeface="Arial"/>
              </a:rPr>
              <a:t>“</a:t>
            </a:r>
            <a:r>
              <a:rPr b="1" lang="tt-RU" sz="2000" spc="-1" strike="noStrike">
                <a:solidFill>
                  <a:srgbClr val="800080"/>
                </a:solidFill>
                <a:latin typeface="Arial"/>
              </a:rPr>
              <a:t>Йә иясе юк” дип, әйберләргә                       тими башладым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2160" y="3797640"/>
            <a:ext cx="3976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Вспоминая стук зловещ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я сгораю от сты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И чу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жие трогать вещи              перестал я навсе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ЗАПОМНИ!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pic>
        <p:nvPicPr>
          <p:cNvPr id="84" name="Picture 4" descr="8dc157e7c70424e0cc571d994b355375"/>
          <p:cNvPicPr/>
          <p:nvPr/>
        </p:nvPicPr>
        <p:blipFill>
          <a:blip r:embed="rId1"/>
          <a:stretch/>
        </p:blipFill>
        <p:spPr>
          <a:xfrm>
            <a:off x="1033560" y="1397160"/>
            <a:ext cx="2274840" cy="868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eyes_11_o6oi_ru"/>
          <p:cNvPicPr/>
          <p:nvPr/>
        </p:nvPicPr>
        <p:blipFill>
          <a:blip r:embed="rId2"/>
          <a:stretch/>
        </p:blipFill>
        <p:spPr>
          <a:xfrm>
            <a:off x="1197000" y="4146480"/>
            <a:ext cx="1774800" cy="900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1341720" y="252396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Я сама ви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282680" y="5219640"/>
            <a:ext cx="184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Я сама не видела, мне сказ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3265560" y="2031840"/>
            <a:ext cx="59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3203640" y="4568760"/>
            <a:ext cx="59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3967920" y="1595520"/>
            <a:ext cx="238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шедше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- ды / - 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- ты / - 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3911040" y="4237200"/>
            <a:ext cx="238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пределен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шедше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ган / - г</a:t>
            </a:r>
            <a:r>
              <a:rPr b="1" lang="tt-RU" sz="2000" spc="-1" strike="noStrike">
                <a:solidFill>
                  <a:srgbClr val="800080"/>
                </a:solidFill>
                <a:latin typeface="Arial"/>
              </a:rPr>
              <a:t>ә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800080"/>
                </a:solidFill>
                <a:latin typeface="Arial"/>
              </a:rPr>
              <a:t>- кан / - кә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6203880" y="2109960"/>
            <a:ext cx="59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>
            <a:off x="6188040" y="4896000"/>
            <a:ext cx="59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6958800" y="1755720"/>
            <a:ext cx="106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бар</a:t>
            </a:r>
            <a:r>
              <a:rPr b="0" lang="tt-RU" sz="2000" spc="-1" strike="noStrike">
                <a:solidFill>
                  <a:srgbClr val="800080"/>
                </a:solidFill>
                <a:latin typeface="Arial"/>
              </a:rPr>
              <a:t>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оныт</a:t>
            </a:r>
            <a:r>
              <a:rPr b="0" lang="tt-RU" sz="2000" spc="-1" strike="noStrike">
                <a:solidFill>
                  <a:srgbClr val="800080"/>
                </a:solidFill>
                <a:latin typeface="Arial"/>
              </a:rPr>
              <a:t>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6945840" y="4556160"/>
            <a:ext cx="11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бар</a:t>
            </a:r>
            <a:r>
              <a:rPr b="0" lang="tt-RU" sz="2000" spc="-1" strike="noStrike">
                <a:solidFill>
                  <a:srgbClr val="800080"/>
                </a:solidFill>
                <a:latin typeface="Arial"/>
              </a:rPr>
              <a:t>г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оныт</a:t>
            </a:r>
            <a:r>
              <a:rPr b="0" lang="tt-RU" sz="2000" spc="-1" strike="noStrike">
                <a:solidFill>
                  <a:srgbClr val="800080"/>
                </a:solidFill>
                <a:latin typeface="Arial"/>
              </a:rPr>
              <a:t>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02680"/>
            <a:ext cx="7543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rebuchet MS"/>
              </a:rPr>
              <a:t>Ял итеп алыйк!</a:t>
            </a:r>
            <a:br>
              <a:rPr sz="4000"/>
            </a:b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pic>
        <p:nvPicPr>
          <p:cNvPr id="97" name="Rectangle 3" descr=""/>
          <p:cNvPicPr/>
          <p:nvPr/>
        </p:nvPicPr>
        <p:blipFill>
          <a:blip r:embed="rId1"/>
          <a:stretch/>
        </p:blipFill>
        <p:spPr>
          <a:xfrm>
            <a:off x="604800" y="630360"/>
            <a:ext cx="7891560" cy="5495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76560" y="1661040"/>
            <a:ext cx="5624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e1f3bc"/>
                </a:solidFill>
                <a:latin typeface="Times New Roman"/>
              </a:rPr>
              <a:t>Бер, ике, без баст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e1f3bc"/>
                </a:solidFill>
                <a:latin typeface="Times New Roman"/>
              </a:rPr>
              <a:t>Чап-чап итеп кул чапт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e1f3bc"/>
                </a:solidFill>
                <a:latin typeface="Times New Roman"/>
              </a:rPr>
              <a:t>Аякларны бер уры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e1f3bc"/>
                </a:solidFill>
                <a:latin typeface="Times New Roman"/>
              </a:rPr>
              <a:t>Тып-тып итеп без баст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e1f3bc"/>
                </a:solidFill>
                <a:latin typeface="Times New Roman"/>
              </a:rPr>
              <a:t>Бер утырдык, бер баст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e1f3bc"/>
                </a:solidFill>
                <a:latin typeface="Times New Roman"/>
              </a:rPr>
              <a:t>Инде бераз хәл алды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e1f3bc"/>
                </a:solidFill>
                <a:latin typeface="Times New Roman"/>
              </a:rPr>
              <a:t>Тыныч кына утырд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99240" y="866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2369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71215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rebuchet MS"/>
              </a:rPr>
              <a:t>Кушымчаларны дөрес куллан!</a:t>
            </a:r>
            <a:endParaRPr b="0" lang="en-US" sz="3600" spc="-1" strike="noStrike">
              <a:solidFill>
                <a:srgbClr val="078f48"/>
              </a:solidFill>
              <a:latin typeface="Trebuchet M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6800" y="1717560"/>
          <a:ext cx="7527960" cy="3683160"/>
        </p:xfrm>
        <a:graphic>
          <a:graphicData uri="http://schemas.openxmlformats.org/drawingml/2006/table">
            <a:tbl>
              <a:tblPr/>
              <a:tblGrid>
                <a:gridCol w="3166920"/>
                <a:gridCol w="2249640"/>
                <a:gridCol w="2111400"/>
              </a:tblGrid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А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-ган/-гә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-кан/-кә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tt-RU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Присоединяются к основам, заканчиваю</a:t>
                      </a:r>
                      <a:r>
                        <a:rPr b="1" lang="ru-RU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щим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994200" y="2302920"/>
            <a:ext cx="220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гласный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онкий согл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03320" y="275616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глух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64840" y="3981240"/>
            <a:ext cx="165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Төзегә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Кычкы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Тәрбияләгә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Шуган</a:t>
            </a:r>
            <a:r>
              <a:rPr b="0" i="1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6920" y="3873600"/>
            <a:ext cx="14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Утырт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Сипкә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Тарат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Очраш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Күрсәткә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9192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78f48"/>
                </a:solidFill>
                <a:latin typeface="Trebuchet MS"/>
              </a:rPr>
              <a:t>Мөстәкыйл</a:t>
            </a:r>
            <a:r>
              <a:rPr b="0" lang="ru-RU" sz="4000" spc="-1" strike="noStrike">
                <a:solidFill>
                  <a:srgbClr val="078f48"/>
                </a:solidFill>
                <a:latin typeface="Trebuchet MS"/>
              </a:rPr>
              <a:t>ь</a:t>
            </a:r>
            <a:r>
              <a:rPr b="0" lang="tt-RU" sz="4000" spc="-1" strike="noStrike">
                <a:solidFill>
                  <a:srgbClr val="078f48"/>
                </a:solidFill>
                <a:latin typeface="Trebuchet MS"/>
              </a:rPr>
              <a:t> эш.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09280" y="1323720"/>
            <a:ext cx="78771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78f48"/>
                </a:solidFill>
                <a:latin typeface="Arial"/>
              </a:rPr>
              <a:t>Малай суда йөз...  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78f48"/>
                </a:solidFill>
                <a:latin typeface="Arial"/>
              </a:rPr>
              <a:t>Су буенда ул Су анасын күр...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78f48"/>
                </a:solidFill>
                <a:latin typeface="Arial"/>
              </a:rPr>
              <a:t>Су анасы алтын тарак белән чәчен тара...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78f48"/>
                </a:solidFill>
                <a:latin typeface="Arial"/>
              </a:rPr>
              <a:t>Малай таракны алган һәм авылга йөгер... 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78f48"/>
                </a:solidFill>
                <a:latin typeface="Arial"/>
              </a:rPr>
              <a:t>Ә Су анасы этләрдән курык....                                                    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78f48"/>
                </a:solidFill>
                <a:latin typeface="Arial"/>
              </a:rPr>
              <a:t>Су анасы кичен кил...    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78f48"/>
                </a:solidFill>
                <a:latin typeface="Arial"/>
              </a:rPr>
              <a:t>Әнисе таракны бир...    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78f48"/>
                </a:solidFill>
                <a:latin typeface="Arial"/>
              </a:rPr>
              <a:t>Әнисе малайны орыш...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41680" y="1329480"/>
            <a:ext cx="11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гә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83200" y="1827720"/>
            <a:ext cx="7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00"/>
                </a:solidFill>
                <a:latin typeface="Arial"/>
              </a:rPr>
              <a:t>гә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59680" y="2350080"/>
            <a:ext cx="7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00"/>
                </a:solidFill>
                <a:latin typeface="Arial"/>
              </a:rPr>
              <a:t>г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56720" y="2845440"/>
            <a:ext cx="7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00"/>
                </a:solidFill>
                <a:latin typeface="Arial"/>
              </a:rPr>
              <a:t>гә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25960" y="339444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00"/>
                </a:solidFill>
                <a:latin typeface="Arial"/>
              </a:rPr>
              <a:t>к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27480" y="3932640"/>
            <a:ext cx="7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00"/>
                </a:solidFill>
                <a:latin typeface="Arial"/>
              </a:rPr>
              <a:t>гә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13160" y="4397760"/>
            <a:ext cx="7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00"/>
                </a:solidFill>
                <a:latin typeface="Arial"/>
              </a:rPr>
              <a:t>гә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22920" y="4918680"/>
            <a:ext cx="7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00"/>
                </a:solidFill>
                <a:latin typeface="Arial"/>
              </a:rPr>
              <a:t>к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783720"/>
            <a:ext cx="7543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78f48"/>
                </a:solidFill>
                <a:latin typeface="Arial"/>
              </a:rPr>
              <a:t>Өй эше: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78f48"/>
                </a:solidFill>
                <a:latin typeface="Arial"/>
              </a:rPr>
              <a:t>Найдите в тексе “Габдулла Тукай”  (в буклетах) глаголы неопределенного прошедшего времени и переведите их на  русский язык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20:50:33Z</dcterms:created>
  <dc:creator/>
  <dc:description/>
  <cp:keywords/>
  <dc:language>en-US</dc:language>
  <cp:lastModifiedBy>school175</cp:lastModifiedBy>
  <dcterms:modified xsi:type="dcterms:W3CDTF">2011-03-11T05:31:15Z</dcterms:modified>
  <cp:revision>27</cp:revision>
  <dc:subject/>
  <dc:title>Татар теле 3 класс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49</vt:lpwstr>
  </property>
</Properties>
</file>