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E2A1-5E73-4DAA-BC1D-BE80F0BB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BAC-0259-44BC-8C17-2076D6E3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A31-CF56-4B98-8D13-AFEAF846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E29-2D90-46EA-8EA1-9E9553ED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D12-5938-49A3-A852-67B8E423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152-DABB-47DD-A4CE-810EAF35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8CF-5A9B-4BA3-B52A-06EB8759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864-6640-45D3-9AF6-82DA1DF5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395-0930-4972-AB04-27C2E36A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86D-B196-42EF-BAEA-DFDE5D2B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1CB-D4C2-4613-8D78-9A68109B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B0A-B4C0-4273-A97A-FCDC3E9F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2689-13D0-4440-9EE5-95A72B87B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920" y="3429000"/>
            <a:ext cx="7129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тот удивительный ми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56000" y="1989000"/>
            <a:ext cx="3887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ЗЕНТА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лище северян - чукчей – называется «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яран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. Оно похоже на юрту, но островерхое, стены в нём – из оленьих шкур. Это жилище в случае переезда можно было легко разобрать, перевезти, а потом собрать зано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038720" cy="5276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ярангу похож индейский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вигв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и неудивительно – у этих народов когда-то очень давно были общие предки. Вигвамы строились в виде купола из тонких стволов деревьев и покрывались сверху ветками, корой, шкурами или разноцветными ткаными ковриками (циновка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6750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Иг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дом из снега. А канадские эскимосы строят из того. Что само падает с неба! Иглу – их снежный дом, он защищает от ветра и непогоды, а изнутри для тепла его выстилают звериными шкур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3454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703600" cy="3382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857320" cy="1352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19640" y="1773360"/>
            <a:ext cx="3767040" cy="207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2857320" cy="1352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250920" y="3860640"/>
            <a:ext cx="2255760" cy="1270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332000" y="5157720"/>
            <a:ext cx="2211480" cy="1524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564000" y="4869000"/>
            <a:ext cx="240336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ычные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аменные до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руглой формы строят жители африканского государства Лесото.Дома покрыт соломенной крышей. Такой дом хорошо сохраняет прохладу, в нём можно спрятаться отжаркого африканского сол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46800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старые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дома-пеще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еления в Каппадокии (Турция) просто выдолблены в скалах и напоминают муравей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0167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Таиланде тепло, свои лёгкие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хижи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естные жители и сегодня строят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из бамбука и трост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1103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древнейших времен некоторые народы (например казахи, киргизы) передвигались вместе со своими стадами с одного пастбища на другое, не имея постоянного места ж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9865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ейчас кочующие скотоводы дома свои по старинке возят с собой, как туристы- свои палатки. Такая палатка палатка называется «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юр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, она кругл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авят кочевники длинные палки-жерди, свяжут их между собой на манер клетки, покроют со всех сторон войлоком (Очень плотнй шерстяной материал, из него делают валенки)- и дом готов всего за несколько ча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54524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далёком Севере, где деревья очень маленькие (они так и называются- карликовые)строить тоже особенно не из чего. Но без дома нельзя- ведь на Севере страшные мороз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6438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7:32:45Z</dcterms:created>
  <dc:creator>Пользователь</dc:creator>
  <dc:description/>
  <dc:language>en-US</dc:language>
  <cp:lastModifiedBy>Пользователь</cp:lastModifiedBy>
  <dcterms:modified xsi:type="dcterms:W3CDTF">2012-11-12T19:17:14Z</dcterms:modified>
  <cp:revision>2</cp:revision>
  <dc:subject/>
  <dc:title>Слайд 1</dc:title>
</cp:coreProperties>
</file>