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21F-4F49-447E-8EA0-FBFEBF1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183-4A8F-43CF-B968-8BA5850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246-A58F-4D0E-8DA9-F2B03E8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6F8-D253-4190-80C3-D418C350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56AF-BC09-4B06-81E7-0AC7D704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B924-2BBB-4969-B55F-A7639939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DF33-627C-4287-9933-D317489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614-58BA-436D-AE25-714F030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E97B-BDED-4621-AEB8-0F961634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5BC-F558-4162-AD68-812D371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D81D-49EA-419B-B506-668E11E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6A4-C056-4804-B16E-FB489E6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A0D-DB53-4EFE-B428-FB6E3F3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004D-10EF-4F70-8724-B6A869F6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05E-0C32-4EA5-9127-8BB7FD0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3A5-ECB2-4446-B23B-BC2ACDF4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77E5-AC33-4510-88E1-48630457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949-EB56-4B47-B1BC-CD23572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353-9726-410E-A556-ED0125B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41B-251E-4D53-8171-E50E357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672-DD8D-4406-964D-281C99F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BB8-7F6F-47D9-BAC3-EB4F83E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A31-3236-4914-9348-80F22B5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F95-B7F2-4F29-8FEA-926C62B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9EE-1750-4125-A21F-0C44A0F900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A946-2DBD-4F61-8106-E966EEC6F6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Verdana"/>
              </a:rPr>
              <a:t>МКОУ СОШ №10 п.Лебеди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755640" y="1557360"/>
            <a:ext cx="3600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1116000" y="3357720"/>
            <a:ext cx="712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вадратные уравнения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324000" y="692280"/>
            <a:ext cx="837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я индийского математика  12 в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66640" y="2492280"/>
          <a:ext cx="8001000" cy="1297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0" name="Picture 42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одной из старинных  индийских книг говорится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 Как   солнце блеском своим затмевает звезды, так ученый человек затмит славу другого в народных собраниях, предлагая и решая алгебраические задачи»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Часто они были в стихотворной форме. Вот одна из таких зада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наменитого математика Индии Х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века БХАСКАР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езьянок резвых ста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сласть поевши, развлекалас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Их в квадрате часть восьма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 полянке забавлялась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 двенадцать по лиана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тали прыгать, повисая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колько ж было обезьяно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ы скажи мне, в этой стае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2556000" y="907920"/>
            <a:ext cx="587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ое домашнее зад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358920" y="15228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1763640" y="2421000"/>
            <a:ext cx="59770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042920" y="2276640"/>
            <a:ext cx="7345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у осилит идущий, 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у - мыслящ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2195640" y="404640"/>
            <a:ext cx="45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уранения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2050920" y="765000"/>
            <a:ext cx="525780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уравн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74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ные квадратные урав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лные квадратные урав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веденные квадратные урав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9"/>
              <p:cNvSpPr txBox="1"/>
              <p:nvPr/>
            </p:nvSpPr>
            <p:spPr>
              <a:xfrm>
                <a:off x="5913360" y="2577960"/>
                <a:ext cx="1384200" cy="26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2"/>
              <p:cNvSpPr txBox="1"/>
              <p:nvPr/>
            </p:nvSpPr>
            <p:spPr>
              <a:xfrm>
                <a:off x="1763640" y="2205000"/>
                <a:ext cx="21607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4"/>
              <p:cNvSpPr txBox="1"/>
              <p:nvPr/>
            </p:nvSpPr>
            <p:spPr>
              <a:xfrm>
                <a:off x="1547640" y="3141720"/>
                <a:ext cx="2303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4427640" y="2276640"/>
                <a:ext cx="936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0"/>
              <p:cNvSpPr txBox="1"/>
              <p:nvPr/>
            </p:nvSpPr>
            <p:spPr>
              <a:xfrm>
                <a:off x="4284720" y="3213000"/>
                <a:ext cx="64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2"/>
              <p:cNvSpPr txBox="1"/>
              <p:nvPr/>
            </p:nvSpPr>
            <p:spPr>
              <a:xfrm>
                <a:off x="1547640" y="3645000"/>
                <a:ext cx="230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3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5"/>
              <p:cNvSpPr txBox="1"/>
              <p:nvPr/>
            </p:nvSpPr>
            <p:spPr>
              <a:xfrm>
                <a:off x="4284720" y="3716280"/>
                <a:ext cx="720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7"/>
              <p:cNvSpPr txBox="1"/>
              <p:nvPr/>
            </p:nvSpPr>
            <p:spPr>
              <a:xfrm>
                <a:off x="1619280" y="4149720"/>
                <a:ext cx="1297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1"/>
              <p:cNvSpPr txBox="1"/>
              <p:nvPr/>
            </p:nvSpPr>
            <p:spPr>
              <a:xfrm>
                <a:off x="1908000" y="5013360"/>
                <a:ext cx="1800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3"/>
              <p:cNvSpPr txBox="1"/>
              <p:nvPr/>
            </p:nvSpPr>
            <p:spPr>
              <a:xfrm>
                <a:off x="4211640" y="508464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помощью дискриминанта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      ,  то уравнение имеет два корня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      , то уравнение имеет один коре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      , то уравнение не имеет кор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539640" y="836640"/>
            <a:ext cx="784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полных квадратных урав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7516800" y="1757520"/>
                <a:ext cx="230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2279520" y="2421000"/>
                <a:ext cx="6987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2700360" y="2852640"/>
                <a:ext cx="1655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0"/>
              <p:cNvSpPr txBox="1"/>
              <p:nvPr/>
            </p:nvSpPr>
            <p:spPr>
              <a:xfrm>
                <a:off x="2195640" y="3429000"/>
                <a:ext cx="863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2"/>
              <p:cNvSpPr txBox="1"/>
              <p:nvPr/>
            </p:nvSpPr>
            <p:spPr>
              <a:xfrm>
                <a:off x="2857680" y="3860640"/>
                <a:ext cx="119664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4"/>
              <p:cNvSpPr txBox="1"/>
              <p:nvPr/>
            </p:nvSpPr>
            <p:spPr>
              <a:xfrm>
                <a:off x="2195640" y="4437000"/>
                <a:ext cx="79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теореме Виет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тог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574560" y="907920"/>
            <a:ext cx="8001000" cy="613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приведенных квадратных урав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1042920" y="2276640"/>
                <a:ext cx="194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2627280" y="2997360"/>
                <a:ext cx="19447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2700360" y="3645000"/>
                <a:ext cx="1800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95280" y="981000"/>
            <a:ext cx="829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неполных квадратных урав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6640" y="1752480"/>
          <a:ext cx="8001000" cy="2730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авнение ви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авнение в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авнение в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ли              , то решений н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ли              , 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ложить на множ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авнение имеет два реш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кор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3"/>
              <p:cNvSpPr txBox="1"/>
              <p:nvPr/>
            </p:nvSpPr>
            <p:spPr>
              <a:xfrm>
                <a:off x="1332000" y="1989000"/>
                <a:ext cx="1008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3995640" y="1989000"/>
                <a:ext cx="1152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6877080" y="1989000"/>
                <a:ext cx="93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9"/>
              <p:cNvSpPr txBox="1"/>
              <p:nvPr/>
            </p:nvSpPr>
            <p:spPr>
              <a:xfrm>
                <a:off x="1403280" y="2349360"/>
                <a:ext cx="7192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1"/>
              <p:cNvSpPr txBox="1"/>
              <p:nvPr/>
            </p:nvSpPr>
            <p:spPr>
              <a:xfrm>
                <a:off x="1332000" y="278136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3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3"/>
              <p:cNvSpPr txBox="1"/>
              <p:nvPr/>
            </p:nvSpPr>
            <p:spPr>
              <a:xfrm>
                <a:off x="1116000" y="314172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5"/>
              <p:cNvSpPr txBox="1"/>
              <p:nvPr/>
            </p:nvSpPr>
            <p:spPr>
              <a:xfrm>
                <a:off x="4572000" y="2637000"/>
                <a:ext cx="11523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7"/>
              <p:cNvSpPr txBox="1"/>
              <p:nvPr/>
            </p:nvSpPr>
            <p:spPr>
              <a:xfrm>
                <a:off x="3276720" y="3357720"/>
                <a:ext cx="574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3276720" y="3716280"/>
                <a:ext cx="934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1"/>
              <p:cNvSpPr txBox="1"/>
              <p:nvPr/>
            </p:nvSpPr>
            <p:spPr>
              <a:xfrm>
                <a:off x="7596360" y="234936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547640" y="907920"/>
            <a:ext cx="5832720" cy="4874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уравнен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773360"/>
          <a:ext cx="8001000" cy="341316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ные квадратные уравн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денные квадратные уравн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лные квадратные уравн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3"/>
              <p:cNvSpPr txBox="1"/>
              <p:nvPr/>
            </p:nvSpPr>
            <p:spPr>
              <a:xfrm>
                <a:off x="6443640" y="3141720"/>
                <a:ext cx="15130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1116000" y="3141720"/>
                <a:ext cx="1655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7"/>
              <p:cNvSpPr txBox="1"/>
              <p:nvPr/>
            </p:nvSpPr>
            <p:spPr>
              <a:xfrm>
                <a:off x="6659640" y="3573360"/>
                <a:ext cx="1079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1"/>
              <p:cNvSpPr txBox="1"/>
              <p:nvPr/>
            </p:nvSpPr>
            <p:spPr>
              <a:xfrm>
                <a:off x="3851280" y="314172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3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3"/>
              <p:cNvSpPr txBox="1"/>
              <p:nvPr/>
            </p:nvSpPr>
            <p:spPr>
              <a:xfrm>
                <a:off x="3851280" y="3500280"/>
                <a:ext cx="15127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5"/>
              <p:cNvSpPr txBox="1"/>
              <p:nvPr/>
            </p:nvSpPr>
            <p:spPr>
              <a:xfrm>
                <a:off x="6659640" y="4005360"/>
                <a:ext cx="115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7"/>
              <p:cNvSpPr txBox="1"/>
              <p:nvPr/>
            </p:nvSpPr>
            <p:spPr>
              <a:xfrm>
                <a:off x="1116000" y="3645000"/>
                <a:ext cx="1584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4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9"/>
              <p:cNvSpPr txBox="1"/>
              <p:nvPr/>
            </p:nvSpPr>
            <p:spPr>
              <a:xfrm>
                <a:off x="3851280" y="3933720"/>
                <a:ext cx="15112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574560" y="981000"/>
            <a:ext cx="8001000" cy="5400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е уравнен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66640" y="1752480"/>
          <a:ext cx="8001000" cy="3078360"/>
        </p:xfrm>
        <a:graphic>
          <a:graphicData uri="http://schemas.openxmlformats.org/drawingml/2006/table">
            <a:tbl>
              <a:tblPr/>
              <a:tblGrid>
                <a:gridCol w="2276640"/>
                <a:gridCol w="1724040"/>
                <a:gridCol w="2236680"/>
                <a:gridCol w="1763640"/>
              </a:tblGrid>
              <a:tr h="42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чка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чка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и у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-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и у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-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5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0"/>
              <p:cNvSpPr txBox="1"/>
              <p:nvPr/>
            </p:nvSpPr>
            <p:spPr>
              <a:xfrm>
                <a:off x="826920" y="3357720"/>
                <a:ext cx="576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5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2"/>
              <p:cNvSpPr txBox="1"/>
              <p:nvPr/>
            </p:nvSpPr>
            <p:spPr>
              <a:xfrm>
                <a:off x="1692360" y="3357720"/>
                <a:ext cx="79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4"/>
              <p:cNvSpPr txBox="1"/>
              <p:nvPr/>
            </p:nvSpPr>
            <p:spPr>
              <a:xfrm>
                <a:off x="826920" y="4292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5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6"/>
              <p:cNvSpPr txBox="1"/>
              <p:nvPr/>
            </p:nvSpPr>
            <p:spPr>
              <a:xfrm>
                <a:off x="826920" y="3860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5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8"/>
              <p:cNvSpPr txBox="1"/>
              <p:nvPr/>
            </p:nvSpPr>
            <p:spPr>
              <a:xfrm>
                <a:off x="826920" y="2924280"/>
                <a:ext cx="576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6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60"/>
              <p:cNvSpPr txBox="1"/>
              <p:nvPr/>
            </p:nvSpPr>
            <p:spPr>
              <a:xfrm>
                <a:off x="4716360" y="2852640"/>
                <a:ext cx="6476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2"/>
              <p:cNvSpPr txBox="1"/>
              <p:nvPr/>
            </p:nvSpPr>
            <p:spPr>
              <a:xfrm>
                <a:off x="4716360" y="4221000"/>
                <a:ext cx="6476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6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4"/>
              <p:cNvSpPr txBox="1"/>
              <p:nvPr/>
            </p:nvSpPr>
            <p:spPr>
              <a:xfrm>
                <a:off x="4716360" y="3676680"/>
                <a:ext cx="64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6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6"/>
              <p:cNvSpPr txBox="1"/>
              <p:nvPr/>
            </p:nvSpPr>
            <p:spPr>
              <a:xfrm>
                <a:off x="4716360" y="3284640"/>
                <a:ext cx="64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6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68"/>
              <p:cNvSpPr txBox="1"/>
              <p:nvPr/>
            </p:nvSpPr>
            <p:spPr>
              <a:xfrm>
                <a:off x="1692360" y="37162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7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70"/>
              <p:cNvSpPr txBox="1"/>
              <p:nvPr/>
            </p:nvSpPr>
            <p:spPr>
              <a:xfrm>
                <a:off x="1692360" y="4292640"/>
                <a:ext cx="792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7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2"/>
              <p:cNvSpPr txBox="1"/>
              <p:nvPr/>
            </p:nvSpPr>
            <p:spPr>
              <a:xfrm>
                <a:off x="1763640" y="2924280"/>
                <a:ext cx="792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7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4"/>
              <p:cNvSpPr txBox="1"/>
              <p:nvPr/>
            </p:nvSpPr>
            <p:spPr>
              <a:xfrm>
                <a:off x="5724360" y="3284640"/>
                <a:ext cx="790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7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6"/>
              <p:cNvSpPr txBox="1"/>
              <p:nvPr/>
            </p:nvSpPr>
            <p:spPr>
              <a:xfrm>
                <a:off x="5724360" y="3500280"/>
                <a:ext cx="863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8"/>
              <p:cNvSpPr txBox="1"/>
              <p:nvPr/>
            </p:nvSpPr>
            <p:spPr>
              <a:xfrm>
                <a:off x="5724360" y="4221000"/>
                <a:ext cx="9367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8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80"/>
              <p:cNvSpPr txBox="1"/>
              <p:nvPr/>
            </p:nvSpPr>
            <p:spPr>
              <a:xfrm>
                <a:off x="5724360" y="2852640"/>
                <a:ext cx="8636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10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в уравнении                   , сумма коэффициентов                , то один корень равен 1, а другой равен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971640" y="333360"/>
            <a:ext cx="72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способ решения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4932360" y="1844640"/>
                <a:ext cx="2374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5940360" y="2349360"/>
                <a:ext cx="1871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2411280" y="3068640"/>
                <a:ext cx="50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0:43:48Z</dcterms:created>
  <dc:creator>Home</dc:creator>
  <dc:description/>
  <dc:language>en-US</dc:language>
  <cp:lastModifiedBy>Татьяна</cp:lastModifiedBy>
  <dcterms:modified xsi:type="dcterms:W3CDTF">2012-11-12T00:33:32Z</dcterms:modified>
  <cp:revision>27</cp:revision>
  <dc:subject/>
  <dc:title>Слайд 1</dc:title>
</cp:coreProperties>
</file>