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C912-D312-485B-B305-5E31624F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51BF-168B-4324-AE24-89E80FD3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C576-A8B1-48F1-BAF1-3728EE56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AF18-76CC-46D1-90CF-4FC91461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D6C9-1035-4BF8-9C18-68D3DB18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9638-3B7B-404F-995C-ACBE93EC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C34E-ECD9-4AF2-A3B7-5E0B1E4D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816A-A34A-499A-8DC9-FD0DA683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62B3-353D-4906-BC6D-0CB5B813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A6BC-84FB-4FA7-8AFA-21E65F9F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C044-A1D5-43C0-8B02-4510575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BC82-1B79-4D7A-845D-04183EE5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5584-B2F8-46E1-B8E2-CA7A6B5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F37D-D562-405A-829E-89DA0C1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089D-8ADF-4F7D-860E-55743667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8788-2342-4712-8F64-7E7D3625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15B8-002F-4DA9-BCC6-3601A51C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C3AD-E713-4BA8-BC10-B043EF3C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3878-0899-4D9D-A76F-3B29A8FC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CF47-1D40-478C-87C9-97532C54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2D70-ECF9-4D19-8BAA-E13DFF89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2C43-AF50-47EE-95D2-5FF9103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4399-C271-44B5-B750-2C5DA309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C45C-C0F2-4F82-BA84-0ABA9443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b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FD3B-A9F2-4BCD-890F-E93E27A4AA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b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5E3-B856-4CAC-8D47-0492A0A489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892440" y="757080"/>
            <a:ext cx="7282800" cy="2534760"/>
          </a:xfrm>
          <a:prstGeom prst="rect">
            <a:avLst/>
          </a:prstGeom>
          <a:solidFill>
            <a:srgbClr val="ccccff"/>
          </a:solidFill>
          <a:ln w="38160">
            <a:solidFill>
              <a:srgbClr val="6600cc"/>
            </a:solidFill>
            <a:round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algn="ctr">
              <a:lnSpc>
                <a:spcPts val="7098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иготовление отварных  блюд из творога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7" descr="Картинка 3 из 4932"/>
          <p:cNvPicPr/>
          <p:nvPr/>
        </p:nvPicPr>
        <p:blipFill>
          <a:blip r:embed="rId1"/>
          <a:srcRect l="0" t="0" r="0" b="13123"/>
          <a:stretch/>
        </p:blipFill>
        <p:spPr>
          <a:xfrm>
            <a:off x="684360" y="3716280"/>
            <a:ext cx="3314520" cy="2319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6" name="Text Box 8"/>
          <p:cNvSpPr/>
          <p:nvPr/>
        </p:nvSpPr>
        <p:spPr>
          <a:xfrm>
            <a:off x="5814000" y="6237360"/>
            <a:ext cx="234792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еники лени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1014840" y="6237360"/>
            <a:ext cx="26024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еники с творог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10" descr=""/>
          <p:cNvPicPr/>
          <p:nvPr/>
        </p:nvPicPr>
        <p:blipFill>
          <a:blip r:embed="rId2"/>
          <a:stretch/>
        </p:blipFill>
        <p:spPr>
          <a:xfrm>
            <a:off x="5386320" y="3716280"/>
            <a:ext cx="3218040" cy="230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ния на закрепление материал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11280" y="1857240"/>
            <a:ext cx="7921440" cy="4517640"/>
          </a:xfrm>
          <a:prstGeom prst="rect">
            <a:avLst/>
          </a:prstGeom>
          <a:solidFill>
            <a:srgbClr val="49497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34272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толщины раскатывают творожную массу для вареников ленивы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5880" indent="-34272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олните логическую цепочку сырья для приготовления вареников с творог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588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Творог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Яйца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Сах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588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52538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5880" indent="-34272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ерите правильный отв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58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температура подачи вареников: 55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,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65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, 75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58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выход готового блюда – вареники ленивые со сметаной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210 г., 220 г., 22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5880" indent="-34272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иготовлении вареников ленивых в большом количестве как нужно использовать саха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5880" indent="-34272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готовых вареник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заня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08360"/>
          </a:xfrm>
          <a:prstGeom prst="rect">
            <a:avLst/>
          </a:prstGeom>
          <a:solidFill>
            <a:srgbClr val="49497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01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Отработать и закрепить действия и приемы при приготовлении блюд из творог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01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облюдать культуру труда, проявлять уверенность и творческий подход при приготовлении блю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01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Рационально организовать свое рабочее место, анализировать ход рабо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заня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101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Отработать и закрепить действия и приемы при приготовлении блюд из творог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101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облюдать культуру труда, проявлять уверенность и творческий подход при приготовлении блю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101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Рационально организовать свое рабочее место, анализировать ход рабо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7020000" y="2496960"/>
            <a:ext cx="2016000" cy="286452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(в мг): витамин А, В1, В2, В3, В6, В9, В12, С, Н, Е, Р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нералы в мг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лий, кальций, магн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трий, железо, фосфор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лор, холин, цинк, кобальт, марганец, медь, молибден, селен, фт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0" y="2176560"/>
            <a:ext cx="2016000" cy="350388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 полужирного творог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лки – 18 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иры – 9 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глеводы – 3 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да – 67,8 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насыщенные жирные кислоты – 5,2 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хариды – 3 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рганические кислоты – 1,2 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ола – 1 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олестерин – 27 м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помним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52280" y="1557360"/>
            <a:ext cx="8883720" cy="4573800"/>
          </a:xfrm>
          <a:prstGeom prst="rect">
            <a:avLst/>
          </a:prstGeom>
          <a:solidFill>
            <a:srgbClr val="49497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776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С каким содержанием жирности используют творог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приготовления вареник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776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Какой операции подвергают творог, если он имеет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лишнее наличие влаг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776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На какое время оставляют тесто для вареников для приобретения эластич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776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Толщина раскатки теста для вареник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776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На каком расстоянии друг от друга укладывае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ожный фарш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776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 Чем смазывают края теста перед формирова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ареник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776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. Какое количество воды   берется для варки 1 кг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реник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Группа 3"/>
          <p:cNvGrpSpPr/>
          <p:nvPr/>
        </p:nvGrpSpPr>
        <p:grpSpPr>
          <a:xfrm>
            <a:off x="252360" y="1623960"/>
            <a:ext cx="2212920" cy="4397400"/>
            <a:chOff x="252360" y="1623960"/>
            <a:chExt cx="2212920" cy="4397400"/>
          </a:xfrm>
        </p:grpSpPr>
        <p:pic>
          <p:nvPicPr>
            <p:cNvPr id="527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911520" y="1623960"/>
              <a:ext cx="115200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252360" y="1997280"/>
              <a:ext cx="2116800" cy="10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444960" y="2917080"/>
              <a:ext cx="193428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316440" y="3463200"/>
              <a:ext cx="214884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654120" y="4003920"/>
              <a:ext cx="154332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Прямоугольник 16" descr=""/>
            <p:cNvPicPr/>
            <p:nvPr/>
          </p:nvPicPr>
          <p:blipFill>
            <a:blip r:embed="rId6"/>
            <a:stretch/>
          </p:blipFill>
          <p:spPr>
            <a:xfrm>
              <a:off x="327240" y="4682160"/>
              <a:ext cx="205776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Прямоугольник 17" descr=""/>
            <p:cNvPicPr/>
            <p:nvPr/>
          </p:nvPicPr>
          <p:blipFill>
            <a:blip r:embed="rId7"/>
            <a:stretch/>
          </p:blipFill>
          <p:spPr>
            <a:xfrm>
              <a:off x="370080" y="5274360"/>
              <a:ext cx="2036160" cy="74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TextBox 1"/>
          <p:cNvSpPr/>
          <p:nvPr/>
        </p:nvSpPr>
        <p:spPr>
          <a:xfrm>
            <a:off x="1403280" y="6165720"/>
            <a:ext cx="6467400" cy="642600"/>
          </a:xfrm>
          <a:prstGeom prst="rect">
            <a:avLst/>
          </a:prstGeom>
          <a:solidFill>
            <a:srgbClr val="e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2538"/>
                </a:solidFill>
                <a:latin typeface="Arial"/>
              </a:rPr>
              <a:t>Критерии оценки правильных ответ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2538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52538"/>
                </a:solidFill>
                <a:latin typeface="Arial"/>
              </a:rPr>
              <a:t>6-7  оценка«5»;  4-5 оценка «4»;  3 оценка «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3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257800" cy="53229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ираем инвентар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помним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6588000" y="2708280"/>
          <a:ext cx="229896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708280"/>
                    <a:ext cx="229896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3"/>
          <p:cNvSpPr/>
          <p:nvPr/>
        </p:nvSpPr>
        <p:spPr>
          <a:xfrm>
            <a:off x="324000" y="1989000"/>
            <a:ext cx="8424720" cy="45972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йте характеристику вареникам с творо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55640" y="2708280"/>
            <a:ext cx="5761080" cy="100872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укруглые пирожки с творожным фаршем внутри, край вареников защипан косичкой, массой 12 или 25 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179280" y="4653000"/>
            <a:ext cx="8425080" cy="45972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йте характеристику вареникам ленив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684360" y="5373720"/>
            <a:ext cx="5760720" cy="70380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 ромбиков или кружочков,  без деформирования и слипания, масса – 15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4" name="Object 10"/>
          <p:cNvGraphicFramePr/>
          <p:nvPr/>
        </p:nvGraphicFramePr>
        <p:xfrm>
          <a:off x="6877080" y="4941720"/>
          <a:ext cx="180036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941720"/>
                    <a:ext cx="18003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ллектуальная разминка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24000" y="1989000"/>
            <a:ext cx="8424720" cy="457200"/>
          </a:xfrm>
          <a:prstGeom prst="rect">
            <a:avLst/>
          </a:prstGeom>
          <a:solidFill>
            <a:srgbClr val="5b5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468360" y="1557360"/>
            <a:ext cx="734544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Сколько берется соли на 1 кг. творога при приготовлении вареник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468360" y="2565360"/>
            <a:ext cx="734364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Сколько времени вареники могут находиться в холодильнике до тепловой обработ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WordArt 12"/>
          <p:cNvSpPr txBox="1"/>
          <p:nvPr/>
        </p:nvSpPr>
        <p:spPr>
          <a:xfrm>
            <a:off x="7020000" y="2062080"/>
            <a:ext cx="143964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 грам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468360" y="3651120"/>
            <a:ext cx="3743280" cy="1191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Какую по форме кастрюлю лучше взять для варки вареников, низкую и широкую  или  высокую и узку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WordArt 14"/>
          <p:cNvSpPr txBox="1"/>
          <p:nvPr/>
        </p:nvSpPr>
        <p:spPr>
          <a:xfrm>
            <a:off x="7020000" y="3068640"/>
            <a:ext cx="16556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0 минут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53" name="Picture 15" descr=""/>
          <p:cNvPicPr/>
          <p:nvPr/>
        </p:nvPicPr>
        <p:blipFill>
          <a:blip r:embed="rId1"/>
          <a:stretch/>
        </p:blipFill>
        <p:spPr>
          <a:xfrm>
            <a:off x="4500720" y="3500280"/>
            <a:ext cx="1944360" cy="18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4" name="Picture 16" descr=""/>
          <p:cNvPicPr/>
          <p:nvPr/>
        </p:nvPicPr>
        <p:blipFill>
          <a:blip r:embed="rId2"/>
          <a:srcRect l="0" t="12854" r="0" b="10598"/>
          <a:stretch/>
        </p:blipFill>
        <p:spPr>
          <a:xfrm>
            <a:off x="6732720" y="4076640"/>
            <a:ext cx="1692000" cy="129564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21"/>
          <p:cNvGrpSpPr/>
          <p:nvPr/>
        </p:nvGrpSpPr>
        <p:grpSpPr>
          <a:xfrm>
            <a:off x="4356000" y="3284640"/>
            <a:ext cx="2232000" cy="2160360"/>
            <a:chOff x="4356000" y="3284640"/>
            <a:chExt cx="2232000" cy="2160360"/>
          </a:xfrm>
        </p:grpSpPr>
        <p:sp>
          <p:nvSpPr>
            <p:cNvPr id="556" name="Line 19"/>
            <p:cNvSpPr/>
            <p:nvPr/>
          </p:nvSpPr>
          <p:spPr>
            <a:xfrm>
              <a:off x="4356000" y="3284640"/>
              <a:ext cx="2232000" cy="2160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20"/>
            <p:cNvSpPr/>
            <p:nvPr/>
          </p:nvSpPr>
          <p:spPr>
            <a:xfrm flipH="1">
              <a:off x="4356000" y="3284640"/>
              <a:ext cx="2232000" cy="2160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Text Box 11"/>
          <p:cNvSpPr/>
          <p:nvPr/>
        </p:nvSpPr>
        <p:spPr>
          <a:xfrm>
            <a:off x="431640" y="5734080"/>
            <a:ext cx="820908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Рассчитайте какое кол-во воды необходимо взять для варки 2 порци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WordArt 14"/>
          <p:cNvSpPr txBox="1"/>
          <p:nvPr/>
        </p:nvSpPr>
        <p:spPr>
          <a:xfrm>
            <a:off x="7451640" y="6237360"/>
            <a:ext cx="118908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480 г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храна труда – это важно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611280" y="2133720"/>
            <a:ext cx="7993080" cy="3880800"/>
          </a:xfrm>
          <a:prstGeom prst="rect">
            <a:avLst/>
          </a:prstGeom>
          <a:solidFill>
            <a:srgbClr val="49497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2775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Техника безопасности и правила эксплуатации электрических плит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0720" indent="-2775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Безопасные условия работы в производственных мастерских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0720" indent="-2775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Техника безопасности при работе с наплитной посудой и горячими жидкостя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0720" indent="-2775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. Соблюдение санитарно-гигиенических требовани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513000" y="253800"/>
            <a:ext cx="8118000" cy="103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густационный лист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бования к качеству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250920" y="1484280"/>
            <a:ext cx="8642160" cy="2832840"/>
          </a:xfrm>
          <a:prstGeom prst="rect">
            <a:avLst/>
          </a:prstGeom>
          <a:solidFill>
            <a:srgbClr val="49497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ареники из творог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Форм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лукруглых пирожков с хорошо заделанными краями, не слипшимися, недеформированными, имеют однородную консистенцию, мягкую и нежну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Цве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белый с кремовым оттенком, у творога – белый. Поверхность вареников блестящая от масла. Вкус в меру сладкий, без кислоты, без посторонних запахов и привкусов. Масса одного вареника 12 или 25 грам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ареники ленив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Форм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ромбики или кружочки, без деформирования, и слипания в комки, не расплывчаты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Цве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белый с желтоватым оттенком, запах свойственный творогу и маслу, вкус сладкий, консистенция мягк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68200" y="4508640"/>
          <a:ext cx="8624880" cy="2089080"/>
        </p:xfrm>
        <a:graphic>
          <a:graphicData uri="http://schemas.openxmlformats.org/drawingml/2006/table">
            <a:tbl>
              <a:tblPr/>
              <a:tblGrid>
                <a:gridCol w="2156040"/>
                <a:gridCol w="2157120"/>
                <a:gridCol w="2156040"/>
                <a:gridCol w="2155680"/>
              </a:tblGrid>
              <a:tr h="49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5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4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3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2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594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2538"/>
                          </a:solidFill>
                          <a:latin typeface="Arial"/>
                        </a:rPr>
                        <a:t>Блюдо полностью соответствует рецептуре, все органолептические  показатели высшего кач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2538"/>
                          </a:solidFill>
                          <a:latin typeface="Arial"/>
                        </a:rPr>
                        <a:t>Блюдо с легко устранимым дефектом внешнего вида и вку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2538"/>
                          </a:solidFill>
                          <a:latin typeface="Arial"/>
                        </a:rPr>
                        <a:t>Блюдо с более значительными нарушениями технологии приготовления, но устранимы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2538"/>
                          </a:solidFill>
                          <a:latin typeface="Arial"/>
                        </a:rPr>
                        <a:t>Блюдо с дефектами не допускающими их реализа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7:27:04Z</dcterms:created>
  <dc:creator>-</dc:creator>
  <dc:description/>
  <dc:language>en-US</dc:language>
  <cp:lastModifiedBy>Ludmila</cp:lastModifiedBy>
  <dcterms:modified xsi:type="dcterms:W3CDTF">2012-11-14T11:17:05Z</dcterms:modified>
  <cp:revision>21</cp:revision>
  <dc:subject/>
  <dc:title>Приготовление отварных  блюд из творо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