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wmf" ContentType="image/x-wmf"/>
  <Override PartName="/ppt/media/image12.jpeg" ContentType="image/jpeg"/>
  <Override PartName="/ppt/media/image7.gif" ContentType="image/gi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6.gif" ContentType="image/gif"/>
  <Override PartName="/ppt/media/image2.jpeg" ContentType="image/jpe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F4C-F1E3-4180-A04B-4C159F59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A7E-7E64-4C3E-A6B8-23CBE9C6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FBB-5728-4502-867E-D030521A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590-B192-40EC-89C4-266216FA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0E8-01A3-4400-87AD-F77454CA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D123-2EFD-448E-A4FA-5AFC626A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8DFF-D2F5-4E7A-8269-C2A93657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D54D-0FD9-4A4E-87EB-E040DDF5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D531-1EC9-424E-9368-9DFDCE73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D4CD-5638-44E6-B640-9A506222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862A-6CAA-404C-8FD2-02CBAC17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118-0A7C-4A1B-A5D2-E10B41D0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C4A3-F537-4898-B912-FDD7CD79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DCAE-EF0A-4D8E-B3C2-61BF24C2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919-E7BB-460C-8EA9-9E3D0357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0422-C758-459A-BFCD-FBDC2B95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34D3-54DB-4029-BDA0-6AC072B5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9AB-3FF0-41D2-BC94-B56F449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1AB-10A5-4EF0-82EA-04A8C24B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B25-6C17-4992-84E8-F1A9E00F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412-2434-467C-85BD-440B8EDF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8CC-E1B6-4E64-870D-79DB321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397-74D6-4B1E-A212-8A2AD0C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D11-004E-4C17-9EDC-3B9CBFCB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1E16-C8EF-47D9-B58B-AB97F61679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C0CA-7AB1-4AFE-813C-23067FBACD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66152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6600" spc="-1" strike="noStrike">
                <a:solidFill>
                  <a:srgbClr val="999900"/>
                </a:solidFill>
                <a:latin typeface="Garamond"/>
              </a:rPr>
              <a:t>Исследовательский проект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3284280"/>
            <a:ext cx="849600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Verdana"/>
              </a:rPr>
              <a:t>«Былина и былинные богатыри»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чащиеся 2 клас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уководитель Стеценко В.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БОУ СОШ села им. П.Осипенк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00"/>
                </a:solidFill>
                <a:latin typeface="Garamond"/>
              </a:rPr>
              <a:t>Герои былин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Илья Муромец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стоит во главе богатырской заставы, преграждающей путь врагам. Столь же поэтичны и образы  других богатырей, охраняющих родную землю, -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Добрыни Никитича и Алёши Попович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3500280"/>
            <a:ext cx="45705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00"/>
                </a:solidFill>
                <a:latin typeface="Garamond"/>
              </a:rPr>
              <a:t>Герои былин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ылинах 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льге и Микуле Селянинович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тразилась извечная мечта трудового народа о лёгкой пахоте, о труде, обеспечивающем жиз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03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00"/>
                </a:solidFill>
                <a:latin typeface="Garamond"/>
              </a:rPr>
              <a:t>Герои былин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00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и богатырей принято выделять «старших» и «младших». К «старшим относя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вятогора и Волха Всеславовича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х называют так не потому, что они по возрасту старше других, а потому, что они представляют собой более древний тип геро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5720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Происхождение былин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сследователи расходятся во мнении, когда на Руси появились эпические песни. Одни относят их возникновение к 9-11 в.в., другие к 11-13 в.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51847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Происхождение былин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ны издавна вызывали к себе интерес. Но записывать их стали только тогда, когда появились люди, для которых истории о богатырях стали  чем-то необычным, фантастическим. Первые записи относятся к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ка. Они включались в рукописные сборн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64000" y="4797360"/>
            <a:ext cx="302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Результаты исследования. </a:t>
            </a:r>
            <a:br>
              <a:rPr sz="4000"/>
            </a:b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Было опрошено 16 человек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ходе исследования был проведён социологический опрос одноклассников, учителей, родствен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частникам было предложено 14 вопросов о русских былинах, былинных богатырях и о том, каким образом персонажи русских былин с нами по сей день и из предложенных черт характера выбрать те, которые и в наше время являются глав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00"/>
                </a:solidFill>
                <a:latin typeface="Garamond"/>
              </a:rPr>
              <a:t>Анализ ответов участников опроса показал следующие результаты:</a:t>
            </a:r>
            <a:br>
              <a:rPr sz="3200"/>
            </a:br>
            <a:r>
              <a:rPr b="1" lang="en-US" sz="3200" spc="-1" strike="noStrike">
                <a:solidFill>
                  <a:srgbClr val="666600"/>
                </a:solidFill>
                <a:latin typeface="Garamond"/>
              </a:rPr>
              <a:t>1.Какие былины вы знаете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84280"/>
          <a:ext cx="8496000" cy="5059080"/>
        </p:xfrm>
        <a:graphic>
          <a:graphicData uri="http://schemas.openxmlformats.org/drawingml/2006/table">
            <a:tbl>
              <a:tblPr/>
              <a:tblGrid>
                <a:gridCol w="490320"/>
                <a:gridCol w="6434280"/>
                <a:gridCol w="1571400"/>
              </a:tblGrid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был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лья Муромец и Святог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д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ёша Попович и Тугарин Змее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брыня Никитич и Змей Горыны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лья Муромец и Соловей - разбой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икита Кожемя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 богатыр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лья Муром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00"/>
                </a:solidFill>
                <a:latin typeface="Garamond"/>
              </a:rPr>
              <a:t>2. О чём нам говорят былины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488960"/>
          <a:ext cx="8821800" cy="51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8960"/>
                    <a:ext cx="882180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00"/>
                </a:solidFill>
                <a:latin typeface="Garamond"/>
              </a:rPr>
              <a:t>3. Кто такие богатыри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1558800"/>
          <a:ext cx="7993080" cy="52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8800"/>
                    <a:ext cx="799308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4. Каких богатырей вы знаете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916280"/>
          <a:ext cx="8675640" cy="48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867564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Вопрос для исследования: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498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Каким образом  персонажи русских былин с нами по сей ден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5. Кому служат богатыри: князю или народу русскому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26920" y="1413000"/>
          <a:ext cx="7775640" cy="51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77564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6. Во имя кого или чего совершаются подвиги богатырские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06400" y="1335240"/>
          <a:ext cx="833760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335240"/>
                    <a:ext cx="83376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7. Человеческие качества, которые относятся к богатырям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Храбрый, скромный, отважный, мужественный, сильный, щедрый, справедливы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5002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7. Человеческие качества, которые не относятся к богатыр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472428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русливый, лживый, жад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00"/>
                </a:solidFill>
                <a:latin typeface="Garamond"/>
              </a:rPr>
              <a:t>8. Кто из богатырей родом из села Карачарова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авильный ответ: Илья Муромец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 правильных ответов из 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068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00"/>
                </a:solidFill>
                <a:latin typeface="Garamond"/>
              </a:rPr>
              <a:t>9.Чем прославился в памяти народной Илья Муромец? Что же ценил русский народ в характере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076640"/>
            <a:ext cx="88408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lvl="1" marL="386280" indent="-148320">
              <a:lnSpc>
                <a:spcPct val="100000"/>
              </a:lnSpc>
              <a:spcBef>
                <a:spcPts val="10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огатырскую силу, отвагу, честь.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100000"/>
              </a:lnSpc>
              <a:spcBef>
                <a:spcPts val="10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Щедрость души, готовность к подвигу во имя своих идеалов.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100000"/>
              </a:lnSpc>
              <a:spcBef>
                <a:spcPts val="10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мекалку, удачливость и талант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10.Откуда сказители былин знали о далёких землях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71640" y="1413000"/>
          <a:ext cx="7775640" cy="51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77564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11. Какому былинному герою ты бы поставил памятник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00000" y="1432080"/>
          <a:ext cx="7775640" cy="51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32080"/>
                    <a:ext cx="777564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00"/>
                </a:solidFill>
                <a:latin typeface="Garamond"/>
              </a:rPr>
              <a:t>12. Почётно ли в наше время быть богатырём? Не просто мощным физически, но сильным духом, направлять силу на добро, защиту справедливости?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тветили «да»  16 человек -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2772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00"/>
                </a:solidFill>
                <a:latin typeface="Garamond"/>
              </a:rPr>
              <a:t>13. А можно ли назвать богатырями тех, кто защищал Родину в Великую Отечественную Войну? Почему?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ветили «да» 16 человек –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Эти люди настоящие богатыри, они не щадя своей жизни, защищали родной дом, село, город, Родину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Эти люди были сильные духом и сражались за мир на земле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Это настоящие герои, они не щадили жизни своей ради Родины, ради своего народ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Они отважно сражались за Родин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Они защищали Родину, наро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00"/>
                </a:solidFill>
                <a:latin typeface="Garamond"/>
              </a:rPr>
              <a:t>14.Что ты почерпнул из былин для себя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Надо быть сильным, смелым, справедливы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Нужно быть честным и справедливым, добрым душой, помогать други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Чтобы все мальчики были богатырями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Слабым надо помогать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Быть сильным, отважным и смелы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Любить Родину, заступаться друг за друг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Добро побеждает зло, сильный защищает слабого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Нужно быть сильным не только физически, но и духовно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Любить свой народ, трудиться во славу свой Родины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Выводы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реди черт характера, предпочитаемых современным человеком, выделяются следующие: сила, смелость, отвага, храбрость, справедлив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огатырь – идеал человека прошлого – является воплощением таких черт характера, как сила, мужество, честность, благородство, у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Характер человека современного и характер богатыря во многом схожи, а следовательно, былины интересны нам не только с исторической точки зр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1320"/>
            <a:ext cx="84074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Гипотеза исследования: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87640" y="1628640"/>
            <a:ext cx="41972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акие черты характера, как мужество, честность, мудрость, благородство, делают героев русских былин современными на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48243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aramond"/>
              </a:rPr>
              <a:t>Литерату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Феоктистова В.Ф. Исследовательская и проектная деятельность младших школь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руглов Ю.Г. Бы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меранцева Э.В. О русском фолькло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7448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Цель исследования:</a:t>
            </a:r>
            <a:br>
              <a:rPr sz="5400"/>
            </a:b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50920" y="1989000"/>
            <a:ext cx="493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показать сходство характера современного человека и персонажей русских былин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670200" cy="2690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2724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696600"/>
            <a:ext cx="8702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1.</a:t>
            </a: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руппа 1: Казаров Станислав, Маланин Ром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612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айти в дополнительной литературе, в сети Интернет информацию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Что такое были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Герои был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оисхождение был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36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2951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Задание 2.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Группа 2: Кузьмин Т., Светлова Э., Симонова М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овести  анкетирование учеников 2-х классов и учителей школ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комп"/>
          <p:cNvPicPr/>
          <p:nvPr/>
        </p:nvPicPr>
        <p:blipFill>
          <a:blip r:embed="rId1"/>
          <a:stretch/>
        </p:blipFill>
        <p:spPr>
          <a:xfrm>
            <a:off x="2050920" y="2295360"/>
            <a:ext cx="461016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696600"/>
            <a:ext cx="86295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Задание 3.</a:t>
            </a:r>
            <a:br>
              <a:rPr sz="54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риштоп Юлия ученица 2 класса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овести анализ результатов исследования. Сделать вывод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3533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00"/>
                </a:solidFill>
                <a:latin typeface="Garamond"/>
              </a:rPr>
              <a:t>Что такое былина?</a:t>
            </a:r>
            <a:br>
              <a:rPr sz="4800"/>
            </a:br>
            <a:r>
              <a:rPr b="1" lang="ru-RU" sz="2400" spc="-1" strike="noStrike">
                <a:solidFill>
                  <a:srgbClr val="666600"/>
                </a:solidFill>
                <a:latin typeface="Garamond"/>
              </a:rPr>
              <a:t>Материал собрали Маланин Роман и Казаров Станислав</a:t>
            </a:r>
            <a:r>
              <a:rPr b="1" lang="ru-RU" sz="4800" spc="-1" strike="noStrike">
                <a:solidFill>
                  <a:srgbClr val="6666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8930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ылины – древнейшие сказания о народных героях, защитниках Родины. Они создавались народом не для чтения, а для исполнения. Однако это особые песни, рассказывающие о героях и событиях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00"/>
                </a:solidFill>
                <a:latin typeface="Garamond"/>
              </a:rPr>
              <a:t>Герои былин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лавные герои былин – богатыри, люди исключительные, наделённые чертами, которыми не обладает обычный человек: невиданной силой, безграничной храбростью, особенным умением и талантом. Так, есл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Илья Муромец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менит своей силой, т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Садк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своим искусством играть на гусля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95640" y="3983040"/>
            <a:ext cx="51116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22:14:34Z</dcterms:created>
  <dc:creator>Стеценко</dc:creator>
  <dc:description/>
  <dc:language>en-US</dc:language>
  <cp:lastModifiedBy>Стеценко</cp:lastModifiedBy>
  <dcterms:modified xsi:type="dcterms:W3CDTF">2012-04-09T21:49:48Z</dcterms:modified>
  <cp:revision>14</cp:revision>
  <dc:subject/>
  <dc:title>Проект</dc:title>
</cp:coreProperties>
</file>