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A0D-7DE6-40BF-97A3-D8C47D5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0D7-4F89-41F6-BAE4-0E58CE1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5D4-8DC3-422A-B24D-62270151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160-76BA-4493-931A-EC3257FF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B6C24-EF6D-46AC-98B2-B6F02A39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328B2-F4F5-4A88-A092-BA22B7A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6C61-3DCA-485A-8A89-4D6B37B0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0D9E-F5F9-4EE8-B898-D855B8A8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74C9-81BC-440E-B1C5-8C7EC393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01103-2E27-4B24-9FE4-BD812455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6CDF-2673-46CD-950D-10C77A1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A49-71DF-4EFB-9F6B-1C32045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1E651-CB85-426D-B774-0D613C8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321D8-1306-47AF-958D-0B23EF69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4FCD-40B4-4B5A-8910-C7E54686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8A6CE-654C-44F7-879A-B9E1DFA1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004FA-D181-4668-894E-48AB2867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596-D292-43AA-B36B-F2772CF6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F5A-C76A-4554-99F4-A7D3EC7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000-9315-45F9-B4D1-112AC2C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0EC-5392-4338-896A-C57705E4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20B-DB5A-4967-BEB1-A4A6B6F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529-F925-4CC9-BAE1-346B3B5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D84-F0E0-4243-8F60-EC6296D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2565-ED7A-4101-8F23-782980F69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8ED-B586-4180-A1D0-C86869E76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Times New Roman"/>
              </a:rPr>
              <a:t>Ратные поля России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800600" cy="273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0200" y="17524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Times New Roman"/>
              </a:rPr>
              <a:t>Презентацию подготовил Ветчинин Евг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Times New Roman"/>
              </a:rPr>
              <a:t>ученик 4 класса «А» МБОУ СОШ №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десь, на Прохоровском поле летом 1943 года произошло крупнейшее в мировой истории войн танковое сражение, продемонстрировавшее мощь русского оружия, несгибаемую волю нашего народа в битве за родную землю. В истории нашей Родины Прохоровское поле стало Третьим ратным полем России после Куликова и Бородина. Оно явилось переломным моментом в Курской битве, которая, в свою очередь, определила весь дальнейший ход Великой Отечественной вой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триотизм и духовно-нравственное воспитание грядущих поколений чрезвычайно важны сегодня для нашего Отечества. Это тем более актуально сейчас, когда опять имеются факты фальсификации итогов Второй мировой войны, умаление роли нашей Родины в Великой Победе. Только вернувшись к глубинным смыслам прошлого, Россия сможет сохранить свою мощь, свой авторитет и получить импульс для движения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57600" y="4729320"/>
            <a:ext cx="3378240" cy="2128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466 0.14058 C -0.40764 -0.00600999999999999 -0.39046 -0.1526 -0.27066 -0.22312 C -0.15087 -0.29364 0.19305 -0.21642 0.29444 -0.28231 C 0.39583 -0.34821 0.33472 -0.58266 0.33732 -0.6185 C 0.33993 -0.65434 0.325 -0.57619 0.31024 -0.49804 E">
                                      <p:cBhvr>
                                        <p:cTn id="6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Куликово пол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е летописные повести о Куликовской битве, созданные практически сразу после сражения, содержат минимум информации о событии.. О нашествии Мамая на Москве стало известно в конце июля – начале августа от разведчиков или от рязанского княз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2781360" cy="37339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октября москвичи торжественно встречали героев Куликовской битв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иковская битва показала, что есть предпосылки для окончательного освобождения, что созрели силы для отпора врагу, есть организатор их – московский княз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БОРОДИНСКОЕ ПОЛ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родинское сражение (во французской истории — битва у Москвы-реки) — крупнейшее сражение Отечественной войны 1812 года между русской армией под командованием генерала М. И. Кутузова и французской армией Наполеона I Бонапарта. Состоялось 26 августа (7 сентября) 1812 года у села Бородино, в 125 км на запад от Москвы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читается самым кровопролитным в истории среди однодневных сражени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августа (3 сентября) русская армия, отступавшая от Смоленска, расположилась у села Бородино, в 125 км от Москвы, где Кутузов решил дать генеральное сражение; откладывать его дальше было невозможно, так как император Александр требовал от Кутузова остановить продвижение императора Наполеона к Моск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advTm="15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327492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073160"/>
            <a:ext cx="761976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РОХОРОВСКОЕ ПОЛ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393920"/>
            <a:ext cx="7391160" cy="45496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06-12-31T23:17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