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0AF8-A7E4-465A-9E90-143A3CCA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7026-079F-4FAF-9F65-0D56576B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B10-144A-45E3-BE2E-18D5C9EE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6D8-2A1B-428D-8675-4D658940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234-9314-406B-B6D6-E5D95BA5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91A-1C6D-4922-A952-25E8015E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C3C-C833-4FFF-BF4B-023CB4D5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A4B-39EB-4AE0-9DB8-575C52EE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972-81CA-4F62-AF25-B04046B7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57C-8AB7-4A94-B4D0-69F735F0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DE8-10C9-4F7F-B813-342D0D6C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3A5-E6AF-449F-AE09-617547B1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A282-88BA-450D-BB52-4CABB6223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82"/>
                </a:solidFill>
                <a:latin typeface="Times New Roman"/>
              </a:rPr>
              <a:t>Степень с рациональным показателе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2"/>
                </a:solidFill>
                <a:latin typeface="Times New Roman"/>
              </a:rPr>
              <a:t>Действия со степен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Степень с рациональным показателем (продолжение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26920" y="2276640"/>
          <a:ext cx="4421520" cy="38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4421520" cy="38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тепень с рациональным показателем (продолжение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00000" y="2708280"/>
          <a:ext cx="5349960" cy="29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08280"/>
                    <a:ext cx="534996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Запрещенны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666880" y="2209680"/>
          <a:ext cx="3005280" cy="36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300528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Модуль (абсолютная величина)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26920" y="2276640"/>
          <a:ext cx="5256360" cy="39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5256360" cy="39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Сравнение степеней с одним основа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76520" y="2057400"/>
          <a:ext cx="5322600" cy="40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32260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рафик функц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32000" y="1916280"/>
          <a:ext cx="6408720" cy="427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16280"/>
                    <a:ext cx="640872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651640" y="765000"/>
          <a:ext cx="165708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765000"/>
                    <a:ext cx="165708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рафик функц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796000" y="476280"/>
          <a:ext cx="1822320" cy="13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476280"/>
                    <a:ext cx="182232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332000" y="1989000"/>
          <a:ext cx="6408720" cy="4275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989000"/>
                    <a:ext cx="6408720" cy="42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БЛАГОДАРИМ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30481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0099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82"/>
                </a:solidFill>
                <a:uFillTx/>
                <a:latin typeface="Times New Roman"/>
              </a:rPr>
              <a:t>Корень </a:t>
            </a: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n</a:t>
            </a:r>
            <a:r>
              <a:rPr b="1" i="1" lang="ru-RU" sz="4000" spc="-1" strike="noStrike" u="sng">
                <a:solidFill>
                  <a:srgbClr val="000082"/>
                </a:solidFill>
                <a:uFillTx/>
                <a:latin typeface="Times New Roman"/>
              </a:rPr>
              <a:t> </a:t>
            </a:r>
            <a:r>
              <a:rPr b="1" i="1" lang="ru-RU" sz="4000" spc="-1" strike="noStrike" u="sng">
                <a:solidFill>
                  <a:srgbClr val="000082"/>
                </a:solidFill>
                <a:uFillTx/>
                <a:latin typeface="Symbol"/>
                <a:ea typeface="Symbol"/>
              </a:rPr>
              <a:t></a:t>
            </a:r>
            <a:r>
              <a:rPr b="1" i="1" lang="ru-RU" sz="4000" spc="-1" strike="noStrike" u="sng">
                <a:solidFill>
                  <a:srgbClr val="000082"/>
                </a:solidFill>
                <a:uFillTx/>
                <a:latin typeface="Times New Roman"/>
              </a:rPr>
              <a:t> й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ffff"/>
                </a:solidFill>
                <a:latin typeface="Times New Roman"/>
              </a:rPr>
              <a:t>Любое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ешение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i="1" lang="ru-RU" sz="3600" spc="-1" strike="noStrike">
                <a:solidFill>
                  <a:srgbClr val="ccffff"/>
                </a:solidFill>
                <a:latin typeface="Times New Roman"/>
              </a:rPr>
              <a:t>корнем 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 n – </a:t>
            </a:r>
            <a:r>
              <a:rPr b="1" i="1" lang="ru-RU" sz="3600" spc="-1" strike="noStrike">
                <a:solidFill>
                  <a:srgbClr val="ccffff"/>
                </a:solidFill>
                <a:latin typeface="Times New Roman"/>
              </a:rPr>
              <a:t>й степени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из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исла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700360" y="2997360"/>
          <a:ext cx="34894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997360"/>
                    <a:ext cx="34894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imes New Roman"/>
              </a:rPr>
              <a:t>Степень с рациональным показател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Действия со степен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0099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Арифметический корень </a:t>
            </a: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 й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ff"/>
                </a:solidFill>
                <a:latin typeface="Times New Roman"/>
              </a:rPr>
              <a:t>Неотрицательно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решение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i="1" lang="ru-RU" sz="3000" spc="-1" strike="noStrike">
                <a:solidFill>
                  <a:srgbClr val="0000ff"/>
                </a:solidFill>
                <a:latin typeface="Times New Roman"/>
              </a:rPr>
              <a:t>арифметическим корнем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n – </a:t>
            </a:r>
            <a:r>
              <a:rPr b="1" i="1" lang="ru-RU" sz="3000" spc="-1" strike="noStrike">
                <a:solidFill>
                  <a:srgbClr val="0000ff"/>
                </a:solidFill>
                <a:latin typeface="Times New Roman"/>
              </a:rPr>
              <a:t>й  степени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 и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числа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773440" y="2852640"/>
          <a:ext cx="3251160" cy="14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3440" y="2852640"/>
                    <a:ext cx="3251160" cy="14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бозначение арифметического кор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арифметически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корень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исл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знач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3, 4, …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арифм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рень из числ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обознач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629400" y="2666880"/>
          <a:ext cx="137160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666880"/>
                    <a:ext cx="137160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781680" y="5257800"/>
          <a:ext cx="1371600" cy="12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257800"/>
                    <a:ext cx="1371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Пример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71640" y="1844640"/>
          <a:ext cx="660060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660060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71640" y="4005360"/>
          <a:ext cx="445428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005360"/>
                    <a:ext cx="44542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Пример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971640" y="1806480"/>
          <a:ext cx="6600600" cy="16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06480"/>
                    <a:ext cx="660060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046160" y="3645000"/>
          <a:ext cx="6724800" cy="238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6160" y="3645000"/>
                    <a:ext cx="672480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Пример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11280" y="2133720"/>
          <a:ext cx="59040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59040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09480" y="3284640"/>
          <a:ext cx="7855200" cy="28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284640"/>
                    <a:ext cx="785520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Степень с рациональным показате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00000" y="2276640"/>
          <a:ext cx="3816360" cy="35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276640"/>
                    <a:ext cx="381636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2-11-08T19:03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