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22C-2B13-41D3-9BD7-2529B755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7F4-B267-4B57-BCC4-0A67CB92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A21-1F17-46F4-94E3-DBC6C003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28F-A537-413A-ABE0-D9BB85F8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EDB-BB17-44A2-AD10-09DD4A07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8A5-D2AF-4744-93F6-3CEEA117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F81-FA5C-4C6C-B0A8-09A667A9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061-60F9-44A4-8A81-587BCB2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BCA-1D92-4446-B958-37D4A314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59C-B58D-4CC7-B28F-CAD0E23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12D-2F7C-485B-A7A0-291EE65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D6F-19C2-42B7-82D9-37DD9C8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C770-38B4-4A7E-8E86-7D89D21E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905120"/>
            <a:ext cx="556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Тест по теме «Ориентирова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4724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9436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оставитель Петухо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04920"/>
            <a:ext cx="5638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Муниципальное общеобразовательное учреждение городского округа Балаших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«Средняя общеобразовательная школа №2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239240" cy="5429160"/>
          </a:xfrm>
          <a:prstGeom prst="rect">
            <a:avLst/>
          </a:prstGeom>
          <a:ln w="19080">
            <a:solidFill>
              <a:srgbClr val="ff006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905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мляника быстрее созревает на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ая ме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горизо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еверн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еверн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южн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южн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ю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77188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52280" y="6248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ость, изображенная перед вами,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34120" cy="53532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371600" y="5943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 вам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390680"/>
            <a:ext cx="4952880" cy="37148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703680" cy="55623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629400" cy="530388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28600" y="5867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ор для определения сторон горизонта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578480" cy="685800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172200" y="762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Определите стороны горизонта по местным призна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8006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дерева кора груб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с северной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с южной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934320" cy="521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6019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ва зеленее с …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58309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219320" y="6248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равьи строят муравейник с…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1520" cy="59133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219320" y="6248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ег тает быстрее с …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19T18:02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