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3F78-57D4-401A-B83D-319BCC6B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B74B-9110-400C-B6AF-28DE92C9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9511-165B-456A-A2BB-D4DCACF4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80C8-7BCD-4ECC-BCFD-390A7D9A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5A9B-7E08-40B0-A41E-30C1C0EA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925-2038-4BE1-8195-17820B48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F28A-3E8B-42E6-8FAA-3C8A6ECA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AF21-6EDB-4A0D-BACA-0EDDF29D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EC2-7B96-46E7-AEAC-000294AB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EB9F-7AC7-46C3-BB9E-1C40EE9C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007D-CCCF-4DF7-9AF5-346AA373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D401-9983-4217-907D-C727556D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0B0A-7987-4480-B5A9-BA32BBC95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905120"/>
            <a:ext cx="556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Тест по теме «Ориентировани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72200" y="4724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3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9436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Составитель Петухова Л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04920"/>
            <a:ext cx="56386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Муниципальное общеобразовательное учреждение городского округа Балаших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«Средняя общеобразовательная школа №27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239240" cy="5429160"/>
          </a:xfrm>
          <a:prstGeom prst="rect">
            <a:avLst/>
          </a:prstGeom>
          <a:ln w="19080">
            <a:solidFill>
              <a:srgbClr val="ff006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1905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емляника быстрее созревает на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ая мес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ия горизо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северной ст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северной ст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южной ст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южной сто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ю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577188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152280" y="6248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ность, изображенная перед вами, называ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134120" cy="535320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1371600" y="59436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д вами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с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1390680"/>
            <a:ext cx="4952880" cy="371484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57800" y="762120"/>
            <a:ext cx="3703680" cy="556236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629400" cy="530388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228600" y="5867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бор для определения сторон горизонта называ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4578480" cy="6858000"/>
          </a:xfrm>
          <a:prstGeom prst="rect">
            <a:avLst/>
          </a:prstGeom>
          <a:ln w="19080">
            <a:solidFill>
              <a:srgbClr val="008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6172200" y="762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Определите стороны горизонта по местным призна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8006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дерева кора груб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с северной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 с южной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6934320" cy="5217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71600" y="60199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ва зеленее с …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772400" cy="5830920"/>
          </a:xfrm>
          <a:prstGeom prst="rect">
            <a:avLst/>
          </a:prstGeom>
          <a:ln w="19080">
            <a:solidFill>
              <a:srgbClr val="00008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219320" y="6248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уравьи строят муравейник с…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391520" cy="591336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219320" y="62485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ег тает быстрее с …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19T18:02:1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