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22E-4634-4D88-BE0B-411673FF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CB0-CF41-4D27-9314-FF38184F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AC6-8FAA-4327-B8C5-B8E7488C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795-CA3C-448B-A3AE-509DDA5F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81DB-792F-4604-8B4D-03808200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4CC1-E55B-4ED4-A8CF-5658D385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2E0C-742E-4F98-AD67-DF86600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D82A-4567-4272-8539-342FB06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D17A-4BFC-4F3E-A02F-2E9FC0A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771-95BF-4075-BEE8-E3677EE1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588-5D1C-47AC-860C-911BE45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D13-C622-4AC7-9E50-0B7F109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D03-8B47-4DDE-851F-C0FFEE2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76A-2E55-4C28-9846-FE5C269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892E-2703-4451-BE28-0B5F9351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5BF4-62D1-4DDD-8310-3FC7D4E8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6C5E-683A-42F2-9E82-82226F60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7101-4434-4C64-B0D0-C499265E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22A3-82F0-4F1F-979B-CE6535D7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E76D-A3F4-4A66-9EB5-C3A509C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1CDE-A170-48A2-B138-DAC12C5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0A9E-5DE6-4617-AC0F-7679797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163-2679-4BB5-9A6E-08FE9750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B125-615D-4712-8FCD-B9B2E24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26DF-2A4B-426D-9CC9-A58D2FA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2541-2D19-46F2-A771-6A560D1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E992-0A6A-4B2D-8068-6929705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67C7-36A1-4EF7-B24A-0B55F04F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AA29-9CF3-4DDD-A37E-EABDB8C4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AD5E-228D-48D6-B7FF-923ABD37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0BF-40D2-4834-A285-7D7278A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329-08FB-4A29-904B-DBF42F7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D40-8352-4E2D-B50F-75CDAD4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E03-1AE6-4883-B542-09BD494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8A8-D973-4BB8-A5B5-99C67F9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BF7-B5F7-4E81-B393-E22DC9D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B2CB-313A-4759-958E-084F63C6DE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A32-D534-47F3-B905-1F778E6797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7D2-4DDA-4B63-8486-4DD9CDCC922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lackadder ITC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58560" y="3499920"/>
            <a:ext cx="78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611280" y="11592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6 ноября – Международный ден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лерантност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Ин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нтолерантный путь характеризуется представлением человека о собственной исключительности, низким уровнем воспитанности, чувством дискомфортности существования в окружающей его действительности, желанием власти, неприятием противоположных взглядов, традиций и обычаев. Интолерантные личности делят мир на две части: чёрную и белую. Для них  не существует полутонов. Есть только два сорта людей – плохие и хорошие. Они делают акцент на различиях  между “своими” и “чужими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ТОЛЕРАНТ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6" name="Diagram 4"/>
          <p:cNvGrpSpPr/>
          <p:nvPr/>
        </p:nvGrpSpPr>
        <p:grpSpPr>
          <a:xfrm>
            <a:off x="1523880" y="1874520"/>
            <a:ext cx="6094080" cy="3942000"/>
            <a:chOff x="1523880" y="1874520"/>
            <a:chExt cx="6094080" cy="3942000"/>
          </a:xfrm>
        </p:grpSpPr>
        <p:sp>
          <p:nvSpPr>
            <p:cNvPr id="267" name="_s1028"/>
            <p:cNvSpPr/>
            <p:nvPr/>
          </p:nvSpPr>
          <p:spPr>
            <a:xfrm>
              <a:off x="3790080" y="2458440"/>
              <a:ext cx="1559520" cy="16696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1029"/>
            <p:cNvSpPr/>
            <p:nvPr/>
          </p:nvSpPr>
          <p:spPr>
            <a:xfrm>
              <a:off x="3790080" y="187452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Милосерд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30"/>
            <p:cNvSpPr/>
            <p:nvPr/>
          </p:nvSpPr>
          <p:spPr>
            <a:xfrm>
              <a:off x="4252680" y="26964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31"/>
            <p:cNvSpPr/>
            <p:nvPr/>
          </p:nvSpPr>
          <p:spPr>
            <a:xfrm>
              <a:off x="5764320" y="249048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Прощен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32"/>
            <p:cNvSpPr/>
            <p:nvPr/>
          </p:nvSpPr>
          <p:spPr>
            <a:xfrm>
              <a:off x="4367160" y="3231000"/>
              <a:ext cx="155952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33"/>
            <p:cNvSpPr/>
            <p:nvPr/>
          </p:nvSpPr>
          <p:spPr>
            <a:xfrm>
              <a:off x="6058440" y="429048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Arial"/>
                </a:rPr>
                <a:t>Сострадан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_s1034"/>
            <p:cNvSpPr/>
            <p:nvPr/>
          </p:nvSpPr>
          <p:spPr>
            <a:xfrm>
              <a:off x="4047840" y="366192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_s1035"/>
            <p:cNvSpPr/>
            <p:nvPr/>
          </p:nvSpPr>
          <p:spPr>
            <a:xfrm>
              <a:off x="523332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Уважение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прав други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_s1036"/>
            <p:cNvSpPr/>
            <p:nvPr/>
          </p:nvSpPr>
          <p:spPr>
            <a:xfrm>
              <a:off x="3534480" y="366192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_s1037"/>
            <p:cNvSpPr/>
            <p:nvPr/>
          </p:nvSpPr>
          <p:spPr>
            <a:xfrm>
              <a:off x="234936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Сотрудничество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_s1038"/>
            <p:cNvSpPr/>
            <p:nvPr/>
          </p:nvSpPr>
          <p:spPr>
            <a:xfrm>
              <a:off x="3215520" y="32328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_s1039"/>
            <p:cNvSpPr/>
            <p:nvPr/>
          </p:nvSpPr>
          <p:spPr>
            <a:xfrm>
              <a:off x="1523880" y="4290480"/>
              <a:ext cx="15591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Принят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другого таким,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Arial"/>
                </a:rPr>
                <a:t>какой он есть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_s1040"/>
            <p:cNvSpPr/>
            <p:nvPr/>
          </p:nvSpPr>
          <p:spPr>
            <a:xfrm>
              <a:off x="3328200" y="269820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_s1041"/>
            <p:cNvSpPr/>
            <p:nvPr/>
          </p:nvSpPr>
          <p:spPr>
            <a:xfrm>
              <a:off x="1818360" y="2490480"/>
              <a:ext cx="1559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Терпимость к 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Arial"/>
                </a:rPr>
                <a:t>Чужим мнениям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p13_bezyimyannyiy1"/>
          <p:cNvPicPr/>
          <p:nvPr/>
        </p:nvPicPr>
        <p:blipFill>
          <a:blip r:embed="rId1"/>
          <a:stretch/>
        </p:blipFill>
        <p:spPr>
          <a:xfrm>
            <a:off x="179280" y="189000"/>
            <a:ext cx="1552680" cy="1800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2411280" y="195840"/>
            <a:ext cx="55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форизмы и изре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ликих мыс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гают на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еть мир глазами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2428560"/>
            <a:ext cx="91440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оступай с другими так, как ты хотел бы, чтобы они поступали с тобой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ы делаем лучше для себя, когда делаем лучше для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Трех вещей нужно избегать (в жизни): ненависти, зависти и през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усть дела твои будут такими, какими ты хотел бы их вспоминать на склоне ле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Если я чем - то на тебя не похож, я этим вовсе не оскорбляю теб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а напроти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добряю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лчите, пока не почувствуете, что вполне владеете соб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 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Лучше отказать в просьбе, чем удовлетворить ее груб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человеком нужно обращаться по-человече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  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480000" cy="1079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одекс толерантного поведения учени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счастье и доброе отношение в этом класс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значит, что никто не будет надо мной смеяться, что меня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игнорировать и обиж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быть самим собой в классе.  Это значит, что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относиться ко мне несправедливо из-за того, что я толстый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удой, быстрый или медлительный, мальчик или дев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безопасность в классе.  Это значит, что меня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бить, толкать или щип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слушать и быть услышанным в этом классе.  Это значи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то никто здесь не будет кричать или визжать и мое мнение и жела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учитываться при планировании всех совместных дейст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познавать себя в классе.  Это значит, что я смогу свобод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ражать свои чувства и мнения и меня не будут прерывать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казы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обязан уважать права, привычки, взгляды другого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 обязан при конфликтных ситуациях стремиться только к диалогу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4" descr="gimnboy"/>
          <p:cNvPicPr/>
          <p:nvPr/>
        </p:nvPicPr>
        <p:blipFill>
          <a:blip r:embed="rId1"/>
          <a:stretch/>
        </p:blipFill>
        <p:spPr>
          <a:xfrm>
            <a:off x="324000" y="260280"/>
            <a:ext cx="1649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788652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Я собака – всего лишь собака! –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       Мы вступаем и в драки и в бр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голове у меня – пустота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изменную веру храня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о другую собаку, однако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Что бы ни было – все мы соб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когда не приму за кота!...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се мы братья, все мы родня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 нужны ни условные зн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, умные, вашего брата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 слова – потому что чутьем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Распознать не способны никак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Брата кровного в каждой собаке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разу видно – чутье слабовато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Мы и так за версту узнаем!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 этом вам далеко до собак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и порода, ни масть, ни разм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Если брат ваш – не вашей м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 толку нас никогда не собьют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Разве в этом он виноват?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Даже крошечные тойтерь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 рвете его на ч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сенбернарах своих признают…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Словно он вам уже и не брат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2"/>
          <p:cNvPicPr/>
          <p:nvPr/>
        </p:nvPicPr>
        <p:blipFill>
          <a:blip r:embed="rId1"/>
          <a:stretch/>
        </p:blipFill>
        <p:spPr>
          <a:xfrm>
            <a:off x="3059280" y="4581360"/>
            <a:ext cx="2952720" cy="2103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250920" y="1052280"/>
            <a:ext cx="84470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Спасибо за то, что вы добрые и внимательн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Мне нравится, как вы смеетесь и шути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здорово помогаете друг друг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миролюбив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Толерантный   комплимент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Правила, выполнение которых ведет к взаимопониманию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763640" y="1413000"/>
            <a:ext cx="69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вь интересы других людей выше собственны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верен и надежен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важай других, уважая себ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рпимо относись к другим точкам зр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ринимай людей как равных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сь сопереживать другим, ставя себя на их мест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прощать и не будь обидчи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иви в согласии с самим собой и с другими людь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яй чутк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уверен в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свободен от лжи и обман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контролировать свои желания и поступ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порно иди к цели, невзирая на препятств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2" descr="086.gif"/>
          <p:cNvPicPr/>
          <p:nvPr/>
        </p:nvPicPr>
        <p:blipFill>
          <a:blip r:embed="rId1"/>
          <a:stretch/>
        </p:blipFill>
        <p:spPr>
          <a:xfrm rot="468600">
            <a:off x="0" y="1557000"/>
            <a:ext cx="4172040" cy="3083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340000" y="4365360"/>
            <a:ext cx="63468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Рисунок 2" descr="086.gif"/>
          <p:cNvPicPr/>
          <p:nvPr/>
        </p:nvPicPr>
        <p:blipFill>
          <a:blip r:embed="rId2"/>
          <a:stretch/>
        </p:blipFill>
        <p:spPr>
          <a:xfrm rot="978600">
            <a:off x="4211640" y="1196640"/>
            <a:ext cx="4321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    “… 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Каким </a:t>
            </a:r>
            <a:r>
              <a:rPr b="1" i="1" lang="en-US" sz="2000" spc="-1" strike="noStrike">
                <a:solidFill>
                  <a:srgbClr val="0000ff"/>
                </a:solidFill>
                <a:latin typeface="Monotype Corsiva"/>
              </a:rPr>
              <a:t>XXI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 век войдет в историю?   Назовут ли его веком генетики,   физики и освоения космоса или же веком геноцида, человекофобии,  преследований и убийств людей только за то, что они — другие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Другой расы, другой крови, другой веры, другой нации, другого социального класса...”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Александр Асмол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814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571680"/>
            <a:ext cx="74152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Толерантность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WordArt 8"/>
          <p:cNvSpPr txBox="1"/>
          <p:nvPr/>
        </p:nvSpPr>
        <p:spPr>
          <a:xfrm>
            <a:off x="1695600" y="333360"/>
            <a:ext cx="5752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0" y="5392800"/>
            <a:ext cx="18352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http://festival.1september.ru/articles/501446/img1.gif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714240"/>
            <a:ext cx="6870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ингвистический экскурс: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14280" y="1000080"/>
            <a:ext cx="7167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ia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(испан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Способность признавать отличные от своих собственных идеи или мн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француз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Отношение, при котором допускается, что другие могут думать или действовать иначе, нежели ты са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англий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Готовность быть терпимым, снисходитель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kuan rong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китайский) – Позволять, принимать, быть по отношению к другим великодушны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asamul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’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 арабский) –Прощение, снисходительность, мягкость, милосердие, сострадание, благосклонность, терпение, расположенность к други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Терпимость ( рус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c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иды толерантност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48392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межличност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оциальная, националь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веротерпимость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ерты толерантной лич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28960" y="1571400"/>
            <a:ext cx="321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оспитай в себ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2499840"/>
            <a:ext cx="404028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ерп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Чувство юм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важение мнения друг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доброжелательность, умение владеть собой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4720" y="2428920"/>
            <a:ext cx="404172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нимание и приняти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чутк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любозна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гуманизм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умение слушать собесед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0" y="5084640"/>
            <a:ext cx="1835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ер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нтолерантной лич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14400" y="1534680"/>
            <a:ext cx="3857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кореняй в се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2642760"/>
            <a:ext cx="40402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Непоним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нор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здражи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Циниз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мотивированная агрессив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терпим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Выражение пренебреж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714320"/>
            <a:ext cx="8186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Толерантный путь – 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Толерантный человек видит мир во всём его многообраз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5:48:50Z</dcterms:created>
  <dc:creator>Пользователь</dc:creator>
  <dc:description/>
  <dc:language>en-US</dc:language>
  <cp:lastModifiedBy>admin</cp:lastModifiedBy>
  <dcterms:modified xsi:type="dcterms:W3CDTF">2012-10-11T17:41:43Z</dcterms:modified>
  <cp:revision>43</cp:revision>
  <dc:subject/>
  <dc:title>Слайд 1</dc:title>
</cp:coreProperties>
</file>