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21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E3B1E-58F9-4915-B966-07D35D02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804F5-5C36-4D83-A9D6-DBD2AB09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10E34-5C00-43AE-976E-6C1858B2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D3AF4-BB4D-4307-9646-D11C897B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F236A-B539-4D7A-BA21-A54C11E4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21AA7-1545-4DEA-B39F-1AEF4716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488EB-865C-45CE-AD62-123FD964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745A1-B2A3-41D9-A71B-DD0470C1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8FAD6-97D0-4F58-9B80-6795AD3F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9FCE8-98C0-46EF-8AFD-97AD2015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EF572-A92C-4959-83EB-E88DC3CC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C3C08-95B4-4456-A780-C4DF1188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73BBC-78FC-4A4C-AA8D-5E5569F2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D25B2-BB35-4D2E-BB80-319980F0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BF489-4E9E-43B6-9984-CB4126E2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96E34-0E39-400A-92AF-53BAB009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E65C4-61E0-4677-AB8E-736A9271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45462-ABF0-490C-A0F0-97303DEC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D0F37-51BA-4542-BE7D-6BC8EFA3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CFB76-2E7B-498E-BFD8-91F2793B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57EEB-1EAB-4EF7-88BE-E01B7D4D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D4878-F57A-4952-9921-7CFC3E43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01A48-4D1E-4B69-A983-E7758DBC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390AB-2C20-4359-9A38-BB98BD12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79B9D-4713-4221-AA90-9CD09768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E1434-7DA1-4974-AF26-77A5B12E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37D42-316E-4941-BD33-07EC8236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EDB46-3F71-420D-ABF5-6BC13E9F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44775-84C3-439E-9715-0E796194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E10EE-8ED5-401B-9632-CAF65A93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7BB-6003-4C9A-A604-F5F3599B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F0714-A136-49E3-8291-63050E2D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D3EAC-3906-454E-B1D7-CFE78EDE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C020E-8E9C-4193-A333-C8C16BF0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4FA9C-FDE0-4AC7-9250-95074E3A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22E5D-7AF1-45D8-8417-162239CA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8B23A-D412-44AE-941A-640F7CB9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2E1EB-B19D-4D5A-8CBC-2F64FE4A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04A19-988E-435C-AB45-A49B9196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AFDC1-6D62-4C82-A9BB-AB2981CC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42F70-431C-481E-A42C-1D6469D8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425-193C-4341-A21D-A18E9451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42127-767F-4F7D-B6B1-AE31490B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14F07-0C30-494A-BD67-643143B3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AA240-3FAB-49C5-B13F-B2D1C8B1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1825A-EEF6-48F9-85AB-5FE16261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E4FBA-3CB7-403A-8091-06F7A4A3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350-A4D3-4A4A-820F-13AAECA7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078-DDBC-4A0E-B822-847A56FD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362-FFE4-4603-8114-C355304B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B64-ED61-4162-AE12-97C9E9F7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248-C827-4B9E-96BD-784542DC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DCB2-7B31-4D62-B332-0B519F6C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76B-010E-4264-8499-2888D8A6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78D-DF70-4E29-A613-1DCC0502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113-6A9E-49CB-BAB5-AA2A43D8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930-8F97-4215-8DDB-A9993D90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32F2-5520-4CF1-B608-545EB3A0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0FC5-6F64-473C-96FD-B8E21AF9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44FB-72E5-49A5-9A19-182D43E4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5546-C559-4F64-A25F-8F5470F3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B826-8C2F-4F77-85C7-2F2CA89A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5E6E-5A7C-47A6-ADD0-1BFD3D52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EA0B-0EB4-4A76-9A53-BCD7376C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E25F-5F41-4AB8-9050-10EE93E5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1479-B6C8-44BB-A154-2E68BB5D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5010-30BB-4277-AF82-E30C76A6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C4BE-2EFA-48BD-9C0C-7138A385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4611-AD99-43D3-9566-C45D3EF3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176EB-72CE-4BFA-99B9-0FA25788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3211C-2CFA-4FCF-A68E-9035F21C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CE1A-ABB1-47AC-8AA2-55409369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C501D-1809-4B84-9285-667FEB34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4F4D3-F4F3-4630-B104-13A41BD3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59843-D7E1-4CCA-86FB-4B1448C0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4ADB0-F064-4B8F-89D8-F2DC92D9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C59A-F580-4275-9002-A539DCEA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7D13-333A-4CE1-AB53-7F1C93EC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E8B7-B351-4316-9ADE-2F88C3E2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DAF85-0199-49AB-848A-70233DEF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1E94D-97A5-4378-9B92-F870D729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1BD7E-F7FD-4D64-AC5D-6A215B73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127C-33D0-4A4B-970E-C1CFA773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EF0C7-7A46-4B85-B611-2810EA46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01D0C-38DA-4073-B8DD-542CAEB5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A2D7F-5597-4E86-BDB9-9151D468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B0630-DBBF-428E-986B-C719C60E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04F3C-3C9F-46DB-8D9E-EB2EED16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9CF19-2FE2-4766-8B29-7B52E321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5607F-19CB-487E-BBA7-16696A67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7EAAD-B1A3-48D6-A804-A30FABAD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004E2-30DA-4624-A40C-2DB32500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A9080-49EF-4C80-B2EB-D57F978B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DCA08-9128-4EFC-801F-7ECDF04B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FEE68-D0F7-44E6-BB0C-242B85FC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96830-041F-4DC5-9AF7-A10F062B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4C23A-DAC8-43D5-82E1-4AE41388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AA1B7-F208-4B58-AAB2-10D28F74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94EA6-AD82-45B4-B567-645164BF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D4EEF-629C-42BD-858E-E97C4388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1A0CB-9611-40AB-805B-EFB2EADC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DEA55-C14C-497C-9C40-20DD0D9C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D8A7B-241B-46BD-AEEB-D3125AF6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992BA-8DF7-4461-9A2F-E645232E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F8311-77F1-4C13-845A-4020BCC0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17E5DC-0678-49EB-95B3-5B3D6489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D18C2-CB74-47F5-80A1-10EA633A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288D0-042E-4AC2-A115-A476EFF4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A04F4F-6023-47DC-BFD7-490D57BB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5FB91E-C52C-46B0-B8DA-97DC1DDA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D36E5-6636-4F54-A4C4-EFA0D187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2C2AE9-752D-41C3-B017-6B65BDF7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66AD4-5542-4F1C-8DDE-034894E8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95BA2-E3DB-4A61-ADE4-1545E205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79200-5654-4C42-A47B-C480E5A5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EDD7D-825B-494D-894F-23EE5C26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2EB240-0C59-44C2-B151-FC60B7A1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2F086-BEFF-4E6C-B048-15F92301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C6591-3BD3-422D-93A3-7252A039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81550-FBC1-4E99-A719-6FFD3020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6B4D5-4EC5-43A2-B006-993C1954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56E94-5C13-48D6-9E21-C70C8DFF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979AA-ABE7-4E63-B05E-E44DF47F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7F44A-79EF-44E6-8AC6-E1006E65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D381F-ED32-450E-8287-CB8C6C11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EE779-3098-4F83-BA8D-050EA3E4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80491-E008-4E90-89C9-469E43F1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EA64E-5052-4B49-A1C6-D0E254B3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9278E-F782-4187-B5C4-17C80309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60D5B-10BF-4E3D-BAD1-9C5C852B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EAB1F-D079-4290-BDD7-B30087AF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60012-F12B-4817-B984-14FA6FB6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DCBD-BB54-406F-8E49-F7F2C17DB35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7DBA-5B38-4596-B589-D7DFBA45499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0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04C8-A872-4EF1-9366-9BF55388957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EBC5-7085-4094-92B1-9748571455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00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03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EE1D-77E8-40E1-AFDC-0295CC3FE8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6112-C276-4081-9D17-E41509790C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C9CA-BC7B-4887-BE51-0D9CFDF7186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237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240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3A00-003C-4436-92E6-0EF4B4D71A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E2AF-2241-45E5-A476-EA3D9330EF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3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CEF6-D998-4190-A013-09574D07018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37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B4DF-FC1E-47F6-A0C4-D032F501BF9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1979640" y="3642840"/>
            <a:ext cx="6935760" cy="30625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БОУ КАДЕТСКАЯ ШКОЛА № 17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итель ТЕХНОЛО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ПОВА Л.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WordArt 4"/>
          <p:cNvSpPr txBox="1"/>
          <p:nvPr/>
        </p:nvSpPr>
        <p:spPr>
          <a:xfrm>
            <a:off x="395280" y="838080"/>
            <a:ext cx="8497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Технология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5292720" cy="6021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м местом для влажно-тепловых является утюжильная доск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ки изготавливают из твердых пород древесины. На доску кладут войлочную прокладку, а поверх надевают полотняный чехо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0" name="Picture 6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546880" y="2490840"/>
            <a:ext cx="2241360" cy="274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wheel spokes="8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826560" y="1988640"/>
            <a:ext cx="8317080" cy="4869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лажно-тепловые работы выполняют стоя, при этом расстояние от обрабатываемого предмета до глаз должно быть 35-45 сантиметров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428760" y="499680"/>
            <a:ext cx="8215200" cy="6072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лажно-тепловые работы выполняют утюгом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тюг- это инструмент для влажно-тепловой обработк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ейчас мы все пользуемся электрическими утюгам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истории мы знаем, что сначала утюги были с углями, в корпус утюга клали раскаленные угли, таким образом нагревали его и утюжили. Затем утюги стали нагревать на плите, они так и назывались наплитные , им на смену пришли электрические. Электрические утюги имеют терморегулятор (регулирует температуру нагрева) и пароувлажнител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7f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28400" y="857160"/>
            <a:ext cx="8388360" cy="401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Прежде чем приступить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к влажно-тепловой обработке изготавливаемого изделия, необходимо попробовать температуру  на лоскутке той ткани, которую нужно утюжить.   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28584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лажно-тепловую обработку выполняют с изнаночной стороны и соблюдаю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авила выполнения влажно-тепловой         обработк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ение терморегулятора устанавливают  в соответствии с видом обрабатываемой тка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чиная утюжить, следует проверить, чистый ли утюг, не перегрелся ли о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выполнения каждой машинной операции деталь или изделие увлажняют и утюжат до полного высыхания тка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28400" y="475920"/>
            <a:ext cx="8715240" cy="6381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делие утюжат справа налево по направлению долевой нити ткани, начиная с мелких деталей. Крупные детали утюжат в направлении от широкой части к узк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влажно-тепловой обработке обрабатываемый участок детали или изделия располагают ближе к работающем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утюженное изделие надо оставить на некоторое время в расправленном или подвешенном вид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trips dir="l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32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ЛАЖНО-ТЕПЛОВЫЕ 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0" y="685800"/>
          <a:ext cx="9109080" cy="6066000"/>
        </p:xfrm>
        <a:graphic>
          <a:graphicData uri="http://schemas.openxmlformats.org/drawingml/2006/table">
            <a:tbl>
              <a:tblPr/>
              <a:tblGrid>
                <a:gridCol w="2413080"/>
                <a:gridCol w="3321000"/>
                <a:gridCol w="3375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РМИ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ДЕРЖАНИЕ РАБОТЫ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МЕРЫ ПРИМЕНЕНИЯ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утюжит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далить замины на тканях, деталях и издели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утюжить ткань или готовое издели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утюжит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ложить припуски шва на две стороны и закрепить их в этом положени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утюжить припуски стачного шва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утюжит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огнуть припуски шва на одну сторону и закрепить их в этом положени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утюжить складки, припуски необработанного среза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утюжит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меньшить толщину шва, сгиба или края детал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утюжить бретели, карманы, край изделия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катировать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лажно-тепловая обработка материала для предотвращения последующей усадк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катировать ткань перед раскроем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75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75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75"/>
                            </p:stCondLst>
                            <p:childTnLst>
                              <p:par>
                                <p:cTn id="3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ыполняя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влажно-тепловые работы надо быть предельно внимательным и соблюдать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правила техники безопасности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edg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2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99680" y="764640"/>
            <a:ext cx="8643960" cy="609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2800" spc="-1" strike="noStrike">
                <a:solidFill>
                  <a:srgbClr val="111111"/>
                </a:solidFill>
                <a:latin typeface="Verdana"/>
              </a:rPr>
              <a:t>1. Перед работой утюгом проверять исправность шнура</a:t>
            </a:r>
            <a:r>
              <a:rPr b="1" lang="ru-RU" sz="2800" spc="-1" strike="noStrike">
                <a:solidFill>
                  <a:srgbClr val="111111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тюг включать и выключать сухими руками, берясь за корпус вил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. Ставить утюг на подставк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4. Следить за тем, чтобы подошва утюга не касалась шну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5. Выполнять влажно-тепловую обработку, стоя на резиновом коври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6. По окончании работы утюг обязательно выключать и ставить на огнеупорную подставку.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edg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7f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5 класс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«Влажно-тепловая обработка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trips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1785600"/>
            <a:ext cx="9144000" cy="1622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ff0066"/>
                </a:solidFill>
                <a:latin typeface="Verdana"/>
              </a:rPr>
              <a:t>Физкультминутка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428760" y="642960"/>
            <a:ext cx="8286480" cy="6215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4. ЗАКРЕПЛЕНИЕ ПРОЙДЕННОГО МАТЕРИ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репление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актическая работа №6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накомство с терминологией, применяемой при выполнении влажно-тепловых работ» (учебник,с.33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trips dir="lu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10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000"/>
                            </p:stCondLst>
                            <p:childTnLst>
                              <p:par>
                                <p:cTn id="3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900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7f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23640" y="1413000"/>
            <a:ext cx="4103640" cy="5246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ДОМАШНЕЕ ЗАДАНИЕ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§6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ответить на вопросы в конце параграф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trips dir="ru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WordArt 4"/>
          <p:cNvSpPr txBox="1"/>
          <p:nvPr/>
        </p:nvSpPr>
        <p:spPr>
          <a:xfrm>
            <a:off x="2209680" y="1143000"/>
            <a:ext cx="4876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окончен</a:t>
            </a:r>
            <a:endParaRPr b="0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6" name="WordArt 5"/>
          <p:cNvSpPr txBox="1"/>
          <p:nvPr/>
        </p:nvSpPr>
        <p:spPr>
          <a:xfrm>
            <a:off x="2209680" y="3166920"/>
            <a:ext cx="5105520" cy="12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Спасибо за работу</a:t>
            </a:r>
            <a:endParaRPr b="0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7" name="Picture 6" descr="2c6"/>
          <p:cNvPicPr/>
          <p:nvPr/>
        </p:nvPicPr>
        <p:blipFill>
          <a:blip r:embed="rId1"/>
          <a:stretch/>
        </p:blipFill>
        <p:spPr>
          <a:xfrm>
            <a:off x="3059280" y="4575240"/>
            <a:ext cx="3384360" cy="2176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3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99680" y="188640"/>
            <a:ext cx="864396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знакомить учащихся с организацией рабочего места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для выполнения влажно-тепловых работ;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учить терминологии,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именяемой при выполнении утюжильных работ,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авилам техники безопасности;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формировать навыки по организации рабочего места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для выполнения утюжильных работ;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оспитывать аккуратность и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нимательность во время работы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strips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68000" y="2060640"/>
            <a:ext cx="867564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орудова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бн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бочая тетрад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акат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разцы утюжильных работ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тюжильная доск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тю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hecke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7918560" cy="59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ХОД     УРО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1. Организация урок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верка готовности учащихся к уроку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2.Повторение пройденного материа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3.Изучение нового материа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4. Закрепление пройденного материа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5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500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56760" y="428760"/>
            <a:ext cx="8286840" cy="5643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) Что называют стежк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) Что называют строчкой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) Какие вы знаете названия ручных стежков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) Назовите стежки временного назначения и постоянн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) Что значит сметат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9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" dur="5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5" dur="500"/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9" dur="500"/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25056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) Что значит заметать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) Что значит пришит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) Какие требования предъявляют к выполнению ручных работ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2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0" y="189000"/>
            <a:ext cx="9144000" cy="6240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547560" indent="-1998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3.Изуч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се строчки и швы, что мы с вами выполняем, обязательно должны пройти влажно-тепловую обработку, и влажно-тепловая обработка имеет большое значение при изготовлении одежды. От этих работ зависит внешний вид и качество швейных изделий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285840" y="1000080"/>
            <a:ext cx="8858160" cy="5857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бочее место для влажно-тепловых работ надо организовать так, чтобы удобно было работать, соблюдая при этом санитарно-гигиенические требования и правила техники безопасно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1:16:27Z</dcterms:created>
  <dc:creator>Татьяна Куликова</dc:creator>
  <dc:description/>
  <dc:language>en-US</dc:language>
  <cp:lastModifiedBy>работа</cp:lastModifiedBy>
  <dcterms:modified xsi:type="dcterms:W3CDTF">2012-09-10T12:29:44Z</dcterms:modified>
  <cp:revision>21</cp:revision>
  <dc:subject/>
  <dc:title> Уроки 5-6. ВЛАЖНО-ТЕПЛОВЫЕ РАБОТЫ.ТЕРМИНОЛОГИЯ</dc:title>
</cp:coreProperties>
</file>