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E0-888F-4F09-A61B-6579C293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E47-4F95-4EDC-810E-0DAC777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3A6-E462-4A85-8647-60814282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1ED-B126-4AC8-9C58-E1B1E3F0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0EA-09F5-428A-BBC0-C770F87D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521-A6CC-4E90-9B3C-47123CC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33F9-967D-433A-B2F7-B1C40F2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97B-02C8-4B73-B659-176D471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283-02CC-43DE-A22F-5F93862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B2A0-5916-4308-A9E8-8D8C7BD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4A32-38A1-4DC4-BBE2-B9AFCEF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F4A-2896-448A-9E08-926265F3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275-544A-4927-AF96-FBE0594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36C1-17C9-4122-BE5E-D164C58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CFF-0F89-44F9-8BCF-7C364B2F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D88-5C1F-4D97-BE55-F04C01E9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0312-396B-4E6B-9935-5AC9BE5E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D9C-AAC7-4E1C-8541-34F2F653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38E-48DD-4709-A56F-2A9EAE7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BA-CE97-491F-87A6-C2D63EB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871-289E-4E86-88CF-8739B870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376-D021-4ACC-B371-AFDD2A3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260-C4EC-4122-90A8-4FFCF85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8EF-5372-4851-ACEC-B93B3C1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9B1-8CF5-4F7C-A60E-A7BF14E9D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99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B811-0B15-4544-9A2B-27ECA085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Arial Black"/>
              </a:rPr>
              <a:t>Волшебная монотипия</a:t>
            </a:r>
            <a:endParaRPr b="1" lang="en-US" sz="7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563640" y="4581000"/>
            <a:ext cx="50720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опыта работы Корсаковой М.Г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я начальных клас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Цивильская СОШ №2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Фактурная монотипия (эстамп)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45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ить аппликацию на картоне из крупных четких силуэтов и покрасить черной гуашью. Наложить сверху влажный лист бумаги и плотно прижать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619360" cy="3409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3889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Монотипия ручная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стам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222800" cy="305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2808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Работы учащихся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311280" cy="2619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240000" cy="257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43280" y="4076640"/>
            <a:ext cx="3289320" cy="2389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588000" y="4149720"/>
            <a:ext cx="1689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Работы учащихся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64" name="1321_1_125-001-1" descr="Назимова Женя 10л."/>
          <p:cNvPicPr/>
          <p:nvPr/>
        </p:nvPicPr>
        <p:blipFill>
          <a:blip r:embed="rId1"/>
          <a:stretch/>
        </p:blipFill>
        <p:spPr>
          <a:xfrm>
            <a:off x="826920" y="148428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165" name="2836_1_126-026-1" descr="Миронова Лена 12л."/>
          <p:cNvPicPr/>
          <p:nvPr/>
        </p:nvPicPr>
        <p:blipFill>
          <a:blip r:embed="rId2"/>
          <a:stretch/>
        </p:blipFill>
        <p:spPr>
          <a:xfrm flipH="1">
            <a:off x="6372360" y="1483560"/>
            <a:ext cx="1906560" cy="1382760"/>
          </a:xfrm>
          <a:prstGeom prst="rect">
            <a:avLst/>
          </a:prstGeom>
          <a:ln w="0">
            <a:noFill/>
          </a:ln>
        </p:spPr>
      </p:pic>
      <p:pic>
        <p:nvPicPr>
          <p:cNvPr id="166" name="2840_1_126-030-1" descr="Цветкова Оля 10л."/>
          <p:cNvPicPr/>
          <p:nvPr/>
        </p:nvPicPr>
        <p:blipFill>
          <a:blip r:embed="rId3"/>
          <a:stretch/>
        </p:blipFill>
        <p:spPr>
          <a:xfrm>
            <a:off x="5219640" y="51577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67" name="1335_1_125-014-1" descr="Корчагина Оля 14л."/>
          <p:cNvPicPr/>
          <p:nvPr/>
        </p:nvPicPr>
        <p:blipFill>
          <a:blip r:embed="rId4"/>
          <a:stretch/>
        </p:blipFill>
        <p:spPr>
          <a:xfrm>
            <a:off x="6227640" y="3284640"/>
            <a:ext cx="1908360" cy="1603440"/>
          </a:xfrm>
          <a:prstGeom prst="rect">
            <a:avLst/>
          </a:prstGeom>
          <a:ln w="0">
            <a:noFill/>
          </a:ln>
        </p:spPr>
      </p:pic>
      <p:pic>
        <p:nvPicPr>
          <p:cNvPr id="168" name="3057_1_125-019-1" descr="Миронова Лена 12л."/>
          <p:cNvPicPr/>
          <p:nvPr/>
        </p:nvPicPr>
        <p:blipFill>
          <a:blip r:embed="rId5"/>
          <a:stretch/>
        </p:blipFill>
        <p:spPr>
          <a:xfrm>
            <a:off x="1042920" y="3357720"/>
            <a:ext cx="1889280" cy="1606320"/>
          </a:xfrm>
          <a:prstGeom prst="rect">
            <a:avLst/>
          </a:prstGeom>
          <a:ln w="0">
            <a:noFill/>
          </a:ln>
        </p:spPr>
      </p:pic>
      <p:pic>
        <p:nvPicPr>
          <p:cNvPr id="169" name="4005_1_126-032-1" descr="Красненкова Аня 13л."/>
          <p:cNvPicPr/>
          <p:nvPr/>
        </p:nvPicPr>
        <p:blipFill>
          <a:blip r:embed="rId6"/>
          <a:stretch/>
        </p:blipFill>
        <p:spPr>
          <a:xfrm>
            <a:off x="3564000" y="1484280"/>
            <a:ext cx="1979640" cy="1416240"/>
          </a:xfrm>
          <a:prstGeom prst="rect">
            <a:avLst/>
          </a:prstGeom>
          <a:ln w="0">
            <a:noFill/>
          </a:ln>
        </p:spPr>
      </p:pic>
      <p:pic>
        <p:nvPicPr>
          <p:cNvPr id="170" name="4007_1_126-034-1" descr="Кулиев Тимур 7л."/>
          <p:cNvPicPr/>
          <p:nvPr/>
        </p:nvPicPr>
        <p:blipFill>
          <a:blip r:embed="rId7"/>
          <a:stretch/>
        </p:blipFill>
        <p:spPr>
          <a:xfrm>
            <a:off x="2556000" y="5157720"/>
            <a:ext cx="1904760" cy="1457280"/>
          </a:xfrm>
          <a:prstGeom prst="rect">
            <a:avLst/>
          </a:prstGeom>
          <a:ln w="0">
            <a:noFill/>
          </a:ln>
        </p:spPr>
      </p:pic>
      <p:pic>
        <p:nvPicPr>
          <p:cNvPr id="171" name="1334_1_125-013-1" descr="Давтян Ануш 9л."/>
          <p:cNvPicPr/>
          <p:nvPr/>
        </p:nvPicPr>
        <p:blipFill>
          <a:blip r:embed="rId8"/>
          <a:stretch/>
        </p:blipFill>
        <p:spPr>
          <a:xfrm>
            <a:off x="3635280" y="3429000"/>
            <a:ext cx="19764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Монотипия и другие приемы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978280" cy="439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0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Работы художников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71560" y="1268280"/>
            <a:ext cx="2286000" cy="2810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332000" y="4292640"/>
            <a:ext cx="3565440" cy="2311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64000" y="4292640"/>
            <a:ext cx="2482920" cy="2270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365880" y="1268280"/>
            <a:ext cx="20494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ка монотипия способствует развитию мелкой моторики руки, развитию воображения, творческого мышления и фантазии. Данная технология развивает свободу и спонтанность взаимодействия с художественными материалами. А также у детей развивается устойчивая мотивация к художественным изобразительным занятиям. Возможно, кто-то из них вскоре сам изобретет новую технологию. Ведь нет границ творческой фантазии и полету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«Творчество не приходит по какому-то наитию… Творчеству надо учить».</a:t>
            </a:r>
            <a:br>
              <a:rPr sz="6000"/>
            </a:b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 В. А. Сухомлинский.</a:t>
            </a:r>
            <a:endParaRPr b="1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Цель и задачи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знакомить учащихся с новой техникой живописи – «монотипие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епить, развить творческие способности учащих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ивать наблюдательность и фантаз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епить навыки работы с гуаш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9311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Что такое монотипия?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живописи очень много техник: мозаика, по-сырому (на мокрой бумаге), лессировка (плавный переход цвета), монотипия и друг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– это оттиск со стекла, на которое нанесены краски. «Моно» - один, «типия» - отпеча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типия произошла от гравю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ую технику можно использовать в изображении животных, портретов, натюрмортов, в иллюстрации к сказк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Необходимые материалы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уашевые краски, толстое стекло с закругленными краями (для безопасности), можно также использовать лист пластика или бумаги, кисти, в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683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Этапы работы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4278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Исполнить живописное изображение на стекле, пластике или бумаге гуаш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Увлажнить бума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25318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915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тап. Наложить сверху влажный лист бумаги и прогладить ладонью или комком тряпки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38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товая работа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жно оформить рамк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901960" cy="3958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3260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4103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Разновидности монотипии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еркальная монотипия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908080" cy="388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38052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7:05:17Z</dcterms:created>
  <dc:creator>Сварог</dc:creator>
  <dc:description/>
  <dc:language>en-US</dc:language>
  <cp:lastModifiedBy>Admin</cp:lastModifiedBy>
  <dcterms:modified xsi:type="dcterms:W3CDTF">2012-11-14T14:11:48Z</dcterms:modified>
  <cp:revision>11</cp:revision>
  <dc:subject/>
  <dc:title>Волшебная            монотипия</dc:title>
</cp:coreProperties>
</file>