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5B8-EEDA-4701-B99E-62AD99D3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7C70-9AAD-4818-B59C-B4DA2346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957F-C40E-4BE4-9374-B1789671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492-14E7-48D4-AB6C-CB155490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1030-6C26-4846-BEA1-4C692DBC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4822-0AC5-4197-9C54-EA11A6C5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1932-4395-4735-BBB3-3B5D8534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719C-5E53-4407-AD11-F0FF3F87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B8AA-65A3-494B-948D-F7D593FE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E470-C7BD-457F-A6DE-AADD8104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FAA2-AFA5-4CFC-A0C2-94B3A1C9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B5F-94D7-40B4-BF27-26D0C2B9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3BE6-7CB7-43FC-9961-DA8D45E0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7FB0-8D8F-4EA2-A277-084771FA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E41D-4960-48AE-B9E0-DA1187B7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E0E4-0E80-40D2-BE91-2F95A3B1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5725-2D82-4737-846A-BF7D5C9D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965C-3EB1-4BCA-8732-51F7055C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282-1FDC-48E8-8229-333E7EDD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21B-4C85-4452-9A7C-E94692A8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61B9-BC17-4331-98CC-8435F4A1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FB9-52E3-40BE-ADB5-08F4F1E3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340-2664-4FBD-ABAA-0366369A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308-305B-4F90-8B0E-43AB5467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CA3C-19B3-4CB6-9834-A55FFED0F8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BAF4-83DE-46DF-A24C-55312AD05C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роб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6" descr="Воробей домовый"/>
          <p:cNvPicPr/>
          <p:nvPr/>
        </p:nvPicPr>
        <p:blipFill>
          <a:blip r:embed="rId1"/>
          <a:stretch/>
        </p:blipFill>
        <p:spPr>
          <a:xfrm>
            <a:off x="922320" y="1494000"/>
            <a:ext cx="7302600" cy="42670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"/>
          <p:cNvSpPr/>
          <p:nvPr/>
        </p:nvSpPr>
        <p:spPr>
          <a:xfrm>
            <a:off x="987840" y="5791320"/>
            <a:ext cx="4615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еница 2 класса МБОУ «Большекалмыкская СОШ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еевского района Тульской области Петрова В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итель: Залевская Т.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010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нешний ви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раска самца воробья серенькая, с тёмными пятнами на спине, на шейке - чёрное пятно. Самочки почти одноцветные - серовато-бурые, без ярких тонов и пятен. Услышав слово "воробей", многие считают, что речь может пойти о птичке, которую каждый видит около своего жилья. Но существует и иной вид воробья - полевой. На улицах городов он встречается редко, иногда лишь в парках или садах со старыми деревь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vorobejj"/>
          <p:cNvPicPr/>
          <p:nvPr/>
        </p:nvPicPr>
        <p:blipFill>
          <a:blip r:embed="rId1"/>
          <a:stretch/>
        </p:blipFill>
        <p:spPr>
          <a:xfrm>
            <a:off x="304920" y="16002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вад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30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м известны эти дерзкие, смелые и умные птички, благополучно живущие даже в шумных, многолюдных городах. Приближение весны мы привыкли отмечать по поведению воробьёв. Стоит поярче засветить и пригревать солнцу, как на крышах и возле оттаявших луж, на деревьях городских бульваров начинают громко чирикать весёлые воробьи. Они радуются солнцу, приходу весны. Сколько задора в их громком чирикань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Воробушек"/>
          <p:cNvPicPr/>
          <p:nvPr/>
        </p:nvPicPr>
        <p:blipFill>
          <a:blip r:embed="rId1"/>
          <a:stretch/>
        </p:blipFill>
        <p:spPr>
          <a:xfrm>
            <a:off x="4900680" y="1676520"/>
            <a:ext cx="393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тенц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робьи приносят в будущее гнездо множество соломы, сена, растительности, бумаги, тряпья, шерсти животных. Они делают из него округлое, небрежное "воробьиное" гнездо с мягкой выстилкой из перь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ка обычно откладывает 5-6 яиц, которые одинаково усердно насиживают оба родителя. Птенцов родители выкармливают в основном насекомыми, которыми питаются и сами. Кроме того, они питаются различными семенами и фрукт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7" descr="Изображение 680"/>
          <p:cNvPicPr/>
          <p:nvPr/>
        </p:nvPicPr>
        <p:blipFill>
          <a:blip r:embed="rId1"/>
          <a:stretch/>
        </p:blipFill>
        <p:spPr>
          <a:xfrm>
            <a:off x="838080" y="2631960"/>
            <a:ext cx="39308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нтересные фак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тенцов он выводит дважды, а в некоторых местах трижды в го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вуки, издаваемые воробьем, его веселое чириканье известны всем, но петь он не мож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воробьи уж слишком опустошают сады, приходится прогонять их выстрелами, но вообще эта птица мало пуглива, и отлично умеет отличать настоящую опасность от кажущей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всякая насекомоядная птица, воробей может считаться желанным соседом наших колхозных, совхозных и иных селе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 время созревания ягод, плодов и хлеба на полях воробьи могут стать прямо вредными птицами, приносящими большие убытки нашему хозяйству. Они расклеивают и портят ягоды и плоды, поедают хлебные зер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sung</cp:lastModifiedBy>
  <dcterms:modified xsi:type="dcterms:W3CDTF">2012-11-13T09:40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